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1CF-966C-423B-AA13-6445D24F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247-5AAA-48AD-A061-33C2AF8B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616-63DB-4EE8-B888-A25B21BA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F05-7F8F-4465-A436-DA710167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DBD0-BB06-45EF-8E52-2E49CF0A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F0DB-1FC3-4AEF-B6D8-3A2E04A5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1F87-F519-4598-A042-651048DE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A96B-32AB-42F3-8F95-54FDDF50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D087-C3CB-41EC-8F65-9D16A255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C408-B589-4FDF-B4C2-10B81344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A5DA-94DB-4C86-895B-D7EC4E31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FFD-F04B-402E-AB8C-D9819685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CB20-55BD-4110-A363-A89A77E5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E299-1897-433F-B5C1-934BAD0E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0D9C-970E-4154-9076-83446BA8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BD00-41F6-4CFC-ADF0-9F82C9D4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3D1D-3D62-44E7-9F6F-01AFF7F2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4252-0AF4-47FF-AF87-29E36F8F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DB352-356B-49E8-8B64-4C14E429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A6F5-4E34-420F-9C4B-4BC1E310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22C5-4B77-4AF3-B2F3-12F983B7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B34C5-F0C7-49B8-9055-EA1A79C4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722-0A6A-4AB5-9C13-05980EA9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1E5C-1D67-4957-9E42-59099EFB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D5791-14A6-4E38-88D8-94A769BF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9F8D-249D-4B97-B311-358FE94D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FF7C-EBA5-43F5-99DC-DE5BAF9A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2F5D-AEDA-4CFD-836B-18BE1A22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9002-17A0-4CCB-9AF0-C2A0EC10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F56AE-FE56-4965-A49B-79BA5812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42E10-8E7A-42D0-82A5-7D64A57D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EFDD-558C-424C-B98B-C2D362C4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94DD-F1A9-496A-A3B9-2A069C5E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D33-E5A6-4FCA-A9B9-5CC23D3D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BDDD8-4695-4F61-A41E-DAAEC654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EF89-D200-4825-99A1-70AC5AA0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A93FA-8BD1-459F-82FB-97D19141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E7EB-6FBC-4069-9D84-FCA75D65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BFE1-B1B1-4C7B-91B8-AAD8EBAD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7503F-F16F-4DCA-81B5-0A15ABA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68CF4-8902-4830-9A44-22FF71B9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DD124-0E51-488F-8224-9CA9BA10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5CCA3-4F79-4516-988B-7F8E7A85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BDE-BA73-4002-9D0A-E22195BB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743-E5D6-47D3-897E-1CD87472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325-4326-4B78-870C-B896E10D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66D-79B1-4323-BACD-444F140E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209-C15E-4BDD-B50A-2F23A85C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28CE-85D4-4F92-8EF8-75B1AE0271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6939-0715-4B2D-87A7-86E861FB11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2414-D96B-4D5F-8473-2407BC4F364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5C10-1264-412A-B643-789AC0F65CD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50920" y="260280"/>
          <a:ext cx="8713800" cy="6427800"/>
        </p:xfrm>
        <a:graphic>
          <a:graphicData uri="http://schemas.openxmlformats.org/drawingml/2006/table">
            <a:tbl>
              <a:tblPr/>
              <a:tblGrid>
                <a:gridCol w="4608360"/>
                <a:gridCol w="4105440"/>
              </a:tblGrid>
              <a:tr h="72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nage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li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chante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anse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joue au</a:t>
                      </a:r>
                      <a:br>
                        <a:rPr sz="5400"/>
                      </a:b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football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ès bien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en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l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300720" y="3716280"/>
            <a:ext cx="863640" cy="812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588000" y="2637000"/>
            <a:ext cx="863640" cy="744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8136000" y="1628640"/>
            <a:ext cx="1008000" cy="63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728640" cy="79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324000" y="1484280"/>
            <a:ext cx="792000" cy="785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539640" y="2565360"/>
            <a:ext cx="500040" cy="79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468360" y="3716280"/>
            <a:ext cx="590400" cy="79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395280" y="4869000"/>
            <a:ext cx="7920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3-27T12:18:34Z</dcterms:modified>
  <cp:revision>26</cp:revision>
  <dc:subject/>
  <dc:title>Slide 1</dc:title>
</cp:coreProperties>
</file>