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1BD-9E3E-4082-809B-B70DE978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2386-A68C-46AC-BCDF-44B68045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09CB-B73B-4B6B-8AEE-A2EDF455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0A8A-A633-4DEF-A2D2-DE699026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5B94-A141-4263-A708-22F06C13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62BB-6684-4211-9935-D31FA918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0004-B54D-498F-A82A-16C50A55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8D03-D809-40D2-B69A-07FFEF20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933D-E3D7-414F-A531-428FD1D2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C1E4-019C-4116-BE3C-F5F0DE3A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1B1A-8B77-4561-BDE2-80F03609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751-4FF8-4247-9DFE-2BDD7B84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BDBD-CBDF-4E98-8D8B-E45FD565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F082-B2E0-4CB6-8484-C7B22BE1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A5C9-3A07-470D-ABB0-0E2CAAAA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25A3-47EB-4E33-9763-0E37B4D4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2889-A6FD-46F9-A05D-C5C3CDE2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65EAB-52A0-4600-B630-3AF80DC3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2862A-D2A2-4620-B329-BE79665B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03453-2E85-4785-AF76-5D51694C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4E42E-C888-4E02-B204-B3024A9D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F11DB-2C2F-4C46-9D02-A400D38F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13E-EB54-4AF5-A4A7-973B25C0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C7009-B3F9-4060-B567-0FFA9A57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3A706-8C93-4F75-BCEA-6B623421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1BD12-3915-4057-BA0B-84C0C31E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7F617-3E6C-43B9-91E0-E75698A2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F4E3-C97F-433C-AB58-03120C6E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2D0CB-EFDC-452D-AA8A-84AB0CA0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AE3A7-B029-47C3-AA5E-79F4A301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F0424-8D81-4EA2-9A05-33612D9F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A61A9-EE5C-41FF-B2AB-7115D213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375E8-49BE-4F94-942A-6732878E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1E0-BAE0-4021-8A34-132C6D56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A80E8-C077-4B58-8C89-BA457F36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8951A-81CA-4677-A463-EB8BA75F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3003A-B250-41B2-877B-42901165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3A493-7578-4EC4-900C-6D2257F1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9D088-9CAC-484F-B569-CE048184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59403-11B1-4ACA-B472-23ED49FE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AA401-B1A7-4A00-995F-D60DE7E7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56398-9AF8-4F3E-A11C-7BFB46B1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61FCE-ADC7-4605-95CF-9810035C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589-CBB5-4EDD-9B18-99F305AF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FCC-E3BC-4B4F-B4C4-67428BE3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638-D85A-4DCC-A148-C950A980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ED6-785D-47EF-BE36-6B3657DA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CA22-D856-4D11-A922-1F94D2BE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2B76-52A8-4670-B082-E0C93BEF90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4905-0826-44BB-BDF1-1292BD6739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FCCA-A836-41E4-B6FB-9456A9F5C15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C4EF-82E4-40FB-8504-9827545F943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50920" y="260280"/>
          <a:ext cx="8713800" cy="6427800"/>
        </p:xfrm>
        <a:graphic>
          <a:graphicData uri="http://schemas.openxmlformats.org/drawingml/2006/table">
            <a:tbl>
              <a:tblPr/>
              <a:tblGrid>
                <a:gridCol w="4608360"/>
                <a:gridCol w="4105440"/>
              </a:tblGrid>
              <a:tr h="72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nage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li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chante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danse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joue au</a:t>
                      </a:r>
                      <a:br>
                        <a:rPr sz="5400"/>
                      </a:b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football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ès bien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en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l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300720" y="3716280"/>
            <a:ext cx="863640" cy="812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588000" y="2637000"/>
            <a:ext cx="863640" cy="744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8136000" y="1628640"/>
            <a:ext cx="1008000" cy="630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95280" y="404640"/>
            <a:ext cx="728640" cy="792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324000" y="1484280"/>
            <a:ext cx="792000" cy="785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539640" y="2565360"/>
            <a:ext cx="500040" cy="792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468360" y="3716280"/>
            <a:ext cx="590400" cy="793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395280" y="4869000"/>
            <a:ext cx="7920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3-03-27T12:18:34Z</dcterms:modified>
  <cp:revision>26</cp:revision>
  <dc:subject/>
  <dc:title>Slide 1</dc:title>
</cp:coreProperties>
</file>