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D57-3F61-43CC-A977-560373D3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46F-D0A2-4BC1-B5E0-DEA9E297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90A-E8AC-4BF1-88CC-45FB9FA8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3C4-531C-467C-AD56-C4427FC2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386-7B33-42BB-AF8B-38DD6E30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F59-D31A-4779-9F3C-99D17E0B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ECA-A27F-41EE-9DCA-64008FA9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846-1C3F-458E-8AFF-64388F7A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003-0430-4B04-9A91-555DBC97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ED3-F837-4AE4-9ABF-A3EFC9BF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EBA-F2B4-47CC-BDAF-B995FC55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A15-3BE6-4DE5-9765-1CAB7A6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F6B8-119F-4C4B-9FB7-926D3C515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0"/>
            <a:ext cx="748836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Comic Sans MS"/>
              </a:rPr>
              <a:t>l'Alphabet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08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46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08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908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46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1341360"/>
            <a:ext cx="158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08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6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341360"/>
            <a:ext cx="151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08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46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6364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1341360"/>
            <a:ext cx="1512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134136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2360" y="1341360"/>
            <a:ext cx="143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20720" y="0"/>
            <a:ext cx="224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808080"/>
                </a:solidFill>
                <a:latin typeface="Comic Sans MS"/>
              </a:rPr>
              <a:t>l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0"/>
            <a:ext cx="37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808080"/>
                </a:solidFill>
                <a:latin typeface="Comic Sans MS"/>
              </a:rPr>
              <a:t>troi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557360"/>
            <a:ext cx="71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808080"/>
                </a:solidFill>
                <a:latin typeface="Comic Sans MS"/>
              </a:rPr>
              <a:t>dernièr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6000" y="2924280"/>
            <a:ext cx="521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808080"/>
                </a:solidFill>
                <a:latin typeface="Comic Sans MS"/>
              </a:rPr>
              <a:t>lettr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2924280"/>
            <a:ext cx="338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808080"/>
                </a:solidFill>
                <a:latin typeface="Comic Sans MS"/>
              </a:rPr>
              <a:t>son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479840"/>
            <a:ext cx="2017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x,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95760" y="4479840"/>
            <a:ext cx="129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937040"/>
            <a:ext cx="216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808080"/>
                </a:solidFill>
                <a:latin typeface="Comic Sans MS"/>
              </a:rPr>
              <a:t>e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447984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808080"/>
                </a:solidFill>
                <a:latin typeface="Comic Sans MS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0"/>
            <a:ext cx="224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66"/>
                </a:solidFill>
                <a:latin typeface="Comic Sans MS"/>
              </a:rPr>
              <a:t>l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40360" y="0"/>
            <a:ext cx="37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66"/>
                </a:solidFill>
                <a:latin typeface="Comic Sans MS"/>
              </a:rPr>
              <a:t>troi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1557360"/>
            <a:ext cx="71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66"/>
                </a:solidFill>
                <a:latin typeface="Comic Sans MS"/>
              </a:rPr>
              <a:t>dernièr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2924280"/>
            <a:ext cx="521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66"/>
                </a:solidFill>
                <a:latin typeface="Comic Sans MS"/>
              </a:rPr>
              <a:t>lettr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2924280"/>
            <a:ext cx="338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66"/>
                </a:solidFill>
                <a:latin typeface="Comic Sans MS"/>
              </a:rPr>
              <a:t>son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479840"/>
            <a:ext cx="2017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x,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447984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4937040"/>
            <a:ext cx="216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66"/>
                </a:solidFill>
                <a:latin typeface="Comic Sans MS"/>
              </a:rPr>
              <a:t>e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4479840"/>
            <a:ext cx="129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66"/>
                </a:solidFill>
                <a:latin typeface="Comic Sans MS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3:23:35Z</dcterms:created>
  <dc:creator>Clare</dc:creator>
  <dc:description/>
  <dc:language>en-US</dc:language>
  <cp:lastModifiedBy>Clare</cp:lastModifiedBy>
  <dcterms:modified xsi:type="dcterms:W3CDTF">2008-05-30T14:09:48Z</dcterms:modified>
  <cp:revision>9</cp:revision>
  <dc:subject/>
  <dc:title>Slide 1</dc:title>
</cp:coreProperties>
</file>