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F091-A3E8-4DBF-99A2-55FDF6EA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6450-6490-47F1-96FE-D13D1853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5792-1D95-4C5A-943F-8110A064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91FF-4257-4178-887B-9FB3ED02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5A28-BDA5-4970-B83A-7B29FED7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D1F2-70A8-43FE-966E-D8ADE059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839F-663B-4BFC-8927-76C66936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2CFA-CC24-4F60-B58B-7FCFADD9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C260-FF11-4A65-B1A9-6CC78A9C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08BD-0080-42F3-8A84-50A87DA2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911A-EA9F-4FC3-9C90-AB44AEEE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3699-B0B3-45F6-B859-36249F51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950D-193D-4D2A-A432-288E2D455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0"/>
            <a:ext cx="7488360" cy="659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Comic Sans MS"/>
              </a:rPr>
              <a:t>l'Alphabet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2692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080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4680" y="1341360"/>
            <a:ext cx="129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16360" y="1341360"/>
            <a:ext cx="129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3236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2000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9080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4680" y="1341360"/>
            <a:ext cx="129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2000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1341360"/>
            <a:ext cx="129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3236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2000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2692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9080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j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54680" y="1341360"/>
            <a:ext cx="129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000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16360" y="1341360"/>
            <a:ext cx="129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j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236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26920" y="1341360"/>
            <a:ext cx="158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9080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54680" y="1341360"/>
            <a:ext cx="129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2000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1341360"/>
            <a:ext cx="1513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16360" y="1341360"/>
            <a:ext cx="129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3236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000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692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q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9080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54680" y="1341360"/>
            <a:ext cx="129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2000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q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16360" y="1341360"/>
            <a:ext cx="129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3236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6364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1341360"/>
            <a:ext cx="129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72360" y="1341360"/>
            <a:ext cx="1512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6364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1341360"/>
            <a:ext cx="129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72360" y="1341360"/>
            <a:ext cx="143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20720" y="0"/>
            <a:ext cx="224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808080"/>
                </a:solidFill>
                <a:latin typeface="Comic Sans MS"/>
              </a:rPr>
              <a:t>le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0"/>
            <a:ext cx="378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808080"/>
                </a:solidFill>
                <a:latin typeface="Comic Sans MS"/>
              </a:rPr>
              <a:t>troi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1557360"/>
            <a:ext cx="71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808080"/>
                </a:solidFill>
                <a:latin typeface="Comic Sans MS"/>
              </a:rPr>
              <a:t>dernière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6000" y="2924280"/>
            <a:ext cx="521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808080"/>
                </a:solidFill>
                <a:latin typeface="Comic Sans MS"/>
              </a:rPr>
              <a:t>lettre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80000" y="2924280"/>
            <a:ext cx="338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808080"/>
                </a:solidFill>
                <a:latin typeface="Comic Sans MS"/>
              </a:rPr>
              <a:t>sont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4479840"/>
            <a:ext cx="2017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x,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95760" y="4479840"/>
            <a:ext cx="129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3280" y="4937040"/>
            <a:ext cx="216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808080"/>
                </a:solidFill>
                <a:latin typeface="Comic Sans MS"/>
              </a:rPr>
              <a:t>et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08720" y="447984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z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9280" y="0"/>
            <a:ext cx="2249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66"/>
                </a:solidFill>
                <a:latin typeface="Comic Sans MS"/>
              </a:rPr>
              <a:t>le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40360" y="0"/>
            <a:ext cx="378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66"/>
                </a:solidFill>
                <a:latin typeface="Comic Sans MS"/>
              </a:rPr>
              <a:t>troi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1557360"/>
            <a:ext cx="71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66"/>
                </a:solidFill>
                <a:latin typeface="Comic Sans MS"/>
              </a:rPr>
              <a:t>dernière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2924280"/>
            <a:ext cx="521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66"/>
                </a:solidFill>
                <a:latin typeface="Comic Sans MS"/>
              </a:rPr>
              <a:t>lettre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80000" y="2924280"/>
            <a:ext cx="338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66"/>
                </a:solidFill>
                <a:latin typeface="Comic Sans MS"/>
              </a:rPr>
              <a:t>sont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4479840"/>
            <a:ext cx="2017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x,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43280" y="447984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3280" y="4937040"/>
            <a:ext cx="216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66"/>
                </a:solidFill>
                <a:latin typeface="Comic Sans MS"/>
              </a:rPr>
              <a:t>et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447984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z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3:23:35Z</dcterms:created>
  <dc:creator>Clare</dc:creator>
  <dc:description/>
  <dc:language>en-US</dc:language>
  <cp:lastModifiedBy>Clare</cp:lastModifiedBy>
  <dcterms:modified xsi:type="dcterms:W3CDTF">2008-05-30T14:09:48Z</dcterms:modified>
  <cp:revision>9</cp:revision>
  <dc:subject/>
  <dc:title>Slide 1</dc:title>
</cp:coreProperties>
</file>