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02C-A45D-4D9A-8341-D736F658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ED40-60CE-441F-BFE3-754836E3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7C9-9AA0-467F-BA05-8B0627A6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C9D-90AC-4B9C-9A7E-4D78997E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54BD-DC70-49DE-B1FA-371EF3CF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1F1B-7669-4C2F-8E67-58DF8F82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1970-6AA4-4FD7-84F7-8FF0FDD2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04F9-CA88-43DA-B7EA-5272E63C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FD91-AE54-4BD8-9B4F-AC625C9D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4778-A348-467F-8884-5C690A70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A071-9D48-4CF9-BB52-51BBDEB0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154-A901-4538-8F04-A62B01CB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E9A6-6608-40F1-ACAA-FB4E21E3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D990-7449-49EE-AE62-3751D94F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47BF-CC18-473C-A5B4-505374BA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9304-EDF5-4082-AFF5-8473EB39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9FA2-AB04-42A2-BF57-D7AF28AF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2CC24-3D5E-4851-843D-122D2928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73A56-0140-4FBC-98D7-8B804FBB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DDEE-1A58-4C5C-8086-FE5F30DB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84A30-5869-4894-A113-A2A466E9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43DDA-67B2-460C-9852-E15366FF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65A-381D-4003-B35A-A7B9B555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2A297-DC75-47D1-ABF1-E3A212F0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0E12C-4947-4BB8-938D-C5184D1C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2CBDC-E0E3-4E5D-9CF4-F9E4DAFA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9369D-2B40-4482-933F-E610323F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433CC-565E-40FA-8F02-D969AE05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1A474-3D18-4D28-AE27-30CB8D13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5241D-B014-402B-A5DD-FBA84DA2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F3203-E5C2-4313-B7AC-A441F4CB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017BF-7B77-483D-841B-999FA9A6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E278C-7099-4180-AD64-ED01CD62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CCE-0545-44B4-BADD-858E81DC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3D565-EC99-45DE-9591-685DFAE1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AC387-81FD-46F7-A5FB-1D724D46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4D988-F969-4E87-B497-2C77294E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798FA-9E7F-4431-820B-412667A6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760E7-A144-4C7D-83F6-EBC66A64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51A45-A996-4E45-806C-B7C482BB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5C27A-E262-4FA1-B12E-09910D1E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C47B7-D58E-4CBB-AE44-7CC20781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0C679-D092-4457-8CEE-7BF9D6F1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C53-EA1F-4872-B2C8-01C1EA96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CFE-0C7B-413B-961E-F6396172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1B2-1722-4D55-B36F-5CC7851E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CCA-4752-4098-AE20-009C8545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1B4-AD13-4236-A175-579E1310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363A-8536-4746-935E-9518B114E1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C904-5C6C-420D-AB5C-916D67CBD2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2AD9-BA96-471A-B4D8-BF4B24B726A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B8C5-C8C1-42EA-8863-D0A83C6E843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1341360"/>
            <a:ext cx="8496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ffffff"/>
                </a:solidFill>
                <a:latin typeface="Comic Sans MS"/>
              </a:rPr>
              <a:t>Comment t’appelles-tu ?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745080" cy="280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156360" y="3860640"/>
            <a:ext cx="2771640" cy="27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4"/>
          <a:srcRect l="0" t="0" r="12158" b="0"/>
          <a:stretch/>
        </p:blipFill>
        <p:spPr>
          <a:xfrm>
            <a:off x="2556000" y="3830760"/>
            <a:ext cx="3311280" cy="282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5"/>
          <a:srcRect l="6639" t="0" r="21728" b="0"/>
          <a:stretch/>
        </p:blipFill>
        <p:spPr>
          <a:xfrm>
            <a:off x="4211640" y="189000"/>
            <a:ext cx="3168720" cy="284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rcRect l="6639" t="0" r="21728" b="0"/>
          <a:stretch/>
        </p:blipFill>
        <p:spPr>
          <a:xfrm>
            <a:off x="2700360" y="414360"/>
            <a:ext cx="5904000" cy="5307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5975280" cy="597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556000" y="476280"/>
            <a:ext cx="6337080" cy="475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rcRect l="0" t="0" r="12158" b="0"/>
          <a:stretch/>
        </p:blipFill>
        <p:spPr>
          <a:xfrm>
            <a:off x="2556000" y="333360"/>
            <a:ext cx="6265800" cy="5349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10:24Z</dcterms:modified>
  <cp:revision>11</cp:revision>
  <dc:subject/>
  <dc:title>Slide 1</dc:title>
</cp:coreProperties>
</file>