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D0E-FC8A-486F-AFAC-2285F0B6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2DB-FA83-4E37-A83D-60543560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17D-5C4E-47AE-BE06-CB86FA54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1C1-8BB3-4C2C-9CE9-D6BBDABB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1B23-261A-4E0A-B011-E429D271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5B90-BB0B-472B-B304-97E8261D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C90A-5097-4056-B0AF-DA5761B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2821-64A3-4309-84A2-A644E8E0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8652-FC2C-4820-A1C2-199E5562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8728-0EDB-475D-956C-19480563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DDBF-7200-459D-A724-D5B4A8E1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1BB-6370-4924-A4AD-351724FE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601B-C4A6-4F4D-82DA-0FA560C9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A41F-2B7A-4F59-A957-102ABDDB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7CAB-2C42-4BB4-8338-91EC89A9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5508-D95C-4A0A-942A-AA8B6B2E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84CB-4EF7-4842-B53B-04DDD184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8115-9005-4E89-AA8F-B493482B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EDE85-DB21-41A8-BAE1-1E97976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D2A7-094C-4536-ADDF-53BCC675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BDE6-D015-4803-8B6F-AB15A13E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1E389-6DF5-4EB8-B2FC-70F7D72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434-4876-4E41-8294-19930DC9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4526-90DA-4F83-842C-D00CB055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40C9-3B06-451A-83F3-F0E5602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582B-B433-4E8D-B8B3-80A7895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64FA-86E9-462C-9663-E0C49B79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4EF0-603C-40D8-9F8D-6FAAA0E0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6257-9778-4BCD-B0E1-C04B6E3C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83E1-EAAC-40B3-9969-E4409708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F85E9-E65C-4FDC-B231-3940FDAB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5BD67-83E0-413D-A1CA-2FB89602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A4655-EA8E-46C8-A6B4-D38C6779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D36-392D-4D32-A968-318CB1F7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C059-BFB8-4A48-A4BC-E337232A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50398-6458-449C-A354-2EEF1E5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8A00-A929-4C6D-B6E0-31CC3E9F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3AF2-FF9E-415B-ADD8-F3B600D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3C364-B5CA-4CCF-8DF5-8949E9C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ECBB-2202-41D9-84DF-5F6FE3AB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B288-92AC-4EC0-A084-7890FA94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CCE3-8B86-4CB5-82EF-943828C6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3185-326B-43A9-8175-C3826F42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3F1-3F61-48A3-98B1-1B621BDF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37D-E1CD-4FA0-89E9-042FB9D9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113-6054-4080-B747-0412B1BF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CA9-F1C9-45DA-810A-BAF1AE2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5AD-FA50-4021-AE4C-77CE8A3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04B4-E58C-4040-AEBC-EB26CE99D5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1DAF-AC12-4EE0-B34B-1F66D0B582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A3CC-B900-4672-B95A-1601D2C036D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6C77-6D2C-4394-B9B3-3607852743B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341360"/>
            <a:ext cx="849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f"/>
                </a:solidFill>
                <a:latin typeface="Comic Sans MS"/>
              </a:rPr>
              <a:t>Comment t’appelles-tu ?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7450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3860640"/>
            <a:ext cx="2771640" cy="27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rcRect l="0" t="0" r="12158" b="0"/>
          <a:stretch/>
        </p:blipFill>
        <p:spPr>
          <a:xfrm>
            <a:off x="2556000" y="3830760"/>
            <a:ext cx="3311280" cy="282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5"/>
          <a:srcRect l="6639" t="0" r="21728" b="0"/>
          <a:stretch/>
        </p:blipFill>
        <p:spPr>
          <a:xfrm>
            <a:off x="4211640" y="189000"/>
            <a:ext cx="3168720" cy="284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rcRect l="6639" t="0" r="21728" b="0"/>
          <a:stretch/>
        </p:blipFill>
        <p:spPr>
          <a:xfrm>
            <a:off x="2700360" y="414360"/>
            <a:ext cx="5904000" cy="530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5975280" cy="597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56000" y="476280"/>
            <a:ext cx="6337080" cy="475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rcRect l="0" t="0" r="12158" b="0"/>
          <a:stretch/>
        </p:blipFill>
        <p:spPr>
          <a:xfrm>
            <a:off x="2556000" y="333360"/>
            <a:ext cx="6265800" cy="534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10:24Z</dcterms:modified>
  <cp:revision>11</cp:revision>
  <dc:subject/>
  <dc:title>Slide 1</dc:title>
</cp:coreProperties>
</file>