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EA1-A81B-425F-AE70-7E87A002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0EB-33B8-4C0C-A7C4-897DCFEB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39C-15F7-41BE-A20E-55A8EBE3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6E3-F710-4CEB-80FF-46E91B3F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5BD5-2864-46D5-8880-7D613F69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0000-8017-434D-A592-9ADCA5E4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F18-A1CB-43ED-B390-5A2911FB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29AD-5B00-452B-8C04-A27192B7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C9DE-A808-4040-87B1-738ACE8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0135-D53C-4162-BF0E-3F4A79B7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2F0A-BB7A-46D7-BAF2-C4D3293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4DA-8094-409B-8875-E6B22CD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B8E4-A3C3-47E3-ACD4-FD6A3EAC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A584-4EC8-49E1-9849-6AD8623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E89C-6CBA-4734-8B23-4740775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69D0-B210-45D4-A39B-1A5A1372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6393-AAD4-4A23-B253-00E04F4C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9814-7089-41A7-ADF8-71393007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C9875-266C-4218-AF8B-A7821945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A570-D84C-4960-A638-9AED2064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97E2-CBA3-457E-8522-6FB37B8C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6FF7-5BA8-4F5E-A81A-0CB6B9ED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0BC-FE0F-45B6-81E4-BDE6C0B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734B-BEE8-4515-B323-176012E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14B3-9A78-42E9-A746-93FEC60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9773-71E4-4641-861E-34F7416E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2180-0299-41C9-BCD3-704C7DE9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F6A6-A8E8-4A11-AEEA-DFCAD910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A74D-C7A6-4562-BC02-8D4F08B5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0E12-ADFF-446B-A220-2266D5D6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F311-1F8E-4CF1-A05D-191FA77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5F67-8E1C-4EA9-87FB-7318F195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5228-D38B-48EA-9DBD-F16CE4D2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7DB-55D6-453E-84C8-F4AA1E9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864B-F653-4CBC-B493-F78BC45A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85C5-3172-498F-B52F-A83EDBE3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821F-D205-43EF-92BE-F58B8D85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165E-F440-4CF0-A26B-A305C1E4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3F45-C4BB-4CFB-973F-02E6401F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6999-ECAD-475E-A158-00C5593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C642-F4D5-4AC7-AA6C-C575CAE8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FA4B-D69A-443E-AEBD-B1A96695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CCD78-8D39-4C95-9ACA-E45EDC9D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203-B7E1-4C19-8976-0E3C112B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44A-108B-477C-9F79-217EB2C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B13-2E1B-44DF-A8CD-F85E505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B15-9A9C-401C-97A3-0A26837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40A-9504-405E-9FAC-AB9508C4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6BC8-295F-4127-B32B-CF926ED5FD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F8AE-B9A3-40DB-92E4-8E4878F026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AE3-A802-43E1-84EF-131FD8C472F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4AC8-6D52-4775-92BC-392231B20FC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5364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C’est combien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247920" cy="42865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2700360" y="5943600"/>
            <a:ext cx="644364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_________ Eu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0" y="90792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6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2421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6093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trente-cinq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5364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C’est combien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5943600"/>
            <a:ext cx="644364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_________ Eu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90792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26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2421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6093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inquante-et-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3348000" cy="36352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5364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C’est combien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5943600"/>
            <a:ext cx="644364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_________ Eu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12000" y="90792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6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2421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6093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oixante-s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4047840" cy="40669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5364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C’est combien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5943600"/>
            <a:ext cx="644364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_________ Eur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12000" y="90792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260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2421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6093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quarante-quat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3809880" cy="38098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0:44Z</dcterms:modified>
  <cp:revision>32</cp:revision>
  <dc:subject/>
  <dc:title>Slide 1</dc:title>
</cp:coreProperties>
</file>