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7857-D01F-482E-A2E3-33862DCD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C360-2133-4C07-9C48-DA0943E5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15DA-F27C-46B4-B2DF-C33BA173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486D-C4D7-4E9F-850D-B294A6C1B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A707-F31A-4DF0-AD02-1B007646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B761-FD05-4D89-B490-ECCEAAC6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49F1-D036-4E67-80F0-E804DD2A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9E00-6A1E-4A58-98AF-F26D07E5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0138-55EC-4A39-B791-ECC7C75E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D0AA-406D-47C2-B68A-28CC1838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4258-94CF-4790-858B-F51F549E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AB56-2FF8-40B0-B99C-889ED0A6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F0F6-19DC-42E0-93FE-8149F8C2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8D6D-F08E-4E45-B265-D95230C9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2EB3-CBDE-4381-8B51-88476556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D9C9-E14A-44E6-9145-A18D22F15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54D5-8343-4BF8-AD31-A2F8254CA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CA8CB-F476-45A6-8023-59A487FD4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B24EA-9871-4D6A-B8A9-5BE2E582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19F7C-AF1F-489E-A552-44357708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F11E2-3ED0-4E84-904A-E02F12AC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6E28D-AC35-44E4-8F1F-BB5DDB42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E6CF-4688-43ED-AB5F-B27ED27D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1EABA-C306-4215-89BD-D798558B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8BE20-A85A-4589-B4B6-B1A18986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F4CFF-6485-41A8-B694-027B550B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B85F3-55C4-4654-8D1D-07946F16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958DB-A9E7-4810-8BAB-0DDBAE09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1B6AF-C4A2-443B-ACFD-766EFA193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0BD2F-A191-46F0-917B-A041322B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EBA3B-168F-4E79-8025-D0ECB0275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7D559-5094-47D4-8170-F0964125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AC9BD-9186-4B3B-8DA3-D9692BCC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8065-651E-4C52-9FA1-0451EEBE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7E45B-D987-4C8A-B9AC-636F4525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EDDE6-7855-45A5-B299-9BA9155E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22E54-D011-4F24-B1CE-51C7FF3F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045EC-0A33-4523-BFCB-ECDA5950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5437E-A92C-4B7B-805E-8FE60849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D5C5F-0CD5-4610-AB31-E8155C37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76EC2-9223-4914-9F6D-B3B23FDC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35DA9-0AD1-4811-874E-4F4CEA87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600D2-257B-4CA8-BF58-492AD832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383D-5FB6-4FF7-9D48-E064D42A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91F8-64BB-4E60-A767-A0EF5468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10A1-6162-4BDF-AD43-8F5E9D27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224B-6920-4A92-AE54-80EE082C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388F-766A-4DE2-AD6B-DE866F52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AF33-7FFE-41F0-8D9E-8CD6204060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42F1-4891-4D0B-AC2E-AE910E4C7C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4014-E2CE-4FB2-A60C-66853F2E2DB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7308-0CCC-446F-BA5A-6001777496D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5364000" cy="916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C’est combien 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916360" y="1268280"/>
            <a:ext cx="3247920" cy="428652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2700360" y="5943600"/>
            <a:ext cx="6443640" cy="916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_________ Euro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812000" y="907920"/>
            <a:ext cx="0" cy="158436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32720" y="260280"/>
            <a:ext cx="20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l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04000" y="242100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moi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3280" y="6093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trente-cinq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5364000" cy="916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C’est combien 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00360" y="5943600"/>
            <a:ext cx="6443640" cy="916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_________ Euro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12000" y="907920"/>
            <a:ext cx="0" cy="158436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32720" y="260280"/>
            <a:ext cx="20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l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04000" y="242100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moi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43280" y="6093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cinquante-et-u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700360" y="1341360"/>
            <a:ext cx="3348000" cy="363528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5364000" cy="916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C’est combien 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00360" y="5943600"/>
            <a:ext cx="6443640" cy="916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_________ Euro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12000" y="907920"/>
            <a:ext cx="0" cy="158436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32720" y="260280"/>
            <a:ext cx="20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l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04000" y="242100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moi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43280" y="6093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soixante-sep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2556000" y="1413000"/>
            <a:ext cx="4047840" cy="406692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5364000" cy="916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C’est combien 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5943600"/>
            <a:ext cx="6443640" cy="916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_________ Euro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812000" y="907920"/>
            <a:ext cx="0" cy="158436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32720" y="260280"/>
            <a:ext cx="20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l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04000" y="242100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moi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27280" y="609300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quarante-quat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700360" y="1557360"/>
            <a:ext cx="3809880" cy="380988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1-15T00:00:44Z</dcterms:modified>
  <cp:revision>32</cp:revision>
  <dc:subject/>
  <dc:title>Slide 1</dc:title>
</cp:coreProperties>
</file>