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EC8-52CB-46BE-B5AA-55D8295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066-EB7E-40B0-9824-8AF7566E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EC5-A884-44B4-9200-E9AB460D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E7A-46CF-4628-A8A6-00BCD82C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F7B-1DE5-42C0-AF8E-2B6ACA36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767-85B3-4D76-83CE-C89207C5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3AA-3026-4A28-B3F6-AFEE957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806-5DAD-454D-81CC-49F53682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54C-91FE-40FF-B1BE-95EBBD5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89E-7AF0-47DF-A58E-CF049E6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368-0AAD-4FDE-9765-25E6440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384-D707-488C-9A3A-B39C9F9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318-89E4-4671-8AD6-F64B60CF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496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y the end of this lesson you will be able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Say 11 colours in 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Describe some strange animals in French using col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260280"/>
            <a:ext cx="3960720" cy="50472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3960720" cy="50508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260280"/>
            <a:ext cx="39607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981000"/>
            <a:ext cx="3960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1628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3700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191628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a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63700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a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64500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36572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364500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multicol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36572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multicol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37372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n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09300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n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609300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260280"/>
            <a:ext cx="3960720" cy="50472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981000"/>
            <a:ext cx="3960720" cy="50508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60280"/>
            <a:ext cx="39607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981000"/>
            <a:ext cx="3960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91628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3700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91628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63700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64500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36572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364500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36572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537372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09300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537372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609300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55640" y="76500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o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189216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r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02112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viol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414972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marr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89000"/>
            <a:ext cx="7923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1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189000"/>
            <a:ext cx="79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1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189000"/>
            <a:ext cx="792000" cy="718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197000"/>
            <a:ext cx="79236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2205000"/>
            <a:ext cx="79236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3213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221000"/>
            <a:ext cx="79236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16720" y="2924280"/>
            <a:ext cx="79200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2924280"/>
            <a:ext cx="792000" cy="718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221000"/>
            <a:ext cx="7923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213000"/>
            <a:ext cx="7923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205000"/>
            <a:ext cx="7923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197000"/>
            <a:ext cx="792360" cy="71928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197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220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213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422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1197000"/>
            <a:ext cx="79200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2205000"/>
            <a:ext cx="792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213000"/>
            <a:ext cx="792000" cy="719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221000"/>
            <a:ext cx="79200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01080" y="2924280"/>
            <a:ext cx="79200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5164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213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220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197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933720"/>
            <a:ext cx="79200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3933720"/>
            <a:ext cx="792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01080" y="3933720"/>
            <a:ext cx="792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3933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3860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260280"/>
            <a:ext cx="2160360" cy="216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+ 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m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= éga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1871640" cy="1743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216396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4797360"/>
            <a:ext cx="2449440" cy="161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4941720"/>
            <a:ext cx="2737080" cy="156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050920" y="2852640"/>
            <a:ext cx="1809720" cy="1724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979640" y="333360"/>
            <a:ext cx="2160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1833480" cy="169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260280"/>
            <a:ext cx="7129440" cy="3024360"/>
          </a:xfrm>
          <a:prstGeom prst="wedgeRoundRectCallout">
            <a:avLst>
              <a:gd name="adj1" fmla="val -54074"/>
              <a:gd name="adj2" fmla="val -28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Bonjour !  Je m’appelle Marc.  Comment t’appelles-tu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Arial Rounded MT Bold"/>
              </a:rPr>
              <a:t>Je m’appelle ZutZut et j’habite sur le planète Plut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028680" cy="1733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1847880" cy="1685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1809720" cy="1724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180972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435640" y="4292640"/>
            <a:ext cx="2162160" cy="222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08000" y="4797360"/>
            <a:ext cx="1866960" cy="1743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708360" y="2349360"/>
            <a:ext cx="1473120" cy="136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87280" y="37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Sur le planète Pluton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3:00:01Z</dcterms:created>
  <dc:creator>CSeccombe</dc:creator>
  <dc:description/>
  <dc:language>en-US</dc:language>
  <cp:lastModifiedBy>CSeccombe</cp:lastModifiedBy>
  <dcterms:modified xsi:type="dcterms:W3CDTF">2006-10-09T13:52:47Z</dcterms:modified>
  <cp:revision>8</cp:revision>
  <dc:subject/>
  <dc:title>Slide 1</dc:title>
</cp:coreProperties>
</file>