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60F-876D-4A50-B9F1-6E52C2FC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A38-6704-47FB-83D5-1FE63191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9AF-1725-4160-9F10-719D511A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E64-86A5-424A-AA5B-6CADC4C7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879-A9A8-496B-AF6F-EAB485A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5CA-A6A2-4A01-B4F3-ED56971F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FE0-F747-4274-87B7-91ED44BE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A05-6982-47A0-BB80-77EB7B20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6CC-B9B8-4B52-951D-4DC56322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6E2-2047-4F8F-94A8-64A32FAC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1DC-67B0-4605-BC99-035631A5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F13-E36D-413A-96ED-BC0AC6A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3037-D9C7-4645-9D12-18888CFA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496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y the end of this lesson you will be able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Say 11 colours in 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Describe some strange animals in French using col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260280"/>
            <a:ext cx="3960720" cy="50472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l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981000"/>
            <a:ext cx="3960720" cy="50508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l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260280"/>
            <a:ext cx="39607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ro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981000"/>
            <a:ext cx="39607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ro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16280"/>
            <a:ext cx="3960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37000"/>
            <a:ext cx="3960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1916280"/>
            <a:ext cx="39607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a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2637000"/>
            <a:ext cx="39607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a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645000"/>
            <a:ext cx="3960720" cy="50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g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365720"/>
            <a:ext cx="3960720" cy="50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g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3645000"/>
            <a:ext cx="3960720" cy="504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multicol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365720"/>
            <a:ext cx="3960720" cy="504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multicol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5373720"/>
            <a:ext cx="396072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n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093000"/>
            <a:ext cx="396072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n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373720"/>
            <a:ext cx="396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6093000"/>
            <a:ext cx="396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260280"/>
            <a:ext cx="3960720" cy="50472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981000"/>
            <a:ext cx="3960720" cy="50508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260280"/>
            <a:ext cx="39607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981000"/>
            <a:ext cx="39607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916280"/>
            <a:ext cx="3960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37000"/>
            <a:ext cx="3960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1916280"/>
            <a:ext cx="39607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2637000"/>
            <a:ext cx="39607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645000"/>
            <a:ext cx="3960720" cy="50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365720"/>
            <a:ext cx="3960720" cy="50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3645000"/>
            <a:ext cx="3960720" cy="504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365720"/>
            <a:ext cx="3960720" cy="504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5373720"/>
            <a:ext cx="396072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093000"/>
            <a:ext cx="396072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5373720"/>
            <a:ext cx="396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6093000"/>
            <a:ext cx="396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55640" y="765000"/>
            <a:ext cx="61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Rounded MT Bold"/>
              </a:rPr>
              <a:t>oran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1892160"/>
            <a:ext cx="64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Rounded MT Bold"/>
              </a:rPr>
              <a:t>r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3021120"/>
            <a:ext cx="64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Rounded MT Bold"/>
              </a:rPr>
              <a:t>viol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4149720"/>
            <a:ext cx="64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Rounded MT Bold"/>
              </a:rPr>
              <a:t>marr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89000"/>
            <a:ext cx="7923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189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189000"/>
            <a:ext cx="79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189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189000"/>
            <a:ext cx="792000" cy="718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197000"/>
            <a:ext cx="79236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2205000"/>
            <a:ext cx="79236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3213000"/>
            <a:ext cx="7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4221000"/>
            <a:ext cx="79236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16720" y="2924280"/>
            <a:ext cx="79200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2924280"/>
            <a:ext cx="792000" cy="7189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221000"/>
            <a:ext cx="7923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3213000"/>
            <a:ext cx="79236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2205000"/>
            <a:ext cx="7923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197000"/>
            <a:ext cx="792360" cy="719280"/>
          </a:xfrm>
          <a:prstGeom prst="rect">
            <a:avLst/>
          </a:prstGeom>
          <a:solidFill>
            <a:srgbClr val="938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197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220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3213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4221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1197000"/>
            <a:ext cx="79200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2205000"/>
            <a:ext cx="792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213000"/>
            <a:ext cx="792000" cy="719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4221000"/>
            <a:ext cx="792000" cy="719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01080" y="2924280"/>
            <a:ext cx="79200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5164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22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3213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220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197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3933720"/>
            <a:ext cx="792000" cy="719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3933720"/>
            <a:ext cx="792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01080" y="3933720"/>
            <a:ext cx="792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3933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3860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260280"/>
            <a:ext cx="2160360" cy="216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+ 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m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= éga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1871640" cy="1743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216396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92360" y="4797360"/>
            <a:ext cx="2449440" cy="161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003640" y="4941720"/>
            <a:ext cx="2737080" cy="156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050920" y="2852640"/>
            <a:ext cx="1809720" cy="1724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979640" y="333360"/>
            <a:ext cx="2160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1833480" cy="1694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5280" y="260280"/>
            <a:ext cx="7129440" cy="3024360"/>
          </a:xfrm>
          <a:prstGeom prst="wedgeRoundRectCallout">
            <a:avLst>
              <a:gd name="adj1" fmla="val -54074"/>
              <a:gd name="adj2" fmla="val -28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Bonjour !  Je m’appelle Marc.  Comment t’appelles-tu 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Arial Rounded MT Bold"/>
              </a:rPr>
              <a:t>Je m’appelle ZutZut et j’habite sur le planète Plut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028680" cy="1733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1847880" cy="1685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948360" y="1773360"/>
            <a:ext cx="1809720" cy="1724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180972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435640" y="4292640"/>
            <a:ext cx="2162160" cy="2228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908000" y="4797360"/>
            <a:ext cx="1866960" cy="1743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708360" y="2349360"/>
            <a:ext cx="1473120" cy="136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87280" y="37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Sur le planète Pluton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3:00:01Z</dcterms:created>
  <dc:creator>CSeccombe</dc:creator>
  <dc:description/>
  <dc:language>en-US</dc:language>
  <cp:lastModifiedBy>CSeccombe</cp:lastModifiedBy>
  <dcterms:modified xsi:type="dcterms:W3CDTF">2006-10-09T13:52:47Z</dcterms:modified>
  <cp:revision>8</cp:revision>
  <dc:subject/>
  <dc:title>Slide 1</dc:title>
</cp:coreProperties>
</file>