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173A-8338-48F5-8D1B-76077CB192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troumpf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 Grand Schtroum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g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z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955-E05B-4B23-8D3A-6B083A95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73E-1D50-447D-B9F4-D46B828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D7F-27A9-4257-96A4-FF8AA572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85D-2026-45C5-9296-A0028B92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820C-B0A9-4C63-8E44-F66048CF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04B6-8DF2-4062-8194-1B9FC45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ABA1-2FAD-4DAF-8416-BB4797B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3A4-01F9-48B1-A73A-A38ADFE2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8A7E-CCAC-4A33-BCFE-7FA9DD0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166-03B3-4C2D-8AE3-FCF9BB1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C97-EA6C-498E-822F-1A2F987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C53-752A-4AE0-BF88-8764C36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DA7D-AFE2-4933-B50D-236B94C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745F-02B1-4DEC-93A5-D5E5907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1D18-6A05-4DC3-898A-AE99D30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C38-1CC1-4984-B1EA-E6087330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C76-2107-4823-96F0-E155B4F2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B1F9-656B-4F76-A1C4-2DBFB8BC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E9A4-AEF2-424F-9EC5-C888237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D5C4-C9C0-4BF2-B7B3-C316FEB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9B80-A53B-4126-AE31-A1F1DBD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EE13-75C1-4562-AE23-691605E4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547-7E8C-4E3E-8AD7-5945740B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C40C-D16A-4F2C-9A99-E4E83F8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5CB2-38D4-4DAB-95BC-185C380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67F5-C8FE-4FAB-9DFD-F10D789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F92D-85EF-4E2A-AEC6-575049C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F1D3-BEBA-4F59-96C9-D4890C6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F2A8-B82B-4A40-8846-59A9E6BB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CC5D-7378-424F-AB26-930CFD77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6F14-B411-472F-881E-0369A309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EAD8-C779-49CE-B377-BB7566D7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896D-F538-4E37-A85A-3FC2BB6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B07-75C7-4E7C-A67F-7615B7E1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7111-268A-4B96-A7B8-41919DE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4F1E-1D8F-42E9-A227-975A52AA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D647-ACDC-460C-B138-00C6418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68AD-353C-4A2A-9486-AD6D9C2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260E-218E-4346-AEA9-513DF91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0C8B-FC2E-4307-9A25-235EA75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08A8-C9B8-41CA-88FA-0B8EF6B9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8D5F-2565-4A97-BDBB-992F2346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7EEE-E447-45E1-A021-76BAAF7E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D3B-0D48-4A7D-B7DE-05AB76A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105-7C93-48FB-98EF-1109443F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DC2-2A04-4820-A184-E80A0BA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B09-E3CA-423A-AF27-14A58C1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298-4B77-45C1-9E91-F3B3D58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308-A110-45E4-936E-48266B9745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EB8-AF65-4E74-A584-1793E33DA4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3E8-E136-480B-932C-DB779794B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AE8-C555-420E-A0AC-70E3DC9BB9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75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6300720" y="262908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4205160" y="189000"/>
            <a:ext cx="619200" cy="107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5"/>
          <a:stretch/>
        </p:blipFill>
        <p:spPr>
          <a:xfrm>
            <a:off x="4105440" y="5445000"/>
            <a:ext cx="718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9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826920" y="242424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643280" y="4475160"/>
            <a:ext cx="1605240" cy="2343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6248520" y="2792520"/>
            <a:ext cx="618840" cy="1073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4067280" y="173160"/>
            <a:ext cx="720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3546360" y="522936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602240" y="-3024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763640" y="2809800"/>
            <a:ext cx="619200" cy="107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5"/>
          <a:stretch/>
        </p:blipFill>
        <p:spPr>
          <a:xfrm>
            <a:off x="6227640" y="2786040"/>
            <a:ext cx="72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9" name="Straight Arrow Connector 2"/>
          <p:cNvCxnSpPr/>
          <p:nvPr/>
        </p:nvCxnSpPr>
        <p:spPr>
          <a:xfrm flipH="1">
            <a:off x="4463280" y="2133360"/>
            <a:ext cx="11880" cy="2377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0" name="Straight Arrow Connector 5"/>
          <p:cNvCxnSpPr/>
          <p:nvPr/>
        </p:nvCxnSpPr>
        <p:spPr>
          <a:xfrm flipH="1">
            <a:off x="3276360" y="3357360"/>
            <a:ext cx="2304000" cy="1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11" name="TextBox 7"/>
          <p:cNvSpPr/>
          <p:nvPr/>
        </p:nvSpPr>
        <p:spPr>
          <a:xfrm>
            <a:off x="4005360" y="1117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340000" y="28494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3997440" y="45226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5580000" y="2865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3546360" y="-100080"/>
            <a:ext cx="1857600" cy="145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6054840" y="1989000"/>
            <a:ext cx="1604880" cy="2343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165560" y="5365800"/>
            <a:ext cx="619200" cy="107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5"/>
          <a:stretch/>
        </p:blipFill>
        <p:spPr>
          <a:xfrm>
            <a:off x="1619280" y="2816280"/>
            <a:ext cx="720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0:18Z</dcterms:modified>
  <cp:revision>24</cp:revision>
  <dc:subject/>
  <dc:title>Slide 1</dc:title>
</cp:coreProperties>
</file>