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ABFB-E600-417E-B69D-FB19D12DF3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troumpf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 Grand Schtroump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rg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z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3E2-5BD2-408D-B8C1-8D71195F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D88-BFFC-420A-8045-11DE7B20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F416-A104-4572-B49F-6E5A0E45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F5B-DFF7-4F58-A3DC-F6A39526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24D6-63E0-4267-9CB9-421FFE99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A5D3-C607-4857-B610-D74645BB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D2C1-DF3E-43BB-9633-740122C8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CD48-B1EF-4AA7-AF9C-2F238E41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8ABA-F7C0-4784-8B57-3C12CD70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DB76-017F-4ECF-B2B3-A8983B71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644F-0D45-47E2-8313-0490BF82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0FF-A8C3-4C5F-804C-12B6BD90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6BA0-CF67-41B9-AE38-4D0A1A75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CCAA-8F4B-4703-AFF0-1253206F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959D-DDDC-4EC5-B5F6-CB3E7AD2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13B8-3802-4B48-A5AB-A62BB850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B4CE-37D0-41F8-BB9E-18823EF3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F83C4-2E6F-4E18-858C-421DF61F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14854-DC2E-403B-8A60-2FA8E95A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0B50C-210E-4D34-BDC2-C1301BEB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F1C1F-65C7-4315-B091-95586E4E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82701-120E-4150-9365-5B305253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A29-954F-4777-A1FC-CDB6BE0B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71EAA-D061-4530-A9DD-042ED2D1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35EA0-8B1E-4520-9F69-D18A2DB9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E9029-AF2C-478C-BD29-EBBBE4E0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C581-1511-48B9-8A40-5F7686DF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9DBCF-1DF8-4CE2-9CCF-350FF46C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BC09E-915E-4679-82F6-DF566B71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A6D5E-FFDC-48AC-8672-AB2F734A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4AD39-7B1C-409E-95DA-3A5D0B9B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D300F-3E17-4D89-B407-DBA06537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A34D2-99A5-4845-AD03-B570630B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6EC-BFA3-452B-8F3D-03BAC67A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55AA9-98E2-4ED9-9DD5-59B12F50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20BC7-0911-41CB-BB89-25B8487F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13632-4002-45B4-B6E9-66D9C039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B595B-1D20-4A9E-B69D-58DE951A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127F2-9F47-4411-BFFA-B7072956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81CAE-2068-492D-9553-D0024393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4E707-6973-4D01-B21A-DD8F25C4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3D6B5-8FC5-4B6D-BCF6-A3CFB4B0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BB5B8-C274-467C-B1E1-D24D1384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76F0-1D33-4084-ADFD-11BB17C8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9396-FADA-413C-AA06-5E853246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694-9260-4780-84A5-A7A61E1B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DE4D-9A1F-4E86-B8F9-A38464E1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285-1CB4-4903-82E2-C4E27D5D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5FAF-823E-407D-BC24-12D246C03F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1B75-5AC2-4391-8B40-DA7BDBA3C0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0834-9C6E-40C4-B1D5-107F8E089F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1FC6-42AA-4490-9745-8055B596080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3" name="Straight Arrow Connector 2"/>
          <p:cNvCxnSpPr/>
          <p:nvPr/>
        </p:nvCxnSpPr>
        <p:spPr>
          <a:xfrm flipH="1">
            <a:off x="4463280" y="2133360"/>
            <a:ext cx="11880" cy="2377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Straight Arrow Connector 5"/>
          <p:cNvCxnSpPr/>
          <p:nvPr/>
        </p:nvCxnSpPr>
        <p:spPr>
          <a:xfrm flipH="1">
            <a:off x="3276360" y="3357360"/>
            <a:ext cx="2304000" cy="1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175" name="TextBox 7"/>
          <p:cNvSpPr/>
          <p:nvPr/>
        </p:nvSpPr>
        <p:spPr>
          <a:xfrm>
            <a:off x="4005360" y="111744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2340000" y="28494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3997440" y="452268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5580000" y="28656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9" name="Straight Arrow Connector 2"/>
          <p:cNvCxnSpPr/>
          <p:nvPr/>
        </p:nvCxnSpPr>
        <p:spPr>
          <a:xfrm flipH="1">
            <a:off x="4463280" y="2133360"/>
            <a:ext cx="11880" cy="2377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0" name="Straight Arrow Connector 5"/>
          <p:cNvCxnSpPr/>
          <p:nvPr/>
        </p:nvCxnSpPr>
        <p:spPr>
          <a:xfrm flipH="1">
            <a:off x="3276360" y="3357360"/>
            <a:ext cx="2304000" cy="1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181" name="TextBox 7"/>
          <p:cNvSpPr/>
          <p:nvPr/>
        </p:nvSpPr>
        <p:spPr>
          <a:xfrm>
            <a:off x="4005360" y="111744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2340000" y="28494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3997440" y="452268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5580000" y="28656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2"/>
          <a:stretch/>
        </p:blipFill>
        <p:spPr>
          <a:xfrm>
            <a:off x="6300720" y="2629080"/>
            <a:ext cx="1857600" cy="145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3"/>
          <a:stretch/>
        </p:blipFill>
        <p:spPr>
          <a:xfrm>
            <a:off x="971640" y="2060640"/>
            <a:ext cx="1604880" cy="2343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4"/>
          <a:stretch/>
        </p:blipFill>
        <p:spPr>
          <a:xfrm>
            <a:off x="4205160" y="189000"/>
            <a:ext cx="619200" cy="1071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5"/>
          <a:stretch/>
        </p:blipFill>
        <p:spPr>
          <a:xfrm>
            <a:off x="4105440" y="5445000"/>
            <a:ext cx="7189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9" name="Straight Arrow Connector 2"/>
          <p:cNvCxnSpPr/>
          <p:nvPr/>
        </p:nvCxnSpPr>
        <p:spPr>
          <a:xfrm flipH="1">
            <a:off x="4463280" y="2133360"/>
            <a:ext cx="11880" cy="2377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0" name="Straight Arrow Connector 5"/>
          <p:cNvCxnSpPr/>
          <p:nvPr/>
        </p:nvCxnSpPr>
        <p:spPr>
          <a:xfrm flipH="1">
            <a:off x="3276360" y="3357360"/>
            <a:ext cx="2304000" cy="1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191" name="TextBox 7"/>
          <p:cNvSpPr/>
          <p:nvPr/>
        </p:nvSpPr>
        <p:spPr>
          <a:xfrm>
            <a:off x="4005360" y="111744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2340000" y="28494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11"/>
          <p:cNvSpPr/>
          <p:nvPr/>
        </p:nvSpPr>
        <p:spPr>
          <a:xfrm>
            <a:off x="3997440" y="452268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12"/>
          <p:cNvSpPr/>
          <p:nvPr/>
        </p:nvSpPr>
        <p:spPr>
          <a:xfrm>
            <a:off x="5580000" y="28656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" descr=""/>
          <p:cNvPicPr/>
          <p:nvPr/>
        </p:nvPicPr>
        <p:blipFill>
          <a:blip r:embed="rId2"/>
          <a:stretch/>
        </p:blipFill>
        <p:spPr>
          <a:xfrm>
            <a:off x="826920" y="2424240"/>
            <a:ext cx="1857600" cy="1457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3"/>
          <a:stretch/>
        </p:blipFill>
        <p:spPr>
          <a:xfrm>
            <a:off x="4643280" y="4475160"/>
            <a:ext cx="1605240" cy="2343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4"/>
          <a:stretch/>
        </p:blipFill>
        <p:spPr>
          <a:xfrm>
            <a:off x="6248520" y="2792520"/>
            <a:ext cx="618840" cy="1073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5"/>
          <a:stretch/>
        </p:blipFill>
        <p:spPr>
          <a:xfrm>
            <a:off x="4067280" y="173160"/>
            <a:ext cx="7207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9" name="Straight Arrow Connector 2"/>
          <p:cNvCxnSpPr/>
          <p:nvPr/>
        </p:nvCxnSpPr>
        <p:spPr>
          <a:xfrm flipH="1">
            <a:off x="4463280" y="2133360"/>
            <a:ext cx="11880" cy="2377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0" name="Straight Arrow Connector 5"/>
          <p:cNvCxnSpPr/>
          <p:nvPr/>
        </p:nvCxnSpPr>
        <p:spPr>
          <a:xfrm flipH="1">
            <a:off x="3276360" y="3357360"/>
            <a:ext cx="2304000" cy="1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201" name="TextBox 7"/>
          <p:cNvSpPr/>
          <p:nvPr/>
        </p:nvSpPr>
        <p:spPr>
          <a:xfrm>
            <a:off x="4005360" y="111744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2340000" y="28494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3997440" y="452268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12"/>
          <p:cNvSpPr/>
          <p:nvPr/>
        </p:nvSpPr>
        <p:spPr>
          <a:xfrm>
            <a:off x="5580000" y="28656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3546360" y="5229360"/>
            <a:ext cx="1857600" cy="1457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4602240" y="-30240"/>
            <a:ext cx="1604880" cy="2343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4"/>
          <a:stretch/>
        </p:blipFill>
        <p:spPr>
          <a:xfrm>
            <a:off x="1763640" y="2809800"/>
            <a:ext cx="619200" cy="1071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"/>
          <p:cNvPicPr/>
          <p:nvPr/>
        </p:nvPicPr>
        <p:blipFill>
          <a:blip r:embed="rId5"/>
          <a:stretch/>
        </p:blipFill>
        <p:spPr>
          <a:xfrm>
            <a:off x="6227640" y="2786040"/>
            <a:ext cx="720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9" name="Straight Arrow Connector 2"/>
          <p:cNvCxnSpPr/>
          <p:nvPr/>
        </p:nvCxnSpPr>
        <p:spPr>
          <a:xfrm flipH="1">
            <a:off x="4463280" y="2133360"/>
            <a:ext cx="11880" cy="2377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0" name="Straight Arrow Connector 5"/>
          <p:cNvCxnSpPr/>
          <p:nvPr/>
        </p:nvCxnSpPr>
        <p:spPr>
          <a:xfrm flipH="1">
            <a:off x="3276360" y="3357360"/>
            <a:ext cx="2304000" cy="1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211" name="TextBox 7"/>
          <p:cNvSpPr/>
          <p:nvPr/>
        </p:nvSpPr>
        <p:spPr>
          <a:xfrm>
            <a:off x="4005360" y="111744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2340000" y="28494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3997440" y="452268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12"/>
          <p:cNvSpPr/>
          <p:nvPr/>
        </p:nvSpPr>
        <p:spPr>
          <a:xfrm>
            <a:off x="5580000" y="28656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1" descr=""/>
          <p:cNvPicPr/>
          <p:nvPr/>
        </p:nvPicPr>
        <p:blipFill>
          <a:blip r:embed="rId2"/>
          <a:stretch/>
        </p:blipFill>
        <p:spPr>
          <a:xfrm>
            <a:off x="3546360" y="-100080"/>
            <a:ext cx="1857600" cy="1457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3"/>
          <a:stretch/>
        </p:blipFill>
        <p:spPr>
          <a:xfrm>
            <a:off x="6054840" y="1989000"/>
            <a:ext cx="1604880" cy="2343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4"/>
          <a:stretch/>
        </p:blipFill>
        <p:spPr>
          <a:xfrm>
            <a:off x="4165560" y="5365800"/>
            <a:ext cx="619200" cy="1071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5"/>
          <a:stretch/>
        </p:blipFill>
        <p:spPr>
          <a:xfrm>
            <a:off x="1619280" y="2816280"/>
            <a:ext cx="720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1-10T09:40:18Z</dcterms:modified>
  <cp:revision>24</cp:revision>
  <dc:subject/>
  <dc:title>Slide 1</dc:title>
</cp:coreProperties>
</file>