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F24-4A2E-4263-BA54-B9D97861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5C6-351C-442E-A131-21948ED6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FD3-1290-4553-8988-4C6B40A0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ECA-297C-4A27-8A5C-DD7768AA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1B1B-0399-4E41-BF76-62AAB93F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DFA0-52C6-4643-BA1E-8DFA6173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E46D-C39D-42D9-B714-F1456B5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B269-1271-46E8-B58B-8FDC35EB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8F19-C1D0-4D7F-897E-8E43EC66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E9F8-F03F-4417-92F3-68E0C0AC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F978-4CD7-4EEB-A775-DC77C572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E24-EF6D-45DC-8FE0-F05408C7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F3AD-3C32-4B9F-81B5-81C80041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95B2-B14F-412E-91D0-6CF6D8F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0981-6FCE-4A00-9DC4-87DACA88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772A-D035-4E93-B0E0-0B6EE74E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3794-2C69-4219-A86B-F60DB9BB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6522-28AA-4A4B-A6CA-84A3D9CF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79A2-E46A-4610-9DDE-40146ED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34DA-521A-4454-AEE0-71338233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C624-B2DC-4992-9764-2D05D306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DE16-C801-4ED8-B2DD-BA78E7F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5E5-38F5-4166-90D3-7059FB52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9680-23F3-471F-A169-26500A43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0E1C8-2AD2-482A-8F6E-6147C40A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BF5C-45B4-4580-AC2A-877C5604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A400D-0BFF-45B2-A88B-F1AA09E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5D36-F300-48EF-8878-16FEB64B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CF26D-1D35-4705-A9D1-08AA1048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6775-9AFD-484F-A2E6-73BDE9C5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3314-CDC3-4110-9958-1CAD77CA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A8A41-98BB-4718-B4A0-BEEFD905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87BE-F4B2-4AEE-BB4F-E82A2DE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8D4-D330-45AE-8DF0-C17B81DC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052F4-FD89-43D1-A25B-457DEEA1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59784-9957-40A4-A3BE-5255730A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71FC-EA01-4C3C-8D23-EEA9FA69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1AD8-1DFB-49DB-856E-37DA4AB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FF1C-B151-4DEE-A7B2-FE3C89CD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F5AE-980A-46CD-9419-8A111D1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1E01-C0DB-47A1-8B8F-C6C7DAD1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17C46-D701-4233-ADA9-CD70B2A0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9397-28B4-4713-81EF-0EA54DC8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313-6093-4FD3-8EC1-99E15FB4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CBE-13BE-4CE6-82C0-4C56D315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71B-2722-4E59-AD92-9908966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9FD-AD95-4265-A4EF-981905A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292-DAA1-49C7-A6DA-80CB3FAE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5E0F-ADAC-4A5A-B5E5-7F050E6D96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709-8C79-4B16-937B-FB11A71D6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11C5-3B57-450C-BC0D-C9640AE53E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35E7-747A-4B3E-A512-795D4041C1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189000"/>
            <a:ext cx="30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33360"/>
            <a:ext cx="259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lun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ar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ercre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jeu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vendre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ame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diman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700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2421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492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9640" y="2421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numb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24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0"/>
            <a:ext cx="327672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janvier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février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ar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vril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a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juin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juille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oû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eptembr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octobr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novembr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décemb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8360" y="5013360"/>
            <a:ext cx="16174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24000" y="549360"/>
          <a:ext cx="8496000" cy="3671640"/>
        </p:xfrm>
        <a:graphic>
          <a:graphicData uri="http://schemas.openxmlformats.org/drawingml/2006/table">
            <a:tbl>
              <a:tblPr/>
              <a:tblGrid>
                <a:gridCol w="2735280"/>
                <a:gridCol w="865080"/>
                <a:gridCol w="2376360"/>
                <a:gridCol w="2519280"/>
              </a:tblGrid>
              <a:tr h="42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nd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rcred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ud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med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anch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évri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ille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oû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mbr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 txBox="1"/>
          <p:nvPr/>
        </p:nvSpPr>
        <p:spPr>
          <a:xfrm>
            <a:off x="3995640" y="4508640"/>
            <a:ext cx="3672000" cy="17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Clue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1:30Z</dcterms:modified>
  <cp:revision>29</cp:revision>
  <dc:subject/>
  <dc:title>Slide 1</dc:title>
</cp:coreProperties>
</file>