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1FE-07CE-476D-9071-8251C04C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F63-19A3-4122-9331-1026523E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B96-D37B-47A1-8748-87DC04B0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C49-6A37-4F4B-8310-F5FA895E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D103-F0C7-4ABF-B59D-1249D557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739E-2D3A-4C4D-9814-54325371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2233-2B81-4167-9759-9DFF35B2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AE78-2E99-4D5A-9491-1586E3E6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FE5D-DFA6-4910-921D-5B035D89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AC0D-F563-4124-BC6E-53DF67CE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F3D0-6653-4019-B221-0918E6D5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245-BD58-4C61-B201-E3A4B757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D04A-2632-4230-9D3C-0360F515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7EB4-0CE5-48E3-BED0-641CAD18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4191-88F9-45A6-8F93-A5376D30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2B6C-6203-4B35-B75E-F3794410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E287-868B-4F0C-82CF-03CB1D0A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03016-E9D6-41AF-A652-EC7B277F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60528-0BF5-44FA-8AA9-EEF38CD6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6793F-E81F-4E2E-A6ED-BEC59115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A0217-D45D-4DF5-BA3A-B85289B3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E6CFA-F28E-472B-8C09-CBB4C726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8BC-F694-44EC-8542-60ED968A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9D7E-2CB8-4772-9897-01F86243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BC4F-63DA-4268-A194-6AF93E95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D6CE-EF3A-445E-94A5-9A134EDA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A963-C6DF-4DA1-948C-26D99848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6C17-9B05-4598-8196-C9861DE0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3297-5890-40BE-BDB5-39CE8E9A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C795F-248A-4BED-A84D-7EB677FB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B954-420F-4422-BD87-B1EB5737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2D4D-FC29-4CF0-8FE7-E36B6807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E2AAB-B773-4F28-B606-85CF352D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F22-C2AF-445A-9374-35AC3230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A1916-98C0-48BB-8928-3623E386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9D75E-BB2B-4C99-9D4F-D8A2ED7F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FFAA4-69AA-41F6-8927-EC0F4DCA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49954-1B25-46FF-BC8E-D9CFDDD3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1F1FA-816D-4087-BA5C-6CF2E4C8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97FB4-3423-4AB5-8E0F-F734E05D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C688F-62B4-4498-A9C9-1B6AEFA6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E9EE9-C507-4EE1-84ED-CD67F3EF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0DBBE-0DC3-46B1-A364-5BFF608F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BF3-719E-408F-BB7B-B963EF13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D55-B114-4109-82E6-DD22BD57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ADA-86B7-4FE5-9DF8-15CABC96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D5E-C966-4FE3-8CC4-198A7727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E57-CC8A-48A8-976E-B8D54445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E527-BF51-4DA8-8A1C-6C19763481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15C8-F30C-4C0C-8E1E-14D99E907C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1383-5263-48FF-999F-ACCBC572E23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40BE-D2FE-40A4-9CA4-787AB5104A6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189000"/>
            <a:ext cx="30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33360"/>
            <a:ext cx="259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lund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ard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ercred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jeud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vendred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amed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diman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70036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2421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49236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9640" y="242100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numb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72436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0"/>
            <a:ext cx="327672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janvier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février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ar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vril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ai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juin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juillet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oût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eptembr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octobr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novembr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décemb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8360" y="5013360"/>
            <a:ext cx="16174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324000" y="549360"/>
          <a:ext cx="8496000" cy="3671640"/>
        </p:xfrm>
        <a:graphic>
          <a:graphicData uri="http://schemas.openxmlformats.org/drawingml/2006/table">
            <a:tbl>
              <a:tblPr/>
              <a:tblGrid>
                <a:gridCol w="2735280"/>
                <a:gridCol w="865080"/>
                <a:gridCol w="2376360"/>
                <a:gridCol w="2519280"/>
              </a:tblGrid>
              <a:tr h="42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nd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rcred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ud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med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anch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évrie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ille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oû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mbr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 txBox="1"/>
          <p:nvPr/>
        </p:nvSpPr>
        <p:spPr>
          <a:xfrm>
            <a:off x="3995640" y="4508640"/>
            <a:ext cx="3672000" cy="17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Clued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1:30Z</dcterms:modified>
  <cp:revision>29</cp:revision>
  <dc:subject/>
  <dc:title>Slide 1</dc:title>
</cp:coreProperties>
</file>