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170-AA9F-4A2E-A784-AF148760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A68-D2EE-47B7-ABC7-8554EC85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75F-996A-4194-BA1F-C1CA05BA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079-9888-4D86-A649-DD470C9D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52C1-3A28-4E87-9A85-DA099BF0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F05D-E681-4C97-9F89-C6E91ED6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83A5-0C04-4F4E-B677-34772C25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1C93-43EC-4D2A-83F0-EB297FA2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EEA9-696A-4370-AA36-9AC379AD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5705-93BE-40D4-82CC-5D74D39A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6122-2598-495E-803A-634A44AD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D51-7A68-41FD-9AB5-A260DF94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8B83-BF7E-4C8D-86B3-7062B48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AC80-112E-48AE-8FEB-4FB56DBB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AF1C-E300-4184-8339-B812ADC3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8AEA-CCAB-4734-841B-F63070B2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D37A-3531-4400-AF6A-623C0053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D665-F7DF-40E8-9C9A-0EFCCD86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28A2A-AFBF-4F33-A6B7-D331D9BF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D1FCB-44A8-49F6-971B-576F48DB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028A6-D612-414B-8AAE-A8757112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44AD0-12BA-4E6D-9A46-B57BC26D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598-26FE-49FD-A94F-385300AB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6591E-C230-458D-9DDE-441B4628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9588-69CD-4D02-9D39-A998C5E0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384CF-9B78-431C-AA0F-D8C2C547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15B36-3D44-445C-BB9D-CF37FDCB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84641-AA3C-4C1E-987F-90D62FDE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060B4-8871-4724-978A-69A4894D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147BC-58E1-4A6D-9D36-0BE1D6E7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8F2D5-6BF4-4F2E-9C62-6C7C3797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41460-6B48-4690-B7BF-8A6976E8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A4A05-CD03-48A5-9BDA-BF2CA217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D7F-69BC-4B37-B1CF-13D89B17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DB973-700D-4B35-8972-239E8D1E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85E59-72E9-40AC-8A92-151879EE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3B3FE-3169-4C30-8672-3E2FBA30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7E427-DE20-40AC-BDA0-2270FC9B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18031-92B1-4A39-9949-1533EB85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92438-4051-43B1-9105-B8CE8225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B552-C464-4333-B8A1-CD46A740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6660D-B973-44A7-9192-652EADFD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41412-EDF2-4AC8-925A-201B5F6E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B2D-8BE4-4BCF-8B4B-B457D510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07F-C672-4636-AD45-8FC32E7A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F71-45B2-42B8-8210-A2D1D3D6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8D3-0F58-4C69-9544-AD0D629E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D54-EEB5-4B54-9D83-AA7E12CC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6A07-BCF5-44F9-BA0A-D88982AEDB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9BBD-2180-4A49-B035-F6A85A1CD0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39D2-719D-497F-A7D5-A6BD77CF0E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EAE9-6E99-4E86-8B1D-17A4C9E5014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1547640" y="0"/>
            <a:ext cx="6048720" cy="60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cie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chocol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cirqu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chora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fleuv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ficel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flamm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333333"/>
                </a:solidFill>
                <a:latin typeface="Comic Sans MS"/>
              </a:rPr>
              <a:t>film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Oval 2"/>
          <p:cNvSpPr/>
          <p:nvPr/>
        </p:nvSpPr>
        <p:spPr>
          <a:xfrm>
            <a:off x="1979640" y="212760"/>
            <a:ext cx="431640" cy="43164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5135400" y="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sk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1979640" y="907920"/>
            <a:ext cx="431640" cy="43344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5135400" y="78408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chocolat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1979640" y="1724040"/>
            <a:ext cx="431640" cy="43164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5133960" y="1539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circu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1979640" y="2516040"/>
            <a:ext cx="431640" cy="432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5133960" y="22813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choi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1979640" y="3216240"/>
            <a:ext cx="431640" cy="43200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5133960" y="3051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riv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1979640" y="3957480"/>
            <a:ext cx="431640" cy="432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15"/>
          <p:cNvSpPr/>
          <p:nvPr/>
        </p:nvSpPr>
        <p:spPr>
          <a:xfrm>
            <a:off x="5133960" y="37879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str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1979640" y="4705200"/>
            <a:ext cx="431640" cy="433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17"/>
          <p:cNvSpPr/>
          <p:nvPr/>
        </p:nvSpPr>
        <p:spPr>
          <a:xfrm>
            <a:off x="5133960" y="4589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flam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Oval 18"/>
          <p:cNvSpPr/>
          <p:nvPr/>
        </p:nvSpPr>
        <p:spPr>
          <a:xfrm>
            <a:off x="1979640" y="5445000"/>
            <a:ext cx="431640" cy="43200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5133960" y="53164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film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12-05T09:26:32Z</dcterms:modified>
  <cp:revision>63</cp:revision>
  <dc:subject/>
  <dc:title>Slide 1</dc:title>
</cp:coreProperties>
</file>