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CEBF-3A52-449D-87BC-8CA5D2B3C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7A95-6C1F-4152-BA8E-1CC8C83FD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D834-AF9D-4CE6-942E-A605BDED6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1449-ECA9-413A-A905-FF8C538EC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0F7F7-4D7D-492B-8B5A-992774059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5F6ED-8CE6-41EF-9DD6-55CF850F4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74899-3371-41B5-B363-F86A6B7A7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9FEA1-D306-4D05-B570-CFAD6321A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23866-729C-4E19-A759-D2462028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810E8-8433-4101-B4CF-8D9600EE2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5F3D9-9B0B-4FA9-91B5-064E0027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A573-F366-42D0-950F-E54B5A1BB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9D877-7665-4E34-B545-81034A36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579DC-07CF-40D1-9BFE-3F30C1FA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99AED-7218-40B6-ACF6-11E4F81F5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BCE91-45DE-4F11-AD05-9CC4C3AD0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101A5-AAB1-40DB-AF75-C2E235AB5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A3DD0-A487-483C-B04F-A07B040AF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1CEC9-BE82-4F8D-A357-EF4B79157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8C291-8978-494B-88A4-1E1B74873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53622-4D4F-4F51-9FDB-9C66B6248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F1791-1F67-4E26-8369-26545ED15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E10D-B41E-4F9E-A1BB-E65777010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39B2F-C523-43FD-B05A-A0EEA4D5C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496E1-C0C5-4C08-B7FB-DBC5B5E6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BA5E0-542E-4AFF-826C-9EA82027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6ABB1-9550-4ABD-B606-E40E3C75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406B9-E548-400E-9E14-3EA8FF644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7B497-BF0E-4763-A6B8-CD12A79B3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7A1DD-632B-4AC9-987F-5959F26D5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B278B-0F3F-4910-9B41-842C6C6CB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D5D81-EE25-4786-9FB5-DEBFFC88D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A097C-BF2C-46F9-B3AC-735C9EE90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9E5A-8D60-4346-A2B9-8D4AE081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0DF89-B5FE-4C8B-B124-CF1409186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9C893-3F5C-4EDC-B4ED-E855E3147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26F61-447F-4279-8741-63EC366DE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50B55-CB9A-42EA-9107-AA5EA93A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4D7FC-C900-4A26-ABC8-D077E499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36386-A3FF-4418-845D-05294934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370C9-948D-400E-815A-DC156A227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63BB2-8126-47C7-AF76-BD96FE729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282B7-6CF4-4225-8275-BF6E39F8A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DF57-03EE-4CDA-9B3D-4CDD4C744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FCA1-33EE-4118-91C4-158FEA5A8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CD79-A41D-4D2B-8AB3-1F95BDFC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B92D-FE60-48D2-9F81-F56566B4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0806-C50A-486A-BDE3-C6945C45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8D24A-A620-4B14-93D0-89FEE300D41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A999F-04C4-4D49-9C0D-E3538FDCD8D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C4039-2F68-4933-AC49-B5D6ED129CC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316AE-C946-4763-B90C-7E6365FB856C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1"/>
          <p:cNvSpPr/>
          <p:nvPr/>
        </p:nvSpPr>
        <p:spPr>
          <a:xfrm>
            <a:off x="1547640" y="0"/>
            <a:ext cx="6048720" cy="603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en-GB" sz="4000" spc="-1" strike="noStrike">
                <a:solidFill>
                  <a:srgbClr val="333333"/>
                </a:solidFill>
                <a:latin typeface="Comic Sans MS"/>
              </a:rPr>
              <a:t>ciel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en-GB" sz="4000" spc="-1" strike="noStrike">
                <a:solidFill>
                  <a:srgbClr val="333333"/>
                </a:solidFill>
                <a:latin typeface="Comic Sans MS"/>
              </a:rPr>
              <a:t>chocol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en-GB" sz="4000" spc="-1" strike="noStrike">
                <a:solidFill>
                  <a:srgbClr val="333333"/>
                </a:solidFill>
                <a:latin typeface="Comic Sans MS"/>
              </a:rPr>
              <a:t>cirqu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en-GB" sz="4000" spc="-1" strike="noStrike">
                <a:solidFill>
                  <a:srgbClr val="333333"/>
                </a:solidFill>
                <a:latin typeface="Comic Sans MS"/>
              </a:rPr>
              <a:t>choral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en-GB" sz="4000" spc="-1" strike="noStrike">
                <a:solidFill>
                  <a:srgbClr val="333333"/>
                </a:solidFill>
                <a:latin typeface="Comic Sans MS"/>
              </a:rPr>
              <a:t>fleuv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en-GB" sz="4000" spc="-1" strike="noStrike">
                <a:solidFill>
                  <a:srgbClr val="333333"/>
                </a:solidFill>
                <a:latin typeface="Comic Sans MS"/>
              </a:rPr>
              <a:t>ficell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en-GB" sz="4000" spc="-1" strike="noStrike">
                <a:solidFill>
                  <a:srgbClr val="333333"/>
                </a:solidFill>
                <a:latin typeface="Comic Sans MS"/>
              </a:rPr>
              <a:t>flamm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en-GB" sz="4000" spc="-1" strike="noStrike">
                <a:solidFill>
                  <a:srgbClr val="333333"/>
                </a:solidFill>
                <a:latin typeface="Comic Sans MS"/>
              </a:rPr>
              <a:t>film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Oval 2"/>
          <p:cNvSpPr/>
          <p:nvPr/>
        </p:nvSpPr>
        <p:spPr>
          <a:xfrm>
            <a:off x="1979640" y="212760"/>
            <a:ext cx="431640" cy="431640"/>
          </a:xfrm>
          <a:prstGeom prst="ellipse">
            <a:avLst/>
          </a:prstGeom>
          <a:solidFill>
            <a:srgbClr val="0066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TextBox 3"/>
          <p:cNvSpPr/>
          <p:nvPr/>
        </p:nvSpPr>
        <p:spPr>
          <a:xfrm>
            <a:off x="5135400" y="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Comic Sans MS"/>
              </a:rPr>
              <a:t>sky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Oval 6"/>
          <p:cNvSpPr/>
          <p:nvPr/>
        </p:nvSpPr>
        <p:spPr>
          <a:xfrm>
            <a:off x="1979640" y="907920"/>
            <a:ext cx="431640" cy="433440"/>
          </a:xfrm>
          <a:prstGeom prst="ellipse">
            <a:avLst/>
          </a:prstGeom>
          <a:solidFill>
            <a:srgbClr val="0066ff"/>
          </a:solidFill>
          <a:ln w="1260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TextBox 7"/>
          <p:cNvSpPr/>
          <p:nvPr/>
        </p:nvSpPr>
        <p:spPr>
          <a:xfrm>
            <a:off x="5135400" y="784080"/>
            <a:ext cx="26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Comic Sans MS"/>
              </a:rPr>
              <a:t>chocolat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Oval 8"/>
          <p:cNvSpPr/>
          <p:nvPr/>
        </p:nvSpPr>
        <p:spPr>
          <a:xfrm>
            <a:off x="1979640" y="1724040"/>
            <a:ext cx="431640" cy="431640"/>
          </a:xfrm>
          <a:prstGeom prst="ellipse">
            <a:avLst/>
          </a:prstGeom>
          <a:solidFill>
            <a:srgbClr val="0066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TextBox 9"/>
          <p:cNvSpPr/>
          <p:nvPr/>
        </p:nvSpPr>
        <p:spPr>
          <a:xfrm>
            <a:off x="5133960" y="153972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Comic Sans MS"/>
              </a:rPr>
              <a:t>circu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Oval 10"/>
          <p:cNvSpPr/>
          <p:nvPr/>
        </p:nvSpPr>
        <p:spPr>
          <a:xfrm>
            <a:off x="1979640" y="2516040"/>
            <a:ext cx="431640" cy="432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TextBox 11"/>
          <p:cNvSpPr/>
          <p:nvPr/>
        </p:nvSpPr>
        <p:spPr>
          <a:xfrm>
            <a:off x="5133960" y="228132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Comic Sans MS"/>
              </a:rPr>
              <a:t>choi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Oval 12"/>
          <p:cNvSpPr/>
          <p:nvPr/>
        </p:nvSpPr>
        <p:spPr>
          <a:xfrm>
            <a:off x="1979640" y="3216240"/>
            <a:ext cx="431640" cy="432000"/>
          </a:xfrm>
          <a:prstGeom prst="ellipse">
            <a:avLst/>
          </a:prstGeom>
          <a:solidFill>
            <a:srgbClr val="0070c0"/>
          </a:solidFill>
          <a:ln w="1260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TextBox 13"/>
          <p:cNvSpPr/>
          <p:nvPr/>
        </p:nvSpPr>
        <p:spPr>
          <a:xfrm>
            <a:off x="5133960" y="305100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Comic Sans MS"/>
              </a:rPr>
              <a:t>riv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Oval 14"/>
          <p:cNvSpPr/>
          <p:nvPr/>
        </p:nvSpPr>
        <p:spPr>
          <a:xfrm>
            <a:off x="1979640" y="3957480"/>
            <a:ext cx="431640" cy="432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TextBox 15"/>
          <p:cNvSpPr/>
          <p:nvPr/>
        </p:nvSpPr>
        <p:spPr>
          <a:xfrm>
            <a:off x="5133960" y="378792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Comic Sans MS"/>
              </a:rPr>
              <a:t>string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Oval 16"/>
          <p:cNvSpPr/>
          <p:nvPr/>
        </p:nvSpPr>
        <p:spPr>
          <a:xfrm>
            <a:off x="1979640" y="4705200"/>
            <a:ext cx="431640" cy="4334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" name="TextBox 17"/>
          <p:cNvSpPr/>
          <p:nvPr/>
        </p:nvSpPr>
        <p:spPr>
          <a:xfrm>
            <a:off x="5133960" y="458964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Comic Sans MS"/>
              </a:rPr>
              <a:t>flam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Oval 18"/>
          <p:cNvSpPr/>
          <p:nvPr/>
        </p:nvSpPr>
        <p:spPr>
          <a:xfrm>
            <a:off x="1979640" y="5445000"/>
            <a:ext cx="431640" cy="432000"/>
          </a:xfrm>
          <a:prstGeom prst="ellipse">
            <a:avLst/>
          </a:prstGeom>
          <a:solidFill>
            <a:srgbClr val="0066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2" name="TextBox 19"/>
          <p:cNvSpPr/>
          <p:nvPr/>
        </p:nvSpPr>
        <p:spPr>
          <a:xfrm>
            <a:off x="5133960" y="531648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Comic Sans MS"/>
              </a:rPr>
              <a:t>film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 Seccombe</cp:lastModifiedBy>
  <dcterms:modified xsi:type="dcterms:W3CDTF">2014-12-05T09:26:32Z</dcterms:modified>
  <cp:revision>63</cp:revision>
  <dc:subject/>
  <dc:title>Slide 1</dc:title>
</cp:coreProperties>
</file>