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577-D8CD-4A07-B002-6F24151A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A73-0846-4171-AEBD-00145B5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FE6-3641-4D50-8397-E0430085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B33-BABA-41FE-8422-08B48990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08EF-BD9F-406F-96C4-85FAC2E7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DA30-5CE2-40A1-B61C-7EF56CA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45D5-1312-4B43-8CD9-073D986D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50DA-57C9-4255-AC0D-A82E60FF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3BC9-9066-4C1C-B05A-50B0A2B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F97-EFE4-4981-8B9F-752D9750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BA14-BECF-4E5B-9366-FC947B9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0F4-8FC5-4EFE-A2FE-C6B4238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8713-9C9F-4E03-8C2B-91AD6A2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4E1-E669-4A78-A702-6851E73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6FB-7101-41FA-A63C-C2FC04E3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CEF-C335-42D9-B373-A2C820E1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5D52-2C39-493C-A422-F332D379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58CA-E10F-4846-9740-932B324F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0132-A10E-46A1-AA8D-2F0553F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336E-ECEA-4DE7-A0CB-A8AC020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9460-F2CE-4556-B1BA-109180F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F0DC-93F4-46D1-841C-A279CED2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8D8-F808-4055-8009-9F2791E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6224-42D7-45CF-8F5B-E8E26C85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0496-41B9-4280-AE8D-98E4F9A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4FEF-F3CE-4A6B-A6DD-534413BA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DBBE-4073-40D7-937A-7C7F793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530D-2F5E-490D-AC52-C42A26A2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D63E-74CB-4227-A7E5-01A22231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1103-4FC4-4027-A82F-404E6085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FD36-FBE8-4E86-AF84-8080FE17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07EB-2526-4A53-B0FF-3534B16A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8A79-256C-4351-AD4D-7FF55229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C4D-E634-438C-B8C4-99D8442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A9CD-6AF5-4D67-910E-E34D8AE0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82F7-27FE-4A7A-A10C-A795D62B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0E15-091A-47A9-BF5B-2E4DC99E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1C84-770A-47FC-BCFA-D967285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6893-803E-4FB9-B5FD-49EBA70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5547-25BC-4A8B-A6EA-925588E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702F-439F-466B-B8EF-5459C416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5C19-DAA9-4C48-8C1B-1D7BCE0C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E6A0-7772-41CA-92F2-CEA94BB0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30B-6EAD-4350-AF5F-0A6AB30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CD8-3197-42B5-99D5-83F9F5B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779-C15D-4DA2-A7DB-DD723A0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B1C-EBA4-43D4-AA8F-D51E004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6D3-B27F-45C3-83BA-513E1F7C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D8A3-7800-497E-BDB3-BA992B58E2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EB61-6474-4E1A-8E8C-640B2FCB38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CA0C-0D21-4125-BF1A-2E292B7FC5A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B3BB-FB01-4EF5-9944-1723E7C5D9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bart simspons"/>
          <p:cNvPicPr/>
          <p:nvPr/>
        </p:nvPicPr>
        <p:blipFill>
          <a:blip r:embed="rId2"/>
          <a:srcRect l="18141" t="0" r="27468" b="0"/>
          <a:stretch/>
        </p:blipFill>
        <p:spPr>
          <a:xfrm>
            <a:off x="3924360" y="234936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40559" t="0" r="0" b="0"/>
          <a:stretch/>
        </p:blipFill>
        <p:spPr>
          <a:xfrm>
            <a:off x="0" y="1268280"/>
            <a:ext cx="1922400" cy="4362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380360" y="414972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292720" y="2781360"/>
            <a:ext cx="1960560" cy="2919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14745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5148360" y="306864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40559" t="0" r="0" b="0"/>
          <a:stretch/>
        </p:blipFill>
        <p:spPr>
          <a:xfrm>
            <a:off x="1908000" y="2708280"/>
            <a:ext cx="1636920" cy="3714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659640" y="479736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35280" y="1844640"/>
            <a:ext cx="1193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40559" t="0" r="0" b="0"/>
          <a:stretch/>
        </p:blipFill>
        <p:spPr>
          <a:xfrm>
            <a:off x="6732720" y="2708280"/>
            <a:ext cx="1636560" cy="3714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700360" y="479736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003640" y="2060640"/>
            <a:ext cx="1194120" cy="459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rcRect l="40559" t="0" r="0" b="0"/>
          <a:stretch/>
        </p:blipFill>
        <p:spPr>
          <a:xfrm>
            <a:off x="3132000" y="2708280"/>
            <a:ext cx="1636920" cy="3714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651640" y="4797360"/>
            <a:ext cx="1763640" cy="1673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763640" cy="1673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5148360" y="306864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40559" t="0" r="0" b="0"/>
          <a:stretch/>
        </p:blipFill>
        <p:spPr>
          <a:xfrm>
            <a:off x="1908000" y="2708280"/>
            <a:ext cx="1636920" cy="3714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659640" y="4797360"/>
            <a:ext cx="1763640" cy="167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635280" y="1844640"/>
            <a:ext cx="1193760" cy="4597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6948360" y="2997360"/>
            <a:ext cx="1295640" cy="3552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268360" y="4653000"/>
            <a:ext cx="1764000" cy="1673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003640" y="2060640"/>
            <a:ext cx="1194120" cy="4597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bart simspons"/>
          <p:cNvPicPr/>
          <p:nvPr/>
        </p:nvPicPr>
        <p:blipFill>
          <a:blip r:embed="rId3"/>
          <a:srcRect l="18141" t="0" r="27468" b="0"/>
          <a:stretch/>
        </p:blipFill>
        <p:spPr>
          <a:xfrm>
            <a:off x="2987640" y="2997360"/>
            <a:ext cx="1295280" cy="3552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164360" y="2060640"/>
            <a:ext cx="1193760" cy="459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60560" cy="2919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835280" y="1989000"/>
            <a:ext cx="7057800" cy="4869000"/>
          </a:xfrm>
          <a:prstGeom prst="wedgeRoundRectCallout">
            <a:avLst>
              <a:gd name="adj1" fmla="val -55958"/>
              <a:gd name="adj2" fmla="val -6522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1193760" cy="4597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40000" y="189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’est-ce qui manqu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7:52Z</dcterms:modified>
  <cp:revision>24</cp:revision>
  <dc:subject/>
  <dc:title>Slide 1</dc:title>
</cp:coreProperties>
</file>