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E8B-9B7B-4D0B-BDD3-023E99E6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CB7-EBB2-474B-8950-C513CFB9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815-F804-4D79-AD1C-5552FC1F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5BE-5604-41C2-8301-9B3EDEB0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8916-3384-4B28-90E9-FBCEC568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3902-6904-448D-9423-EE7C7C65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F870-8E7C-4719-A23B-D559B8F6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D406-038C-4401-993E-19D95C45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9322-8969-4E53-9921-B49DD236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5B6E-968B-4504-996D-E0034312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4B82-E984-4E93-A027-00E60B32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80D-116B-4E56-8095-FF0A63A0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E901-52AB-4D78-9CB7-EC9ADDB2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EF7A-56B8-4569-BF66-8B1D611D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B6EF-A845-4CF4-AA24-F00FF91C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65BF-DC52-4EDB-910E-AF7F5751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D76B-2C60-4356-903F-FD8B1332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BEE1-0DE3-4367-9842-929D329F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4200-DA05-4EF3-AC97-2568B6B8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A016-310A-4A22-B85B-4A3BE832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9F36-7892-4C7C-8D9B-F39F1645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EDAC-593C-4B0B-A249-B3D9F753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FAD-E9D6-4824-9AA7-E8DDA6E8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2965-EAD0-4667-8801-364C23FB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B76F-F4DF-4946-A923-6DD10C75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3B67-554C-43F2-B727-DAEBA240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2D9B-CA53-4861-BCF8-ADC4715D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47E0-27C0-49BB-BD02-A357C902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5B68-4681-4437-95FB-CCEC879A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636A-7057-4589-8B13-4FBAC11A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BEA6-E692-4B9D-BF0B-1058E4C7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3825-A4BE-4629-B892-F1CCCC62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E16E8-03A3-491C-95AB-AD5580CE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7A9-F00C-42A6-BE73-41612BDE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E4153-C1CB-4FC4-B0BD-897535CB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21D1-379F-4FCD-A179-0B752511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ADC2-5DFA-462F-88D1-88A56C1A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AB98-CB17-4560-A32C-F422DD51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60D4-35D6-4DC3-AD97-03AECDF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AB3E-1AB1-40E9-A40F-A59DED77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905B-56AF-43EC-B0C0-1C704F69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6DB9-11DC-4784-B3E3-CC7A7E88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786E-161D-4E45-91E6-69AA9345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C08-E8CA-4059-B0DF-E54EBCAE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D34-709D-4391-947A-61729ACA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232-1C3E-4C69-BB7A-5B126AD1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E24-AA2B-426A-8555-4D247426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4BE-AB70-46FF-AAC0-1BBCE61A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5DD8-8E89-41C1-9BB7-3A7F9C668D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BD62-6538-4475-A560-910E083055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0EC8-DEB2-4333-B043-FB161E52034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9C76-531A-4793-B2D9-E1846FD5310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bart simspons"/>
          <p:cNvPicPr/>
          <p:nvPr/>
        </p:nvPicPr>
        <p:blipFill>
          <a:blip r:embed="rId2"/>
          <a:srcRect l="18141" t="0" r="27468" b="0"/>
          <a:stretch/>
        </p:blipFill>
        <p:spPr>
          <a:xfrm>
            <a:off x="3924360" y="2349360"/>
            <a:ext cx="1295280" cy="3552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40559" t="0" r="0" b="0"/>
          <a:stretch/>
        </p:blipFill>
        <p:spPr>
          <a:xfrm>
            <a:off x="0" y="1268280"/>
            <a:ext cx="1922400" cy="4362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380360" y="4149720"/>
            <a:ext cx="1763640" cy="1673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292720" y="2781360"/>
            <a:ext cx="1960560" cy="2919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2195640" y="0"/>
            <a:ext cx="14745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bart simspons"/>
          <p:cNvPicPr/>
          <p:nvPr/>
        </p:nvPicPr>
        <p:blipFill>
          <a:blip r:embed="rId3"/>
          <a:srcRect l="18141" t="0" r="27468" b="0"/>
          <a:stretch/>
        </p:blipFill>
        <p:spPr>
          <a:xfrm>
            <a:off x="5148360" y="3068640"/>
            <a:ext cx="1295280" cy="3552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rcRect l="40559" t="0" r="0" b="0"/>
          <a:stretch/>
        </p:blipFill>
        <p:spPr>
          <a:xfrm>
            <a:off x="1908000" y="2708280"/>
            <a:ext cx="1636920" cy="3714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659640" y="4797360"/>
            <a:ext cx="1763640" cy="167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635280" y="1844640"/>
            <a:ext cx="11937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rcRect l="40559" t="0" r="0" b="0"/>
          <a:stretch/>
        </p:blipFill>
        <p:spPr>
          <a:xfrm>
            <a:off x="6732720" y="2708280"/>
            <a:ext cx="1636560" cy="3714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700360" y="4797360"/>
            <a:ext cx="1763640" cy="1673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003640" y="2060640"/>
            <a:ext cx="1194120" cy="459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rcRect l="40559" t="0" r="0" b="0"/>
          <a:stretch/>
        </p:blipFill>
        <p:spPr>
          <a:xfrm>
            <a:off x="3132000" y="2708280"/>
            <a:ext cx="1636920" cy="3714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651640" y="4797360"/>
            <a:ext cx="1763640" cy="1673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1763640" cy="1673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bart simspons"/>
          <p:cNvPicPr/>
          <p:nvPr/>
        </p:nvPicPr>
        <p:blipFill>
          <a:blip r:embed="rId3"/>
          <a:srcRect l="18141" t="0" r="27468" b="0"/>
          <a:stretch/>
        </p:blipFill>
        <p:spPr>
          <a:xfrm>
            <a:off x="5148360" y="3068640"/>
            <a:ext cx="1295280" cy="355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40559" t="0" r="0" b="0"/>
          <a:stretch/>
        </p:blipFill>
        <p:spPr>
          <a:xfrm>
            <a:off x="1908000" y="2708280"/>
            <a:ext cx="1636920" cy="3714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6659640" y="4797360"/>
            <a:ext cx="1763640" cy="1673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635280" y="1844640"/>
            <a:ext cx="1193760" cy="4597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bart simspons"/>
          <p:cNvPicPr/>
          <p:nvPr/>
        </p:nvPicPr>
        <p:blipFill>
          <a:blip r:embed="rId3"/>
          <a:srcRect l="18141" t="0" r="27468" b="0"/>
          <a:stretch/>
        </p:blipFill>
        <p:spPr>
          <a:xfrm>
            <a:off x="6948360" y="2997360"/>
            <a:ext cx="1295640" cy="3552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268360" y="4653000"/>
            <a:ext cx="1764000" cy="1673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003640" y="2060640"/>
            <a:ext cx="1194120" cy="4597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bart simspons"/>
          <p:cNvPicPr/>
          <p:nvPr/>
        </p:nvPicPr>
        <p:blipFill>
          <a:blip r:embed="rId3"/>
          <a:srcRect l="18141" t="0" r="27468" b="0"/>
          <a:stretch/>
        </p:blipFill>
        <p:spPr>
          <a:xfrm>
            <a:off x="2987640" y="2997360"/>
            <a:ext cx="1295280" cy="3552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164360" y="2060640"/>
            <a:ext cx="1193760" cy="4597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1193760" cy="4597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7:52Z</dcterms:modified>
  <cp:revision>24</cp:revision>
  <dc:subject/>
  <dc:title>Slide 1</dc:title>
</cp:coreProperties>
</file>