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E2B-C676-4141-BB6C-0C9C5F89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0DE-E593-490F-8A4C-2B6196B8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50E-1F09-4804-8AB1-58432F4C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54E-7DA9-45E3-A347-B5A2D5AC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8FAB-0471-4A71-89A8-669311AC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E0FC-65FD-43ED-BDDC-FC457B03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BE6E-C9CD-4400-8F56-3106A62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37A5-F2D2-4798-B558-4FDEB951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A446-B749-43D7-B22F-D67449F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A702-BC47-48E9-8ECB-B1C6114C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12F2-C80C-432D-8756-96E79B4F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BF5-7AA6-4385-8993-3397449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E140-A263-459E-8845-C83FE748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3A56-943A-4F53-A295-70F23894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F244-94C7-4FFB-BF33-2DC518F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96C-6147-4472-8F92-A4AFB456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D291-8E9F-45AA-8877-5424705E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010C-B754-4F46-8DBA-12DC3CEE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CAEF-EE61-4923-B8A7-5BB83464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B86B-347F-409C-A59F-41C23801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EE5E-E350-4465-AA9F-463FFE4E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F2AB-BE4F-4CAD-8528-9BBFA2E4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FB0-05D5-4C38-B8E8-91129AAF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9341-D221-4B98-9B79-FDBEDC44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A6DB-54EB-4A05-BEAF-BD51F5F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68CD-614E-40D7-BFBB-F6578F4D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78C0-5E7F-4F8D-9808-C8BEDBC2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7B0D-7A2C-4923-8BDE-12382285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B7C8-3B91-4F2D-A59E-EAC7A7C0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8594-5239-49C7-B19A-D16316DD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3AF1-7E2E-4F88-91E0-2610C821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CB51D-A6C5-4F5D-9310-830ECF03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8158-D0CC-40E5-B18C-1D833FE2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4F9-4D0A-4598-A8E9-1294E189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B9D0-580C-4990-B1E3-7BFDBFD8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91B6-D2A4-4FB0-BD84-9CD01BEA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3F63A-F893-47C7-B291-FBA737B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0C37-7F02-4A42-A6A6-600F933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6E4DA-A730-46E9-857C-2CA88E4E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272C-5DE9-4570-84A9-46E8370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38DE-888E-4F8D-8B2A-12DF9EE5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9623-ECA2-4EB1-A390-D001D46A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4B3C-CC90-4FA7-9D75-13BC7624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8D4-937A-43E0-9BDE-0FA63C8A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E66-79DF-43E2-BB6B-19CAB404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0AD-163E-49E9-8FA0-8C18F49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9BC-15AB-4C49-B233-7A5B72B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3EE-C8D1-47A4-8734-D492EEF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7993-4C4E-4A36-8CDB-C906E7D34F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9166-5DB4-48E9-8BAB-3E2180FDD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698-26EA-4C03-974B-0169BFE4F24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D95D-9E71-4968-B6BE-FC353B2251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1413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la </a:t>
            </a:r>
            <a:br>
              <a:rPr sz="8800"/>
            </a:b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Fête des Mèr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la </a:t>
            </a:r>
            <a:br>
              <a:rPr sz="8800"/>
            </a:br>
            <a:r>
              <a:rPr b="0" lang="en-GB" sz="8800" spc="-1" strike="noStrike">
                <a:solidFill>
                  <a:srgbClr val="ffffff"/>
                </a:solidFill>
                <a:latin typeface="Comic Sans MS"/>
              </a:rPr>
              <a:t>Fête des Mèr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350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le 3 jui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8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0320" y="507960"/>
            <a:ext cx="76215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84160" y="439560"/>
            <a:ext cx="737388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6551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89000"/>
            <a:ext cx="7848360" cy="657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C’est un poème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Il est très court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Il est charmant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C’est mon poème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33"/>
                </a:solidFill>
                <a:latin typeface="Comic Sans MS"/>
              </a:rPr>
              <a:t>«Maman, je t’aime.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6-05T19:43:02Z</dcterms:modified>
  <cp:revision>55</cp:revision>
  <dc:subject/>
  <dc:title>Slide 1</dc:title>
</cp:coreProperties>
</file>