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E1C0-EC7D-4379-AED0-39C91408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FC4E-14DB-410A-9528-5543C81E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F60D-90D0-425E-A804-8CB1E6B4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02CD-EA62-489E-AB56-885C9F4F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3216-34BA-475B-9DC7-04676A2C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BCA3-F423-4209-8FBC-5F2CE5CA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B164-536A-472A-B5D0-5DF8B6EC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9F62-30F5-492B-8C9B-9911DF57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FFB9-79D2-4991-BD01-5F538F9B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F5A0-C3A2-450D-9771-F3EDF511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4301-8FC1-4E5C-9A41-12D8553C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7804-8D32-456D-AA64-64437A9D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7B0F-90BD-4026-8AE7-B7E7A745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623A-5772-4E21-8E25-5CD5DB24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84B6-2394-4591-A1FB-90709439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E9EB-139C-4FDC-882E-9C18F069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4DE0-FA08-4B70-86F2-2037C111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1FCBC-93F3-4041-8CD6-0C107079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3DF1A-C091-4465-8B9D-9FCB6AD4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BE242-5D71-46EF-A5FD-F595ACCB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BA56E-1419-49B0-BF13-EA04D3E3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37CB2-C441-44AE-A195-E1DC3F07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4591-12E2-49AB-98BE-0FF45866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11021-F5BE-4B31-8632-1E758AF5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8D0DC-D627-4E93-9FA5-D82B7FFF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37ADF-7530-48B8-B077-EB7FF3EA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F4E12-6C20-4374-97EA-5063B6FB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BCF95-BB6A-481D-9FCF-48670DB8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E60A9-A52F-4E05-B574-C93BFBC4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956D4-5524-489F-A6FE-31EE12B1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FE327-35A7-45C9-AABD-1F192731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907F5-32D5-44BC-A5E7-E67BC858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9EF1B-8C34-43B3-A7E4-E77AE243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7439-CA47-428E-9074-0F75D905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5834D-E152-40CF-80B0-7E209BBE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A9980-6F71-474A-864E-43FBEF9B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0F8A4-509E-4855-B06E-CB8FCE4E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687C1-D002-4F24-BCEF-C09B9305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86B99-16E8-4877-A472-9404078D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A2B88-DFA5-442A-8A92-E990DBF2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EB7AF-2602-421E-BDA3-74374480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6FD15-2182-45AC-B8EB-12938B82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A5BDB-A2C4-4F4A-BB76-2D52BFCE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C3B6-87E0-40C2-90F1-71E0FB65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2A42-3827-4DFA-BB1B-3DEAAB72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A170-E9DD-4845-80F5-A7F7C563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0C91-5F7E-4FC9-A982-F3FCD3C3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B663-7568-44C8-ADDC-756709D5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5C15-C566-4192-BFF9-1B8653227F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A527-47F2-4FB6-B79C-C8499604EC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AE8F-0EE2-4C3B-801B-A8500BE90D8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3817-F33F-4911-B598-5171079DCB4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26920" y="1413000"/>
            <a:ext cx="756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f"/>
                </a:solidFill>
                <a:latin typeface="Comic Sans MS"/>
              </a:rPr>
              <a:t>Français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Comic Sans MS"/>
              </a:rPr>
              <a:t>la </a:t>
            </a:r>
            <a:br>
              <a:rPr sz="8800"/>
            </a:br>
            <a:r>
              <a:rPr b="0" lang="en-GB" sz="8800" spc="-1" strike="noStrike">
                <a:solidFill>
                  <a:srgbClr val="ffffff"/>
                </a:solidFill>
                <a:latin typeface="Comic Sans MS"/>
              </a:rPr>
              <a:t>Fête des Mère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Comic Sans MS"/>
              </a:rPr>
              <a:t>la </a:t>
            </a:r>
            <a:br>
              <a:rPr sz="8800"/>
            </a:br>
            <a:r>
              <a:rPr b="0" lang="en-GB" sz="8800" spc="-1" strike="noStrike">
                <a:solidFill>
                  <a:srgbClr val="ffffff"/>
                </a:solidFill>
                <a:latin typeface="Comic Sans MS"/>
              </a:rPr>
              <a:t>Fête des Mère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35002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Comic Sans MS"/>
              </a:rPr>
              <a:t>le 3 jui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587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60320" y="507960"/>
            <a:ext cx="762156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884160" y="439560"/>
            <a:ext cx="7373880" cy="59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403280" y="981000"/>
            <a:ext cx="6551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4360" y="189000"/>
            <a:ext cx="7848360" cy="657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33"/>
                </a:solidFill>
                <a:latin typeface="Comic Sans MS"/>
              </a:rPr>
              <a:t>C’est un poème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33"/>
                </a:solidFill>
                <a:latin typeface="Comic Sans MS"/>
              </a:rPr>
              <a:t>Il est très court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33"/>
                </a:solidFill>
                <a:latin typeface="Comic Sans MS"/>
              </a:rPr>
              <a:t>Il est charmant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33"/>
                </a:solidFill>
                <a:latin typeface="Comic Sans MS"/>
              </a:rPr>
              <a:t>C’est mon poème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33"/>
                </a:solidFill>
                <a:latin typeface="Comic Sans MS"/>
              </a:rPr>
              <a:t>«Maman, je t’aime.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6-05T19:43:02Z</dcterms:modified>
  <cp:revision>55</cp:revision>
  <dc:subject/>
  <dc:title>Slide 1</dc:title>
</cp:coreProperties>
</file>