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AFD-CE89-46F3-BAFB-9E9BA216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278-B1D9-4BB3-937A-6FFA64D5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319-EAA0-4FD2-BDCA-3B78CD43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EAB-D643-46D9-AFC6-5B0B8BA6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6634-53CF-493E-9A8D-E6149DEE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3ED5-4AD7-4844-B630-9C4507A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D91E-5FBF-4B6F-89B8-152B255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2306-F824-4C18-A3AD-140E6594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A4F3-3A6D-4F9E-86B1-287BEBDB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0079-87DF-4925-975A-8EA405FD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8BCC-75BA-490E-A301-A8E65FC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E1B-B9E5-4050-BF9B-84F1E085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9299-7376-4179-BCEE-FA393DA2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6C4F-E3DF-43AC-B544-FCE438A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1627-D1C2-425C-B892-69842CE5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3E3D-8D53-4B1A-B1AE-ACADF638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91C8-BE86-40D8-B601-BE917D16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AB0B-8FDF-41DE-B2D3-DA5D9E9D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122A-E403-4C4E-90D5-665E3EA1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0DE2-F26E-4B3E-B653-431FCD09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75F6-4FF9-43F4-BCE7-7CA4E39B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89F9-30D3-4158-8980-787C0F82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B2F-18A4-414B-AC3B-28CF8CC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A5EA4-E3EB-4605-981B-AB51EB6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8338-F278-4E9F-8B4B-593B9ED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810B-3A86-4D0A-825D-99F2EF6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16F1-705E-425C-9927-684648D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B866-D5AF-4762-8376-DB69BC7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BE31-FFD2-424C-8B1E-5C911829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FA3F-A1C2-4FEF-8A5A-CED1D31F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BB895-4F8F-4B39-9671-9A4737F2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D7BF-7E80-4BA6-9360-9E155157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01CA-39C5-483C-B17C-F714519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77E-74BD-4258-A5D9-30945EA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865D-BFBE-401F-9130-D12E5000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E009-21D6-4E0D-AC86-DB91736B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73791-E8FD-4EB3-87FA-B7B8EA1B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08E7-DAFB-41E7-8BD1-DA33CE9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E10B-72F3-4026-ABDD-419E1C68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EA48-863D-4599-B978-FF134D9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57D39-642E-4A07-8AD6-3E002764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70AA-6EC4-4148-871F-EC89DB1B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C6CD-8E5B-41FE-B837-89F44518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19C-4B60-424B-AA6B-9AD8855C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6C2-F76C-46AA-8F48-45054CF2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7B9-759C-4662-A0B7-99FB951E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1F1-F4CD-4892-8874-04D9B0F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6D0-C2AC-4826-A2C4-C4645E7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E728-F857-49B4-89BA-1843C2A08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2971-75EC-48B3-A923-470BFD8443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DC90-940E-408A-8C49-D8411FDC88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FBB-E441-4A5A-96CD-25F19B109A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2916360" y="2276640"/>
            <a:ext cx="2506680" cy="1896840"/>
            <a:chOff x="-2916360" y="2276640"/>
            <a:chExt cx="2506680" cy="18968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2916360" y="227664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-2772000" y="270972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042920" y="7245360"/>
            <a:ext cx="2506680" cy="1897200"/>
            <a:chOff x="1042920" y="7245360"/>
            <a:chExt cx="2506680" cy="18972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1042920" y="724536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87280" y="765000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7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612360" y="1413000"/>
            <a:ext cx="2506680" cy="1896840"/>
            <a:chOff x="9612360" y="1413000"/>
            <a:chExt cx="2506680" cy="18968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9612360" y="141300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757080" y="184464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8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612360" y="4149720"/>
            <a:ext cx="2506680" cy="1897200"/>
            <a:chOff x="9612360" y="4149720"/>
            <a:chExt cx="2506680" cy="1897200"/>
          </a:xfrm>
        </p:grpSpPr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9612360" y="4149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9757080" y="458136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0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2844720" y="5373720"/>
            <a:ext cx="2519280" cy="1897200"/>
            <a:chOff x="-2844720" y="5373720"/>
            <a:chExt cx="2519280" cy="189720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-2844720" y="5373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-2773440" y="57135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6 12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1836720" y="57135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796000" y="-2259000"/>
            <a:ext cx="2520720" cy="1917720"/>
            <a:chOff x="5796000" y="-2259000"/>
            <a:chExt cx="2520720" cy="1917720"/>
          </a:xfrm>
        </p:grpSpPr>
        <p:pic>
          <p:nvPicPr>
            <p:cNvPr id="182" name="" descr=""/>
            <p:cNvPicPr/>
            <p:nvPr/>
          </p:nvPicPr>
          <p:blipFill>
            <a:blip r:embed="rId7"/>
            <a:stretch/>
          </p:blipFill>
          <p:spPr>
            <a:xfrm>
              <a:off x="5796000" y="-2259000"/>
              <a:ext cx="25063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868720" y="-182700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2  3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4000" y="-189864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92360" y="-2187720"/>
            <a:ext cx="2506680" cy="1917720"/>
            <a:chOff x="1692360" y="-2187720"/>
            <a:chExt cx="2506680" cy="1917720"/>
          </a:xfrm>
        </p:grpSpPr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1692360" y="-2187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64000" y="-1755720"/>
              <a:ext cx="2305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9 4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360" y="-18273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940360" y="7174080"/>
            <a:ext cx="2506680" cy="1915560"/>
            <a:chOff x="5940360" y="7174080"/>
            <a:chExt cx="2506680" cy="1915560"/>
          </a:xfrm>
        </p:grpSpPr>
        <p:pic>
          <p:nvPicPr>
            <p:cNvPr id="190" name="" descr=""/>
            <p:cNvPicPr/>
            <p:nvPr/>
          </p:nvPicPr>
          <p:blipFill>
            <a:blip r:embed="rId9"/>
            <a:stretch/>
          </p:blipFill>
          <p:spPr>
            <a:xfrm>
              <a:off x="5940360" y="717408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940360" y="76053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5 11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7080" y="7532640"/>
              <a:ext cx="0" cy="15570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1.37813 -0.36481 E">
                                      <p:cBhvr>
                                        <p:cTn id="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28038 -1.40857 E">
                                      <p:cBhvr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1.32882 -0.16806 E">
                                      <p:cBhvr>
                                        <p:cTn id="14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1.34184 0.1662 E">
                                      <p:cBhvr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1227 L 1.12604 -1.1375 E">
                                      <p:cBhvr>
                                        <p:cTn id="2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65052 1.3301 E">
                                      <p:cBhvr>
                                        <p:cTn id="2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85364 -1.45209 E">
                                      <p:cBhvr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C -0.00069 0.04259 -0.00069 0.08519 -0.00208 0.12778 C -0.00208 0.1294 -0.01163 0.16458 -0.0125 0.16667 C -0.01389 0.16944 -0.01701 0.16991 -0.01875 0.17222 C -0.02118 0.17546 -0.02309 0.1794 -0.025 0.18333 C -0.0526 0.23866 -0.09548 0.26111 -0.14375 0.26944 C -0.20312 0.2662 -0.26232 0.24699 -0.31458 0.28889 C -0.321 0.30023 -0.32795 0.30648 -0.33541 0.31667 C -0.33906 0.3287 -0.34253 0.33935 -0.34791 0.34977 C -0.34861 0.35463 -0.35 0.35926 -0.35 0.36389 C -0.35 0.38333 -0.34913 0.40255 -0.34791 0.42199 C -0.34635 0.44606 -0.32239 0.45926 -0.30833 0.46667 C -0.28576 0.46481 -0.27465 0.4662 -0.25625 0.4581 C -0.24774 0.44954 -0.24027 0.44861 -0.23125 0.44144 C -0.20416 0.42106 -0.18767 0.41458 -0.15625 0.4081 C -0.1368 0.40926 -0.11736 0.4088 -0.09791 0.41088 C -0.0842 0.41273 -0.075 0.43611 -0.06666 0.44722 C -0.06406 0.45046 -0.05555 0.45764 -0.05208 0.46088 C -0.05069 0.46389 -0.05 0.46759 -0.04791 0.46921 C -0.04479 0.47222 -0.03784 0.46991 -0.0375 0.475 C -0.03489 0.51273 -0.03611 0.55116 -0.03958 0.58889 C -0.04184 0.61389 -0.06562 0.62431 -0.07916 0.63333 C -0.14514 0.62894 -0.2092 0.62546 -0.275 0.63333 C -0.28576 0.63796 -0.29791 0.63866 -0.30833 0.64421 C -0.31632 0.64884 -0.32378 0.65509 -0.33125 0.66088 C -0.34132 0.69444 -0.32812 0.65949 -0.34375 0.68056 C -0.34531 0.68241 -0.34514 0.68611 -0.34583 0.68889 C -0.35052 0.70556 -0.34913 0.70046 -0.35625 0.71667 C -0.35989 0.74097 -0.36059 0.73866 -0.35625 0.77477 C -0.3559 0.77801 -0.3533 0.78032 -0.35208 0.7831 C -0.34878 0.79074 -0.34809 0.79792 -0.34166 0.80278 C -0.32691 0.81343 -0.30538 0.81458 -0.28958 0.81644 C -0.27916 0.82199 -0.26892 0.82292 -0.25833 0.82778 C -0.24132 0.83542 -0.22378 0.84144 -0.20625 0.84699 C -0.1868 0.86667 -0.17343 0.86458 -0.14791 0.86667 C -0.13593 0.87477 -0.12326 0.87338 -0.11041 0.87755 C -0.10017 0.88796 -0.08732 0.89236 -0.07708 0.90278 C -0.06597 0.91366 -0.05746 0.91921 -0.04375 0.92199 C -0.03593 0.92639 -0.02882 0.93264 -0.02083 0.93611 C -0.00295 0.94352 0.01545 0.94792 0.03334 0.95556 C 0.05157 0.96319 0.06841 0.97616 0.0875 0.98056 C 0.09618 0.98634 0.10382 0.99421 0.1125 1 C 0.11511 1.00162 0.11823 1.00139 0.12084 1.00278 C 0.14028 1.01319 0.12726 1.00856 0.14584 1.025 C 0.14966 1.02847 0.15452 1.02963 0.15834 1.03333 C 0.16164 1.03634 0.16355 1.0412 0.16667 1.04444 C 0.2132 1.09537 0.16059 1.03657 0.18959 1.06389 C 0.20816 1.08125 0.22483 1.10046 0.24792 1.10556 C 0.25348 1.10926 0.25955 1.11181 0.26459 1.11667 C 0.26736 1.11944 0.26962 1.12315 0.27292 1.125 C 0.27691 1.12708 0.28125 1.12685 0.28542 1.12778 C 0.30295 1.13935 0.28351 1.12778 0.30625 1.13611 C 0.33021 1.14468 0.30434 1.13773 0.325 1.14722 C 0.34792 1.15741 0.36563 1.16435 0.38542 1.1831 C 0.38681 1.18704 0.38733 1.1912 0.38959 1.19444 C 0.39115 1.19653 0.39393 1.1956 0.39584 1.19722 C 0.39827 1.19907 0.40018 1.20255 0.40209 1.20556 C 0.40782 1.21435 0.40348 1.21389 0.40834 1.21389 E">
                                      <p:cBhvr>
                                        <p:cTn id="3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8:29Z</dcterms:modified>
  <cp:revision>24</cp:revision>
  <dc:subject/>
  <dc:title>Slide 1</dc:title>
</cp:coreProperties>
</file>