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4B4-B532-4622-9071-3906F857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54C-4E70-460D-B375-FBE5FCD5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5AB-3B98-4C8D-AAB1-A4EED1B6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C6E-F965-4B1F-B7DE-6EFD6C85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5A94-A221-4D89-9634-39472734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D7F8-C368-4F47-A2DF-3A0909E5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1224-9A93-48AA-8997-19B2C138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3A34-A840-4EE5-8035-344A67C6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0FDB-3666-4F26-A20C-7D245276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3271-6E9D-414F-8C7A-EF390099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3E28-CCDA-4020-AEFC-8AD55DE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C6A-B09C-4C99-968E-8B5E9CBF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D942-93BA-4138-A527-23F7F481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091E-349F-4C56-A06D-0D7621E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A15A-9192-45AD-8410-4889DDF4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261B-CBFA-4325-8F7D-89710EA2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7A9D-C8A2-4CA1-8EFB-162BE02B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535D-681D-4B02-9E62-DC494946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F4B1-3887-4067-A90A-F5C5A634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9A55C-0187-424F-9492-946809B8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585C9-8DB2-4E26-91AD-8DBCD07C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9893-CDC8-4F3E-8630-7AD35599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EBB-F68E-46C3-8AE4-5EEE8847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3751-8764-4469-87A2-50227470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A1860-78E5-4C15-A43B-A2A54EA8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4674-5FD0-4AAB-9431-196A0504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52BE-8C5C-42BC-82F5-88EAEF2A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B1623-FD93-400D-86A3-6D5E2853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6D34-E92D-4634-8AAD-6178088D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2E60-55A2-41E6-8052-7694821F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DE73-8F23-40E3-A1E4-3FE15BC5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C961F-C1CE-4E35-A550-ED14C952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C31A-71FD-47FC-A081-9B716BAF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468-DF1E-4695-8478-C3FA2A2A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512C-58A9-4C06-AF0B-F708FE3B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8E455-124C-4BEA-9547-194AEE66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F936A-9879-487A-9EE7-CC40DB78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3449E-5C72-4371-97F8-D2700F53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F637-E2D9-4FEF-9B70-8174C923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46CC-41F5-4C7F-8D25-CCCFC64C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4DF0B-903B-4F6A-B109-6D3B632A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10C55-727F-4E59-B032-9904AA26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9A42-6AE0-469B-A2EE-12203D1D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9C1-4C5E-4E1C-82B4-6C683835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EAD-9B75-4BBC-AD1A-36903FD0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D34-6209-449D-92AC-B515A01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05B-D86D-459D-9F53-55BA064D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67F-C015-4528-9353-E6B65A9A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4040-6B77-4D86-85C1-F8D197DC5C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BDC-335D-4FA7-86A6-DACE301EFF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0BF3-2992-4370-BE90-C301E63DE37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FF7E-368C-4777-9DB3-8DF55C5A385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2916360" y="2276640"/>
            <a:ext cx="2506680" cy="1896840"/>
            <a:chOff x="-2916360" y="2276640"/>
            <a:chExt cx="2506680" cy="189684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-2916360" y="227664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-2772000" y="2709720"/>
              <a:ext cx="2160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1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042920" y="7245360"/>
            <a:ext cx="2506680" cy="1897200"/>
            <a:chOff x="1042920" y="7245360"/>
            <a:chExt cx="2506680" cy="189720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1042920" y="724536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187280" y="7650000"/>
              <a:ext cx="2160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7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612360" y="1413000"/>
            <a:ext cx="2506680" cy="1896840"/>
            <a:chOff x="9612360" y="1413000"/>
            <a:chExt cx="2506680" cy="189684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9612360" y="141300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757080" y="1844640"/>
              <a:ext cx="2160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8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612360" y="4149720"/>
            <a:ext cx="2506680" cy="1897200"/>
            <a:chOff x="9612360" y="4149720"/>
            <a:chExt cx="2506680" cy="1897200"/>
          </a:xfrm>
        </p:grpSpPr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9612360" y="4149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9757080" y="4581360"/>
              <a:ext cx="2160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10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-2844720" y="5373720"/>
            <a:ext cx="2519280" cy="1897200"/>
            <a:chOff x="-2844720" y="5373720"/>
            <a:chExt cx="2519280" cy="189720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-2844720" y="5373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-2773440" y="571356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6 12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-1836720" y="571356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796000" y="-2259000"/>
            <a:ext cx="2520720" cy="1917720"/>
            <a:chOff x="5796000" y="-2259000"/>
            <a:chExt cx="2520720" cy="1917720"/>
          </a:xfrm>
        </p:grpSpPr>
        <p:pic>
          <p:nvPicPr>
            <p:cNvPr id="182" name="" descr=""/>
            <p:cNvPicPr/>
            <p:nvPr/>
          </p:nvPicPr>
          <p:blipFill>
            <a:blip r:embed="rId7"/>
            <a:stretch/>
          </p:blipFill>
          <p:spPr>
            <a:xfrm>
              <a:off x="5796000" y="-2259000"/>
              <a:ext cx="250632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868720" y="-182700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2  3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4000" y="-189864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692360" y="-2187720"/>
            <a:ext cx="2506680" cy="1917720"/>
            <a:chOff x="1692360" y="-2187720"/>
            <a:chExt cx="2506680" cy="1917720"/>
          </a:xfrm>
        </p:grpSpPr>
        <p:pic>
          <p:nvPicPr>
            <p:cNvPr id="186" name="" descr=""/>
            <p:cNvPicPr/>
            <p:nvPr/>
          </p:nvPicPr>
          <p:blipFill>
            <a:blip r:embed="rId8"/>
            <a:stretch/>
          </p:blipFill>
          <p:spPr>
            <a:xfrm>
              <a:off x="1692360" y="-2187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764000" y="-1755720"/>
              <a:ext cx="2305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9 4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2360" y="-182736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940360" y="7174080"/>
            <a:ext cx="2506680" cy="1915560"/>
            <a:chOff x="5940360" y="7174080"/>
            <a:chExt cx="2506680" cy="1915560"/>
          </a:xfrm>
        </p:grpSpPr>
        <p:pic>
          <p:nvPicPr>
            <p:cNvPr id="190" name="" descr=""/>
            <p:cNvPicPr/>
            <p:nvPr/>
          </p:nvPicPr>
          <p:blipFill>
            <a:blip r:embed="rId9"/>
            <a:stretch/>
          </p:blipFill>
          <p:spPr>
            <a:xfrm>
              <a:off x="5940360" y="717408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940360" y="760536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5 11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7080" y="7532640"/>
              <a:ext cx="0" cy="15570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1.37813 -0.36481 E">
                                      <p:cBhvr>
                                        <p:cTn id="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0.28038 -1.40857 E">
                                      <p:cBhvr>
                                        <p:cTn id="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-1.32882 -0.16806 E">
                                      <p:cBhvr>
                                        <p:cTn id="14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1.34184 0.1662 E">
                                      <p:cBhvr>
                                        <p:cTn id="18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1227 L 1.12604 -1.1375 E">
                                      <p:cBhvr>
                                        <p:cTn id="2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33333E-006 L 0.65052 1.3301 E">
                                      <p:cBhvr>
                                        <p:cTn id="2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85364 -1.45209 E">
                                      <p:cBhvr>
                                        <p:cTn id="30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C -0.00069 0.04259 -0.00069 0.08519 -0.00208 0.12778 C -0.00208 0.1294 -0.01163 0.16458 -0.0125 0.16667 C -0.01389 0.16944 -0.01701 0.16991 -0.01875 0.17222 C -0.02118 0.17546 -0.02309 0.1794 -0.025 0.18333 C -0.0526 0.23866 -0.09548 0.26111 -0.14375 0.26944 C -0.20312 0.2662 -0.26232 0.24699 -0.31458 0.28889 C -0.321 0.30023 -0.32795 0.30648 -0.33541 0.31667 C -0.33906 0.3287 -0.34253 0.33935 -0.34791 0.34977 C -0.34861 0.35463 -0.35 0.35926 -0.35 0.36389 C -0.35 0.38333 -0.34913 0.40255 -0.34791 0.42199 C -0.34635 0.44606 -0.32239 0.45926 -0.30833 0.46667 C -0.28576 0.46481 -0.27465 0.4662 -0.25625 0.4581 C -0.24774 0.44954 -0.24027 0.44861 -0.23125 0.44144 C -0.20416 0.42106 -0.18767 0.41458 -0.15625 0.4081 C -0.1368 0.40926 -0.11736 0.4088 -0.09791 0.41088 C -0.0842 0.41273 -0.075 0.43611 -0.06666 0.44722 C -0.06406 0.45046 -0.05555 0.45764 -0.05208 0.46088 C -0.05069 0.46389 -0.05 0.46759 -0.04791 0.46921 C -0.04479 0.47222 -0.03784 0.46991 -0.0375 0.475 C -0.03489 0.51273 -0.03611 0.55116 -0.03958 0.58889 C -0.04184 0.61389 -0.06562 0.62431 -0.07916 0.63333 C -0.14514 0.62894 -0.2092 0.62546 -0.275 0.63333 C -0.28576 0.63796 -0.29791 0.63866 -0.30833 0.64421 C -0.31632 0.64884 -0.32378 0.65509 -0.33125 0.66088 C -0.34132 0.69444 -0.32812 0.65949 -0.34375 0.68056 C -0.34531 0.68241 -0.34514 0.68611 -0.34583 0.68889 C -0.35052 0.70556 -0.34913 0.70046 -0.35625 0.71667 C -0.35989 0.74097 -0.36059 0.73866 -0.35625 0.77477 C -0.3559 0.77801 -0.3533 0.78032 -0.35208 0.7831 C -0.34878 0.79074 -0.34809 0.79792 -0.34166 0.80278 C -0.32691 0.81343 -0.30538 0.81458 -0.28958 0.81644 C -0.27916 0.82199 -0.26892 0.82292 -0.25833 0.82778 C -0.24132 0.83542 -0.22378 0.84144 -0.20625 0.84699 C -0.1868 0.86667 -0.17343 0.86458 -0.14791 0.86667 C -0.13593 0.87477 -0.12326 0.87338 -0.11041 0.87755 C -0.10017 0.88796 -0.08732 0.89236 -0.07708 0.90278 C -0.06597 0.91366 -0.05746 0.91921 -0.04375 0.92199 C -0.03593 0.92639 -0.02882 0.93264 -0.02083 0.93611 C -0.00295 0.94352 0.01545 0.94792 0.03334 0.95556 C 0.05157 0.96319 0.06841 0.97616 0.0875 0.98056 C 0.09618 0.98634 0.10382 0.99421 0.1125 1 C 0.11511 1.00162 0.11823 1.00139 0.12084 1.00278 C 0.14028 1.01319 0.12726 1.00856 0.14584 1.025 C 0.14966 1.02847 0.15452 1.02963 0.15834 1.03333 C 0.16164 1.03634 0.16355 1.0412 0.16667 1.04444 C 0.2132 1.09537 0.16059 1.03657 0.18959 1.06389 C 0.20816 1.08125 0.22483 1.10046 0.24792 1.10556 C 0.25348 1.10926 0.25955 1.11181 0.26459 1.11667 C 0.26736 1.11944 0.26962 1.12315 0.27292 1.125 C 0.27691 1.12708 0.28125 1.12685 0.28542 1.12778 C 0.30295 1.13935 0.28351 1.12778 0.30625 1.13611 C 0.33021 1.14468 0.30434 1.13773 0.325 1.14722 C 0.34792 1.15741 0.36563 1.16435 0.38542 1.1831 C 0.38681 1.18704 0.38733 1.1912 0.38959 1.19444 C 0.39115 1.19653 0.39393 1.1956 0.39584 1.19722 C 0.39827 1.19907 0.40018 1.20255 0.40209 1.20556 C 0.40782 1.21435 0.40348 1.21389 0.40834 1.21389 E">
                                      <p:cBhvr>
                                        <p:cTn id="3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8:29Z</dcterms:modified>
  <cp:revision>24</cp:revision>
  <dc:subject/>
  <dc:title>Slide 1</dc:title>
</cp:coreProperties>
</file>