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752-6BED-4395-B143-D9751EC1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90E-CBC4-443B-A113-B903CDD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970-702A-44B0-B1E1-DC9BE715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EE2-B1C6-4CCB-A75C-F0680410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DBB-2466-42CA-80E0-28623B08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BD28-4842-4E5B-8156-1379F79F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474-97DB-4C25-BD87-E00DD4B0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A77F-87B9-48F5-988C-64937AF2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92E2-DC15-43DF-A6D1-F5003B9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1786-7FFF-4314-BA08-058B32BA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4FDF-A744-47F5-A932-33F983C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346-0C5C-4177-9F32-9B04AE57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2F6D-918A-4FAB-A2A2-690DC9A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9323-1371-4D37-B096-0198F93A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DBF1-0FCA-4CC5-8F09-521943CB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C84E-EA0A-4892-AF39-C4138AC8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7BC2-5A29-40B0-BDF9-FB0D5903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F2F6-1AE2-4BD8-8489-EC7E6E05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3753-7A36-4E53-84D4-4F107C4C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F253-B123-4459-81FF-F2BF4091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AF47-5B3C-47A8-B360-F359A047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DCD3-BF58-4DA5-8636-2532327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95C-A435-47CE-883E-ABF322BE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CCCB-DAC1-4E9D-AEFD-7416A059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4ECD-A092-4882-923C-CB902E7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10BD-9B53-4F85-96F2-457252C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898B-71C5-4061-A983-4958EA9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FDB0-54C6-46A8-B626-61EB6ED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C9EE-EDD5-404C-97D3-7C612DA6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B340-E045-4A13-AD76-F68E528D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9AC2-1528-4082-B376-A3725E36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47F2-6906-4A7F-B055-914010F1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1FB7-C67F-401B-95E1-7516BC05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ADA-B03E-4B75-9DFE-E50C0E0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1EEF-0F27-4F78-9B04-771C57D1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4714-D203-4E3A-A646-A07DB96C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61A6-2CC2-43F0-B2B2-D1785109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E767-28D5-47B0-B06F-C45DDF0F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48D7-C6FB-45B1-9E19-7D33C16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2138-CF3A-4D1F-B992-E7641B0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386D-8776-4A38-839A-3023A7A1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9093-C150-4F1F-A136-DCBAA24D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8BC22-768D-45C5-892C-2C5A9CEE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5B8-431F-4DDC-8996-F39DD0B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4F3-A38E-4166-B44C-20A19103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238-08E9-41D4-B7F2-ACF39F2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7F2-5F75-468A-8561-91D9CE22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19E-7E94-4DC3-992C-499A6ED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80B-FB20-46DB-842C-15F647BF69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F11B-E834-4373-937D-5B44E673FA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D209-E9ED-4B53-99BB-53A2CC81C90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F13C-69EF-4EE5-9302-733AFA6EC9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2916360" y="2276640"/>
            <a:ext cx="2506680" cy="1896840"/>
            <a:chOff x="-2916360" y="2276640"/>
            <a:chExt cx="2506680" cy="18968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2916360" y="227664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-2772000" y="270972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1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042920" y="7245360"/>
            <a:ext cx="2506680" cy="1897200"/>
            <a:chOff x="1042920" y="7245360"/>
            <a:chExt cx="2506680" cy="18972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1042920" y="724536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87280" y="765000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7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612360" y="1413000"/>
            <a:ext cx="2506680" cy="1896840"/>
            <a:chOff x="9612360" y="1413000"/>
            <a:chExt cx="2506680" cy="18968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9612360" y="141300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757080" y="184464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8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612360" y="4149720"/>
            <a:ext cx="2506680" cy="1897200"/>
            <a:chOff x="9612360" y="4149720"/>
            <a:chExt cx="2506680" cy="1897200"/>
          </a:xfrm>
        </p:grpSpPr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9612360" y="4149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9757080" y="458136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9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2844720" y="5373720"/>
            <a:ext cx="2519280" cy="1897200"/>
            <a:chOff x="-2844720" y="5373720"/>
            <a:chExt cx="2519280" cy="189720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-2844720" y="5373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-2773440" y="57135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9 12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1836720" y="57135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796000" y="-2259000"/>
            <a:ext cx="2520720" cy="1917720"/>
            <a:chOff x="5796000" y="-2259000"/>
            <a:chExt cx="2520720" cy="1917720"/>
          </a:xfrm>
        </p:grpSpPr>
        <p:pic>
          <p:nvPicPr>
            <p:cNvPr id="182" name="" descr=""/>
            <p:cNvPicPr/>
            <p:nvPr/>
          </p:nvPicPr>
          <p:blipFill>
            <a:blip r:embed="rId7"/>
            <a:stretch/>
          </p:blipFill>
          <p:spPr>
            <a:xfrm>
              <a:off x="5796000" y="-2259000"/>
              <a:ext cx="25063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868720" y="-182700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2 14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4000" y="-189864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92360" y="-2187720"/>
            <a:ext cx="2506680" cy="1917720"/>
            <a:chOff x="1692360" y="-2187720"/>
            <a:chExt cx="2506680" cy="1917720"/>
          </a:xfrm>
        </p:grpSpPr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1692360" y="-2187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64000" y="-1755720"/>
              <a:ext cx="2305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13 4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360" y="-18273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940360" y="7174080"/>
            <a:ext cx="2506680" cy="1915560"/>
            <a:chOff x="5940360" y="7174080"/>
            <a:chExt cx="2506680" cy="1915560"/>
          </a:xfrm>
        </p:grpSpPr>
        <p:pic>
          <p:nvPicPr>
            <p:cNvPr id="190" name="" descr=""/>
            <p:cNvPicPr/>
            <p:nvPr/>
          </p:nvPicPr>
          <p:blipFill>
            <a:blip r:embed="rId9"/>
            <a:stretch/>
          </p:blipFill>
          <p:spPr>
            <a:xfrm>
              <a:off x="5940360" y="717408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940360" y="76053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5 20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7080" y="7532640"/>
              <a:ext cx="0" cy="15570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1.37813 -0.36481 E">
                                      <p:cBhvr>
                                        <p:cTn id="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28038 -1.40857 E">
                                      <p:cBhvr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1.32882 -0.16806 E">
                                      <p:cBhvr>
                                        <p:cTn id="14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1.34184 0.1662 E">
                                      <p:cBhvr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1227 L 1.12604 -1.1375 E">
                                      <p:cBhvr>
                                        <p:cTn id="2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65052 1.3301 E">
                                      <p:cBhvr>
                                        <p:cTn id="2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85364 -1.45209 E">
                                      <p:cBhvr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C -0.00069 0.04259 -0.00069 0.08519 -0.00208 0.12778 C -0.00208 0.1294 -0.01163 0.16458 -0.0125 0.16667 C -0.01389 0.16944 -0.01701 0.16991 -0.01875 0.17222 C -0.02118 0.17546 -0.02309 0.1794 -0.025 0.18333 C -0.0526 0.23866 -0.09548 0.26111 -0.14375 0.26944 C -0.20312 0.2662 -0.26232 0.24699 -0.31458 0.28889 C -0.321 0.30023 -0.32795 0.30648 -0.33541 0.31667 C -0.33906 0.3287 -0.34253 0.33935 -0.34791 0.34977 C -0.34861 0.35463 -0.35 0.35926 -0.35 0.36389 C -0.35 0.38333 -0.34913 0.40255 -0.34791 0.42199 C -0.34635 0.44606 -0.32239 0.45926 -0.30833 0.46667 C -0.28576 0.46481 -0.27465 0.4662 -0.25625 0.4581 C -0.24774 0.44954 -0.24027 0.44861 -0.23125 0.44144 C -0.20416 0.42106 -0.18767 0.41458 -0.15625 0.4081 C -0.1368 0.40926 -0.11736 0.4088 -0.09791 0.41088 C -0.0842 0.41273 -0.075 0.43611 -0.06666 0.44722 C -0.06406 0.45046 -0.05555 0.45764 -0.05208 0.46088 C -0.05069 0.46389 -0.05 0.46759 -0.04791 0.46921 C -0.04479 0.47222 -0.03784 0.46991 -0.0375 0.475 C -0.03489 0.51273 -0.03611 0.55116 -0.03958 0.58889 C -0.04184 0.61389 -0.06562 0.62431 -0.07916 0.63333 C -0.14514 0.62894 -0.2092 0.62546 -0.275 0.63333 C -0.28576 0.63796 -0.29791 0.63866 -0.30833 0.64421 C -0.31632 0.64884 -0.32378 0.65509 -0.33125 0.66088 C -0.34132 0.69444 -0.32812 0.65949 -0.34375 0.68056 C -0.34531 0.68241 -0.34514 0.68611 -0.34583 0.68889 C -0.35052 0.70556 -0.34913 0.70046 -0.35625 0.71667 C -0.35989 0.74097 -0.36059 0.73866 -0.35625 0.77477 C -0.3559 0.77801 -0.3533 0.78032 -0.35208 0.7831 C -0.34878 0.79074 -0.34809 0.79792 -0.34166 0.80278 C -0.32691 0.81343 -0.30538 0.81458 -0.28958 0.81644 C -0.27916 0.82199 -0.26892 0.82292 -0.25833 0.82778 C -0.24132 0.83542 -0.22378 0.84144 -0.20625 0.84699 C -0.1868 0.86667 -0.17343 0.86458 -0.14791 0.86667 C -0.13593 0.87477 -0.12326 0.87338 -0.11041 0.87755 C -0.10017 0.88796 -0.08732 0.89236 -0.07708 0.90278 C -0.06597 0.91366 -0.05746 0.91921 -0.04375 0.92199 C -0.03593 0.92639 -0.02882 0.93264 -0.02083 0.93611 C -0.00295 0.94352 0.01545 0.94792 0.03334 0.95556 C 0.05157 0.96319 0.06841 0.97616 0.0875 0.98056 C 0.09618 0.98634 0.10382 0.99421 0.1125 1 C 0.11511 1.00162 0.11823 1.00139 0.12084 1.00278 C 0.14028 1.01319 0.12726 1.00856 0.14584 1.025 C 0.14966 1.02847 0.15452 1.02963 0.15834 1.03333 C 0.16164 1.03634 0.16355 1.0412 0.16667 1.04444 C 0.2132 1.09537 0.16059 1.03657 0.18959 1.06389 C 0.20816 1.08125 0.22483 1.10046 0.24792 1.10556 C 0.25348 1.10926 0.25955 1.11181 0.26459 1.11667 C 0.26736 1.11944 0.26962 1.12315 0.27292 1.125 C 0.27691 1.12708 0.28125 1.12685 0.28542 1.12778 C 0.30295 1.13935 0.28351 1.12778 0.30625 1.13611 C 0.33021 1.14468 0.30434 1.13773 0.325 1.14722 C 0.34792 1.15741 0.36563 1.16435 0.38542 1.1831 C 0.38681 1.18704 0.38733 1.1912 0.38959 1.19444 C 0.39115 1.19653 0.39393 1.1956 0.39584 1.19722 C 0.39827 1.19907 0.40018 1.20255 0.40209 1.20556 C 0.40782 1.21435 0.40348 1.21389 0.40834 1.21389 E">
                                      <p:cBhvr>
                                        <p:cTn id="3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5:16Z</dcterms:modified>
  <cp:revision>19</cp:revision>
  <dc:subject/>
  <dc:title>Slide 1</dc:title>
</cp:coreProperties>
</file>