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1DBD-28C6-4363-9AD4-C8A03F4AF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802C-24CB-461E-B915-0B66E376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E82E-6BF0-4F63-93A6-EF94A562C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C53D-33F6-4B5D-8B02-FC8A5BF15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2D25-0D42-42AB-BC1B-DD2CE9597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8BB3-9AA9-4475-9E80-461DC3D7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4B2F-1737-44F8-92C9-0CB6D596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38C5-E92F-48ED-BCDC-0BA7E7C6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8EE6-BB25-4326-A42A-E68192CC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6A74-D485-4A81-9A89-0BC8BBB7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9731-6BF5-4676-8D62-E6FF38F6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2EEE-B88C-4501-B06D-CDDC285A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6228-A385-409E-B876-FFB77542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A676-5207-42FF-8D96-7848C54D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4094-C5A0-4654-8D49-9C676EAF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49C5-7BA2-4FE2-890A-64CA9F5F2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921D-9453-4B8F-B637-353C55E5F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AD2BB-0B2C-45BB-96CA-18E2DC24A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20FEB-D8E5-42FB-91BF-AA5DC19F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5CB2D-50BF-4612-85B5-7128AA4C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5110F-CD03-42FF-B9FC-B6CE1E9D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8941E-A313-44BF-91BF-245EBA9A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BDEC-64E4-42EA-BF86-B375FBD0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56A90-CE1A-4865-A65C-BE1A64EF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25479-8C1B-4FEB-8782-11B0EBF4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26C0E-B46A-4AE3-8FC0-9BF150E7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D1E7B-7357-4121-8811-53F0F9FE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5BD09-F7D4-44EA-AFB2-B6A86C02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250E7-380A-45C5-9458-A6A1F34B3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9B343-4E07-42BF-8788-1D39BF716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99E50-E705-4558-A1B8-F3C55A47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643B2-6C0D-4CC9-A67B-B7A2258C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CDA16-A524-4EBB-90B1-04C5EBAE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37B3-77B1-4D0B-ADD6-3310D2A7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98421-7D61-435E-B899-071B9653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C5FB8-5F87-4A6D-9C01-7B5F062B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4DD7B-92FB-4346-A300-7F157836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51F47-54AC-4F22-B57C-F8E6E139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6C149-40F9-4B2B-85A9-082B0497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9FCC4-C8EB-4EA6-9C10-3A45B81E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1D82F-3855-4F54-8379-5E09D6C1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92F2E-3E54-4712-B918-DA7783385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F0D48-0945-407B-A768-06EB74971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A992-CC43-4B19-87B7-05A6FFE8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FA60-56C4-4B14-97CE-183892BC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7213-C415-4846-A68D-68CBFE9B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8027-BFCC-456E-984A-69FA2C40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94E3-67C3-409F-975B-A230E5D8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F44C-6EE8-4390-AAE2-D499CFB346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FEF5-6150-4547-9BE2-384814F3E8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0D23-70AD-41D1-AC0C-D0D2C362DE2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07A7-D632-45DC-806F-A99408392CD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2916360" y="2276640"/>
            <a:ext cx="2506680" cy="1896840"/>
            <a:chOff x="-2916360" y="2276640"/>
            <a:chExt cx="2506680" cy="1896840"/>
          </a:xfrm>
        </p:grpSpPr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-2916360" y="2276640"/>
              <a:ext cx="2506680" cy="189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-2772000" y="2709720"/>
              <a:ext cx="21607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400" spc="-1" strike="noStrike">
                  <a:solidFill>
                    <a:srgbClr val="333333"/>
                  </a:solidFill>
                  <a:latin typeface="Comic Sans MS"/>
                </a:rPr>
                <a:t>11</a:t>
              </a:r>
              <a:endParaRPr b="0" lang="en-US" sz="8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042920" y="7245360"/>
            <a:ext cx="2506680" cy="1897200"/>
            <a:chOff x="1042920" y="7245360"/>
            <a:chExt cx="2506680" cy="1897200"/>
          </a:xfrm>
        </p:grpSpPr>
        <p:pic>
          <p:nvPicPr>
            <p:cNvPr id="169" name="" descr=""/>
            <p:cNvPicPr/>
            <p:nvPr/>
          </p:nvPicPr>
          <p:blipFill>
            <a:blip r:embed="rId3"/>
            <a:stretch/>
          </p:blipFill>
          <p:spPr>
            <a:xfrm>
              <a:off x="1042920" y="7245360"/>
              <a:ext cx="2506680" cy="189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1187280" y="7650000"/>
              <a:ext cx="21607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400" spc="-1" strike="noStrike">
                  <a:solidFill>
                    <a:srgbClr val="333333"/>
                  </a:solidFill>
                  <a:latin typeface="Comic Sans MS"/>
                </a:rPr>
                <a:t>17</a:t>
              </a:r>
              <a:endParaRPr b="0" lang="en-US" sz="8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9612360" y="1413000"/>
            <a:ext cx="2506680" cy="1896840"/>
            <a:chOff x="9612360" y="1413000"/>
            <a:chExt cx="2506680" cy="1896840"/>
          </a:xfrm>
        </p:grpSpPr>
        <p:pic>
          <p:nvPicPr>
            <p:cNvPr id="172" name="" descr=""/>
            <p:cNvPicPr/>
            <p:nvPr/>
          </p:nvPicPr>
          <p:blipFill>
            <a:blip r:embed="rId4"/>
            <a:stretch/>
          </p:blipFill>
          <p:spPr>
            <a:xfrm>
              <a:off x="9612360" y="1413000"/>
              <a:ext cx="2506680" cy="189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9757080" y="1844640"/>
              <a:ext cx="21603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400" spc="-1" strike="noStrike">
                  <a:solidFill>
                    <a:srgbClr val="333333"/>
                  </a:solidFill>
                  <a:latin typeface="Comic Sans MS"/>
                </a:rPr>
                <a:t>8</a:t>
              </a:r>
              <a:endParaRPr b="0" lang="en-US" sz="8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9612360" y="4149720"/>
            <a:ext cx="2506680" cy="1897200"/>
            <a:chOff x="9612360" y="4149720"/>
            <a:chExt cx="2506680" cy="1897200"/>
          </a:xfrm>
        </p:grpSpPr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9612360" y="4149720"/>
              <a:ext cx="2506680" cy="189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9757080" y="4581360"/>
              <a:ext cx="21603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400" spc="-1" strike="noStrike">
                  <a:solidFill>
                    <a:srgbClr val="333333"/>
                  </a:solidFill>
                  <a:latin typeface="Comic Sans MS"/>
                </a:rPr>
                <a:t>19</a:t>
              </a:r>
              <a:endParaRPr b="0" lang="en-US" sz="8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-2844720" y="5373720"/>
            <a:ext cx="2519280" cy="1897200"/>
            <a:chOff x="-2844720" y="5373720"/>
            <a:chExt cx="2519280" cy="1897200"/>
          </a:xfrm>
        </p:grpSpPr>
        <p:pic>
          <p:nvPicPr>
            <p:cNvPr id="178" name="" descr=""/>
            <p:cNvPicPr/>
            <p:nvPr/>
          </p:nvPicPr>
          <p:blipFill>
            <a:blip r:embed="rId6"/>
            <a:stretch/>
          </p:blipFill>
          <p:spPr>
            <a:xfrm>
              <a:off x="-2844720" y="5373720"/>
              <a:ext cx="2506680" cy="189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-2773440" y="5713560"/>
              <a:ext cx="2448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333333"/>
                  </a:solidFill>
                  <a:latin typeface="Comic Sans MS"/>
                </a:rPr>
                <a:t>9 12</a:t>
              </a:r>
              <a:r>
                <a:rPr b="1" lang="en-US" sz="8400" spc="-1" strike="noStrike">
                  <a:solidFill>
                    <a:srgbClr val="333333"/>
                  </a:solidFill>
                  <a:latin typeface="Comic Sans MS"/>
                </a:rPr>
                <a:t> </a:t>
              </a:r>
              <a:endParaRPr b="0" lang="en-US" sz="8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-1836720" y="5713560"/>
              <a:ext cx="0" cy="155736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5796000" y="-2259000"/>
            <a:ext cx="2520720" cy="1917720"/>
            <a:chOff x="5796000" y="-2259000"/>
            <a:chExt cx="2520720" cy="1917720"/>
          </a:xfrm>
        </p:grpSpPr>
        <p:pic>
          <p:nvPicPr>
            <p:cNvPr id="182" name="" descr=""/>
            <p:cNvPicPr/>
            <p:nvPr/>
          </p:nvPicPr>
          <p:blipFill>
            <a:blip r:embed="rId7"/>
            <a:stretch/>
          </p:blipFill>
          <p:spPr>
            <a:xfrm>
              <a:off x="5796000" y="-2259000"/>
              <a:ext cx="2506320" cy="189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5868720" y="-1827000"/>
              <a:ext cx="2448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333333"/>
                  </a:solidFill>
                  <a:latin typeface="Comic Sans MS"/>
                </a:rPr>
                <a:t>2 14</a:t>
              </a:r>
              <a:r>
                <a:rPr b="1" lang="en-US" sz="8400" spc="-1" strike="noStrike">
                  <a:solidFill>
                    <a:srgbClr val="333333"/>
                  </a:solidFill>
                  <a:latin typeface="Comic Sans MS"/>
                </a:rPr>
                <a:t> </a:t>
              </a:r>
              <a:endParaRPr b="0" lang="en-US" sz="8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04000" y="-1898640"/>
              <a:ext cx="0" cy="155736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692360" y="-2187720"/>
            <a:ext cx="2506680" cy="1917720"/>
            <a:chOff x="1692360" y="-2187720"/>
            <a:chExt cx="2506680" cy="1917720"/>
          </a:xfrm>
        </p:grpSpPr>
        <p:pic>
          <p:nvPicPr>
            <p:cNvPr id="186" name="" descr=""/>
            <p:cNvPicPr/>
            <p:nvPr/>
          </p:nvPicPr>
          <p:blipFill>
            <a:blip r:embed="rId8"/>
            <a:stretch/>
          </p:blipFill>
          <p:spPr>
            <a:xfrm>
              <a:off x="1692360" y="-2187720"/>
              <a:ext cx="2506680" cy="189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1764000" y="-1755720"/>
              <a:ext cx="23050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333333"/>
                  </a:solidFill>
                  <a:latin typeface="Comic Sans MS"/>
                </a:rPr>
                <a:t>13 4</a:t>
              </a:r>
              <a:r>
                <a:rPr b="1" lang="en-US" sz="8400" spc="-1" strike="noStrike">
                  <a:solidFill>
                    <a:srgbClr val="333333"/>
                  </a:solidFill>
                  <a:latin typeface="Comic Sans MS"/>
                </a:rPr>
                <a:t> </a:t>
              </a:r>
              <a:endParaRPr b="0" lang="en-US" sz="8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32360" y="-1827360"/>
              <a:ext cx="0" cy="155736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940360" y="7174080"/>
            <a:ext cx="2506680" cy="1915560"/>
            <a:chOff x="5940360" y="7174080"/>
            <a:chExt cx="2506680" cy="1915560"/>
          </a:xfrm>
        </p:grpSpPr>
        <p:pic>
          <p:nvPicPr>
            <p:cNvPr id="190" name="" descr=""/>
            <p:cNvPicPr/>
            <p:nvPr/>
          </p:nvPicPr>
          <p:blipFill>
            <a:blip r:embed="rId9"/>
            <a:stretch/>
          </p:blipFill>
          <p:spPr>
            <a:xfrm>
              <a:off x="5940360" y="7174080"/>
              <a:ext cx="2506680" cy="189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5940360" y="7605360"/>
              <a:ext cx="2448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333333"/>
                  </a:solidFill>
                  <a:latin typeface="Comic Sans MS"/>
                </a:rPr>
                <a:t>5 20</a:t>
              </a:r>
              <a:r>
                <a:rPr b="1" lang="en-US" sz="8400" spc="-1" strike="noStrike">
                  <a:solidFill>
                    <a:srgbClr val="333333"/>
                  </a:solidFill>
                  <a:latin typeface="Comic Sans MS"/>
                </a:rPr>
                <a:t> </a:t>
              </a:r>
              <a:endParaRPr b="0" lang="en-US" sz="8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77080" y="7532640"/>
              <a:ext cx="0" cy="15570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7.40741E-007 L 1.37813 -0.36481 E">
                                      <p:cBhvr>
                                        <p:cTn id="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07407E-006 L 0.28038 -1.40857 E">
                                      <p:cBhvr>
                                        <p:cTn id="10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7.40741E-007 L -1.32882 -0.16806 E">
                                      <p:cBhvr>
                                        <p:cTn id="14" dur="1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96296E-006 L -1.34184 0.1662 E">
                                      <p:cBhvr>
                                        <p:cTn id="18" dur="1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62 -0.01227 L 1.12604 -1.1375 E">
                                      <p:cBhvr>
                                        <p:cTn id="22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33333E-006 L 0.65052 1.3301 E">
                                      <p:cBhvr>
                                        <p:cTn id="26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85185E-006 L -0.85364 -1.45209 E">
                                      <p:cBhvr>
                                        <p:cTn id="30" dur="1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33333E-006 C -0.00069 0.04259 -0.00069 0.08519 -0.00208 0.12778 C -0.00208 0.1294 -0.01163 0.16458 -0.0125 0.16667 C -0.01389 0.16944 -0.01701 0.16991 -0.01875 0.17222 C -0.02118 0.17546 -0.02309 0.1794 -0.025 0.18333 C -0.0526 0.23866 -0.09548 0.26111 -0.14375 0.26944 C -0.20312 0.2662 -0.26232 0.24699 -0.31458 0.28889 C -0.321 0.30023 -0.32795 0.30648 -0.33541 0.31667 C -0.33906 0.3287 -0.34253 0.33935 -0.34791 0.34977 C -0.34861 0.35463 -0.35 0.35926 -0.35 0.36389 C -0.35 0.38333 -0.34913 0.40255 -0.34791 0.42199 C -0.34635 0.44606 -0.32239 0.45926 -0.30833 0.46667 C -0.28576 0.46481 -0.27465 0.4662 -0.25625 0.4581 C -0.24774 0.44954 -0.24027 0.44861 -0.23125 0.44144 C -0.20416 0.42106 -0.18767 0.41458 -0.15625 0.4081 C -0.1368 0.40926 -0.11736 0.4088 -0.09791 0.41088 C -0.0842 0.41273 -0.075 0.43611 -0.06666 0.44722 C -0.06406 0.45046 -0.05555 0.45764 -0.05208 0.46088 C -0.05069 0.46389 -0.05 0.46759 -0.04791 0.46921 C -0.04479 0.47222 -0.03784 0.46991 -0.0375 0.475 C -0.03489 0.51273 -0.03611 0.55116 -0.03958 0.58889 C -0.04184 0.61389 -0.06562 0.62431 -0.07916 0.63333 C -0.14514 0.62894 -0.2092 0.62546 -0.275 0.63333 C -0.28576 0.63796 -0.29791 0.63866 -0.30833 0.64421 C -0.31632 0.64884 -0.32378 0.65509 -0.33125 0.66088 C -0.34132 0.69444 -0.32812 0.65949 -0.34375 0.68056 C -0.34531 0.68241 -0.34514 0.68611 -0.34583 0.68889 C -0.35052 0.70556 -0.34913 0.70046 -0.35625 0.71667 C -0.35989 0.74097 -0.36059 0.73866 -0.35625 0.77477 C -0.3559 0.77801 -0.3533 0.78032 -0.35208 0.7831 C -0.34878 0.79074 -0.34809 0.79792 -0.34166 0.80278 C -0.32691 0.81343 -0.30538 0.81458 -0.28958 0.81644 C -0.27916 0.82199 -0.26892 0.82292 -0.25833 0.82778 C -0.24132 0.83542 -0.22378 0.84144 -0.20625 0.84699 C -0.1868 0.86667 -0.17343 0.86458 -0.14791 0.86667 C -0.13593 0.87477 -0.12326 0.87338 -0.11041 0.87755 C -0.10017 0.88796 -0.08732 0.89236 -0.07708 0.90278 C -0.06597 0.91366 -0.05746 0.91921 -0.04375 0.92199 C -0.03593 0.92639 -0.02882 0.93264 -0.02083 0.93611 C -0.00295 0.94352 0.01545 0.94792 0.03334 0.95556 C 0.05157 0.96319 0.06841 0.97616 0.0875 0.98056 C 0.09618 0.98634 0.10382 0.99421 0.1125 1 C 0.11511 1.00162 0.11823 1.00139 0.12084 1.00278 C 0.14028 1.01319 0.12726 1.00856 0.14584 1.025 C 0.14966 1.02847 0.15452 1.02963 0.15834 1.03333 C 0.16164 1.03634 0.16355 1.0412 0.16667 1.04444 C 0.2132 1.09537 0.16059 1.03657 0.18959 1.06389 C 0.20816 1.08125 0.22483 1.10046 0.24792 1.10556 C 0.25348 1.10926 0.25955 1.11181 0.26459 1.11667 C 0.26736 1.11944 0.26962 1.12315 0.27292 1.125 C 0.27691 1.12708 0.28125 1.12685 0.28542 1.12778 C 0.30295 1.13935 0.28351 1.12778 0.30625 1.13611 C 0.33021 1.14468 0.30434 1.13773 0.325 1.14722 C 0.34792 1.15741 0.36563 1.16435 0.38542 1.1831 C 0.38681 1.18704 0.38733 1.1912 0.38959 1.19444 C 0.39115 1.19653 0.39393 1.1956 0.39584 1.19722 C 0.39827 1.19907 0.40018 1.20255 0.40209 1.20556 C 0.40782 1.21435 0.40348 1.21389 0.40834 1.21389 E">
                                      <p:cBhvr>
                                        <p:cTn id="34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2-01-15T00:05:16Z</dcterms:modified>
  <cp:revision>19</cp:revision>
  <dc:subject/>
  <dc:title>Slide 1</dc:title>
</cp:coreProperties>
</file>