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C02-7980-4E0A-9597-F97275AA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90B-EA10-4F49-97F0-EFD5CC4E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84D-1F04-45E2-AD3B-885E8243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FE5-889F-473F-A1A1-6F22577D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40C0-DE74-49F2-91DB-46D577AF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6F4A-BA82-4927-9444-0EF1A792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E46F-1507-4AB0-9C7B-377ACA8D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35F6-886E-4533-A4EA-E736DD90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977B-16A1-4F94-A13F-E8D17E73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8EF4-69F2-4E7B-A60B-65B9E659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CF56-5E75-4F0B-97D5-35FDBE64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19A-985A-446E-8633-F4DE6098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DEB2-3934-4D67-94DE-F9E6B4F9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C3D6-82E0-45E0-A43D-36779256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C783-CC90-42E8-ACAA-DEE15FA3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AD89-6557-469E-8737-443104A0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56E8-8699-4322-B8AB-07F86E69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931-9C7C-4BCD-87F7-1A800643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324-C1CD-4DC4-AC12-CDEB215B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106-65F3-4059-A955-0096E32E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8FCC-810C-4D8F-B99C-16DC339E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7ED-D103-4A56-A505-073E58F2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725-BA71-432C-B6C6-B49F6A67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A6E-2993-42AB-B6B7-79F2629A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A225-DB2B-4EF9-A264-07E423E79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9D6E-0C7C-4F00-A8BF-9443E62EE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2352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76720" y="836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3357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el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5013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ulifl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6720" y="620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e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522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2133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1844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ic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3068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na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20000" y="4292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ris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5877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96000" y="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td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148428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g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41497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tat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24360" y="602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ndwi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649000">
            <a:off x="3276720" y="69192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649000">
            <a:off x="6300720" y="321264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649000">
            <a:off x="3419640" y="479700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649000">
            <a:off x="5292360" y="404280"/>
            <a:ext cx="1079640" cy="100836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360"/>
              <a:gd name="textAreaBottom" fmla="*/ 55620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649000">
            <a:off x="6012000" y="501300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649000">
            <a:off x="3276720" y="191592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649000">
            <a:off x="6732720" y="1628280"/>
            <a:ext cx="1079280" cy="100836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360"/>
              <a:gd name="textAreaBottom" fmla="*/ 55620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2649000">
            <a:off x="3851280" y="285228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649000">
            <a:off x="7093080" y="407628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649000">
            <a:off x="3635280" y="566064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649000">
            <a:off x="6877080" y="-17136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649000">
            <a:off x="4500720" y="1267920"/>
            <a:ext cx="1079280" cy="100836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360"/>
              <a:gd name="textAreaBottom" fmla="*/ 55620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649000">
            <a:off x="3851280" y="393336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649000">
            <a:off x="2843280" y="-24300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649000">
            <a:off x="6227640" y="584964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6643800"/>
            <a:ext cx="5796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©MFL Sunderland 2013 CS </a:t>
            </a:r>
            <a:r>
              <a:rPr b="0" lang="en-US" sz="800" spc="-1" strike="noStrike" u="sng">
                <a:solidFill>
                  <a:srgbClr val="98eee3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31948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08720" y="2852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j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692280"/>
            <a:ext cx="24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yonna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7640" y="5157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tt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56360" y="3716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ca-C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1916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romage fr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27640" y="5661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ange ju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3357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pco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0720" y="260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pric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71640" y="6093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72360" y="155736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8720" y="1413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6360" y="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96000" y="2421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p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4292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adis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4653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mat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649000">
            <a:off x="5435640" y="270792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649000">
            <a:off x="3780000" y="47592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649000">
            <a:off x="4642920" y="4941360"/>
            <a:ext cx="1079640" cy="100836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360"/>
              <a:gd name="textAreaBottom" fmla="*/ 55620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649000">
            <a:off x="6587640" y="3499920"/>
            <a:ext cx="1079640" cy="100836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360"/>
              <a:gd name="textAreaBottom" fmla="*/ 55620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649000">
            <a:off x="3851280" y="169992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649000">
            <a:off x="7020000" y="5444640"/>
            <a:ext cx="1079280" cy="100836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360"/>
              <a:gd name="textAreaBottom" fmla="*/ 55620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649000">
            <a:off x="3492360" y="321264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649000">
            <a:off x="6659640" y="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649000">
            <a:off x="2843280" y="584964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649000">
            <a:off x="7740720" y="134100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649000">
            <a:off x="5795640" y="1267920"/>
            <a:ext cx="1079640" cy="100836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360"/>
              <a:gd name="textAreaBottom" fmla="*/ 55620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649000">
            <a:off x="2916360" y="-17136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649000">
            <a:off x="6877080" y="227628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649000">
            <a:off x="3059280" y="4076280"/>
            <a:ext cx="1079280" cy="1008000"/>
          </a:xfrm>
          <a:custGeom>
            <a:avLst/>
            <a:gdLst>
              <a:gd name="textAreaLeft" fmla="*/ 484200 w 1079280"/>
              <a:gd name="textAreaRight" fmla="*/ 595080 w 107928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649000">
            <a:off x="6300720" y="4436640"/>
            <a:ext cx="1079640" cy="1008000"/>
          </a:xfrm>
          <a:custGeom>
            <a:avLst/>
            <a:gdLst>
              <a:gd name="textAreaLeft" fmla="*/ 484200 w 1079640"/>
              <a:gd name="textAreaRight" fmla="*/ 595440 w 1079640"/>
              <a:gd name="textAreaTop" fmla="*/ 452160 h 1008000"/>
              <a:gd name="textAreaBottom" fmla="*/ 555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87" y="9687"/>
                </a:lnTo>
                <a:lnTo>
                  <a:pt x="10800" y="0"/>
                </a:lnTo>
                <a:lnTo>
                  <a:pt x="11913" y="9687"/>
                </a:lnTo>
                <a:lnTo>
                  <a:pt x="21600" y="10800"/>
                </a:lnTo>
                <a:lnTo>
                  <a:pt x="11913" y="11913"/>
                </a:lnTo>
                <a:lnTo>
                  <a:pt x="10800" y="21600"/>
                </a:lnTo>
                <a:lnTo>
                  <a:pt x="9687" y="1191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</cp:lastModifiedBy>
  <dcterms:modified xsi:type="dcterms:W3CDTF">2013-02-15T09:04:57Z</dcterms:modified>
  <cp:revision>221</cp:revision>
  <dc:subject/>
  <dc:title>KS2 Yr 5 French – Lesson 1  </dc:title>
</cp:coreProperties>
</file>