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B5E-64C6-4916-9746-0480513F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399-D23C-4674-9350-0EDDBCD5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817-8EAA-4E2F-829A-EC95FF07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340-F7A4-4700-B65F-569CC314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9EAF-FF0F-43DF-8D44-0F78C900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1A82-586D-469C-965C-A6BAC748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24A7-1DB9-44D2-B16E-7432FA58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321F-9F7E-49F5-857B-AECDB2DC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2FF8-FEBC-4F4B-9FE8-50A1CE4B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E1A1-5421-45BE-9D1A-4F8FD764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956F-FA82-4257-89F2-F1D8A073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648-9644-4F66-B047-3C3E82DB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E984-1D89-4B56-B244-60BB53AE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FA36-FDA0-4461-820C-3F3A05E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D579-0845-4C66-930A-6E8E07CB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2A66-1826-446A-B75F-2EB2B81E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7538-BEA8-4C9D-9F05-EF8FD1D2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A48-BF54-4DEC-A712-F7931ED8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5BE-09AD-4EA5-A115-B0BAD5F3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ABE-330B-4111-867A-6EBAB860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A19-82AD-4D17-8F88-9412D33B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9C5-BAC3-44D6-A257-67A913F3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914-FF76-4A40-B341-9BE67A51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BE4-D5E5-438A-B608-BE05F82F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E267-525E-4D97-869F-9C41750B0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18CE-7D23-407E-BA1E-11DEE6014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2352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76720" y="83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3357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el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501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ulifl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720" y="62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e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522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133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844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ic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3068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na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4292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is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877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96000" y="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td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1484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g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4149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tat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602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ndwi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649000">
            <a:off x="3276720" y="69192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649000">
            <a:off x="6300720" y="321264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649000">
            <a:off x="3419640" y="479700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649000">
            <a:off x="5292360" y="404280"/>
            <a:ext cx="1079640" cy="100836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649000">
            <a:off x="6012000" y="501300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649000">
            <a:off x="3276720" y="191592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649000">
            <a:off x="6732720" y="1628280"/>
            <a:ext cx="1079280" cy="100836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649000">
            <a:off x="3851280" y="285228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649000">
            <a:off x="7093080" y="407628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649000">
            <a:off x="3635280" y="566064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649000">
            <a:off x="6877080" y="-17136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649000">
            <a:off x="4500720" y="1267920"/>
            <a:ext cx="1079280" cy="100836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649000">
            <a:off x="3851280" y="393336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649000">
            <a:off x="2843280" y="-24300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649000">
            <a:off x="6227640" y="584964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6643800"/>
            <a:ext cx="5796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98eee3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3194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08720" y="2852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692280"/>
            <a:ext cx="24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onna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5157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tt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37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916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romage fr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5661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ange ju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3357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pc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0720" y="260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pric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1640" y="609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72360" y="15573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141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96000" y="2421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p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4292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adi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465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mat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649000">
            <a:off x="5435640" y="270792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649000">
            <a:off x="3780000" y="47592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649000">
            <a:off x="4642920" y="4941360"/>
            <a:ext cx="1079640" cy="100836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649000">
            <a:off x="6587640" y="3499920"/>
            <a:ext cx="1079640" cy="100836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649000">
            <a:off x="3851280" y="169992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649000">
            <a:off x="7020000" y="5444640"/>
            <a:ext cx="1079280" cy="100836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649000">
            <a:off x="3492360" y="321264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649000">
            <a:off x="6659640" y="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649000">
            <a:off x="2843280" y="584964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649000">
            <a:off x="7740720" y="134100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649000">
            <a:off x="5795640" y="1267920"/>
            <a:ext cx="1079640" cy="100836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649000">
            <a:off x="2916360" y="-17136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649000">
            <a:off x="6877080" y="227628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649000">
            <a:off x="3059280" y="407628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649000">
            <a:off x="6300720" y="443664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3-02-15T09:04:57Z</dcterms:modified>
  <cp:revision>221</cp:revision>
  <dc:subject/>
  <dc:title>KS2 Yr 5 French – Lesson 1  </dc:title>
</cp:coreProperties>
</file>