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E50-51A7-4818-A18A-EBA00FCDC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E0B-A290-4B8E-B053-7C4916757C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3FC-F858-4A15-AFDA-C5E8E198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8FA-1805-4010-841E-9AA6C7B7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C2A-2555-49C2-9C7B-E05D1CD5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1BE-6E0A-4FE4-900F-070C00A1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F69-06A0-42A0-8793-90FB3C5E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17A9-4515-4963-B27C-6587375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ECE-BD5B-47BE-810F-4480605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6D08-64B9-4091-9A8B-28E0ECC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BE27-D650-48BB-9B16-17D8A36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41DB-51D3-4B1C-8E26-23106FED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C81-8E52-4739-B3B6-39767881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52C-95AD-4452-A6CA-A55914D7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0CE-3DF6-4126-A002-E4934BE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33D0-67D5-45CC-8975-FF1BEB88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86E-A520-45CE-BBAF-74715451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31B-201F-434D-81A8-6D0E4BD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94DA-A101-4D0A-9744-447C54A4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5054-3C01-4855-8843-0169F61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FD1E-CC8E-483B-A5C4-4AB09C2D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EC84-C39A-46ED-A5B8-C1B5B516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174C-4BFC-46CB-99D5-EEDD42C7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02C0-6873-4D7D-B28F-A2ED742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F2C-4E02-4D02-B85A-56157AC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386D-9F7F-42A9-9241-FB0E6C8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6C4D-ABDD-4812-BA71-DA2AEA7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DD7C-EF6A-4F3B-B5AF-AA7AF0D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3347-37F5-460B-854A-A54571B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A8D5-3389-463E-AF86-10A55B2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7D5A-3EBB-43DC-9EE9-8CFCE394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2203-B343-4A25-9F55-8554FAF5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6868-81FB-47C9-A3D0-43FFF8AB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C891-4848-4661-A0E8-F0C7F60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4EE4-F177-4795-842E-9AADFD4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01B-2B3A-49AD-9633-65AECDAD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5214-877E-4164-96F4-5046DE6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93C1-DEEF-458D-B374-99C4BE1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3B3F-7206-4489-8997-5C6D6F09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B858-D6CD-478F-9BEB-6E99D68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E6B7-A01F-42EA-AC31-223B1D06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FCC8-701A-45E0-9B08-90C1B45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D2D7-327B-406B-B10C-C29E983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EDA4-2205-477F-BB4B-0A6BAA1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1641-22A9-41D1-BDAB-21D03CDA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C83-90AB-4AD2-9F4E-0BBCABD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3F1-8163-4624-A47D-8718288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DDC-51F1-4B84-9234-A1996D2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65D-CC63-49BD-98FB-68A4091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F88-41AE-4D33-B9DE-712E082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5DF-3068-4C2D-9FCC-29F76E82AE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D41-38A3-4315-A396-FCB7855180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4507-0708-4383-9BF1-4541B7FE53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83F-E767-4B48-876F-6F459AD263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1" descr="PH03396I"/>
          <p:cNvPicPr/>
          <p:nvPr/>
        </p:nvPicPr>
        <p:blipFill>
          <a:blip r:embed="rId1"/>
          <a:srcRect l="10699" t="9209" r="10413" b="0"/>
          <a:stretch/>
        </p:blipFill>
        <p:spPr>
          <a:xfrm>
            <a:off x="6300720" y="4797360"/>
            <a:ext cx="2301840" cy="17845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5" name="Picture 22" descr="PH02763J"/>
          <p:cNvPicPr/>
          <p:nvPr/>
        </p:nvPicPr>
        <p:blipFill>
          <a:blip r:embed="rId2"/>
          <a:stretch/>
        </p:blipFill>
        <p:spPr>
          <a:xfrm>
            <a:off x="3409920" y="4792680"/>
            <a:ext cx="2346480" cy="18144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6" name="Picture 23" descr="oranges[1]"/>
          <p:cNvPicPr/>
          <p:nvPr/>
        </p:nvPicPr>
        <p:blipFill>
          <a:blip r:embed="rId3"/>
          <a:srcRect l="0" t="0" r="0" b="5712"/>
          <a:stretch/>
        </p:blipFill>
        <p:spPr>
          <a:xfrm>
            <a:off x="774720" y="4781520"/>
            <a:ext cx="1996920" cy="183348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77" name="Picture 6" descr="lemonade_glass[1]"/>
          <p:cNvPicPr/>
          <p:nvPr/>
        </p:nvPicPr>
        <p:blipFill>
          <a:blip r:embed="rId4"/>
          <a:stretch/>
        </p:blipFill>
        <p:spPr>
          <a:xfrm>
            <a:off x="1073160" y="2378160"/>
            <a:ext cx="1482840" cy="2136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8" name="Picture 7" descr="Pizza-Capricciosa[1]"/>
          <p:cNvPicPr/>
          <p:nvPr/>
        </p:nvPicPr>
        <p:blipFill>
          <a:blip r:embed="rId5"/>
          <a:srcRect l="5885" t="0" r="2940" b="0"/>
          <a:stretch/>
        </p:blipFill>
        <p:spPr>
          <a:xfrm>
            <a:off x="3348000" y="2454120"/>
            <a:ext cx="2478240" cy="17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9" name="Picture 8" descr="Chocolate[1]"/>
          <p:cNvPicPr/>
          <p:nvPr/>
        </p:nvPicPr>
        <p:blipFill>
          <a:blip r:embed="rId6"/>
          <a:stretch/>
        </p:blipFill>
        <p:spPr>
          <a:xfrm>
            <a:off x="4856040" y="293760"/>
            <a:ext cx="210816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0" name="Picture 9" descr="nanos_cheese_product2[1]"/>
          <p:cNvPicPr/>
          <p:nvPr/>
        </p:nvPicPr>
        <p:blipFill>
          <a:blip r:embed="rId7"/>
          <a:stretch/>
        </p:blipFill>
        <p:spPr>
          <a:xfrm>
            <a:off x="250920" y="284040"/>
            <a:ext cx="216036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1" name="Picture 10" descr="NCI_clove_ham[1]"/>
          <p:cNvPicPr/>
          <p:nvPr/>
        </p:nvPicPr>
        <p:blipFill>
          <a:blip r:embed="rId8"/>
          <a:stretch/>
        </p:blipFill>
        <p:spPr>
          <a:xfrm>
            <a:off x="2682720" y="284040"/>
            <a:ext cx="1900440" cy="169560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2" name="Picture 11" descr="j0405246"/>
          <p:cNvPicPr/>
          <p:nvPr/>
        </p:nvPicPr>
        <p:blipFill>
          <a:blip r:embed="rId9"/>
          <a:srcRect l="11905" t="3928" r="24028" b="6304"/>
          <a:stretch/>
        </p:blipFill>
        <p:spPr>
          <a:xfrm>
            <a:off x="7236000" y="293760"/>
            <a:ext cx="1685880" cy="1685880"/>
          </a:xfrm>
          <a:prstGeom prst="rect">
            <a:avLst/>
          </a:prstGeom>
          <a:ln w="38160">
            <a:solidFill>
              <a:srgbClr val="73bbff"/>
            </a:solidFill>
            <a:miter/>
          </a:ln>
        </p:spPr>
      </p:pic>
      <p:pic>
        <p:nvPicPr>
          <p:cNvPr id="183" name="Picture 14" descr="http://www.healthline.com/hlcmsresource/images/diabetesmine/wp-content/uploads/2012/07/Vanilla-Ice-Cream-Cone.jpg"/>
          <p:cNvPicPr/>
          <p:nvPr/>
        </p:nvPicPr>
        <p:blipFill>
          <a:blip r:embed="rId10"/>
          <a:srcRect l="8941" t="4339" r="7237" b="3685"/>
          <a:stretch/>
        </p:blipFill>
        <p:spPr>
          <a:xfrm>
            <a:off x="6738840" y="2378160"/>
            <a:ext cx="1505160" cy="20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7:03Z</dcterms:modified>
  <cp:revision>50</cp:revision>
  <dc:subject/>
  <dc:title>Slide 1</dc:title>
</cp:coreProperties>
</file>