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128F-4404-4344-9A25-058263B16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1F02-2431-46D1-BB22-6C4EEBC1A0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D9A-D076-44AC-BFBA-2120D07F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5B4-1A15-4C51-9FA3-BAF84232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3E5-995D-4080-89EB-80722C91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999-2AAB-45EF-B14C-7D585958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0263-D747-48B6-B7EC-F7C94F92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A542-4158-4AA5-8A0A-EB51E907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8F57-AF0F-42A8-BF05-6782611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FAAA-E49A-421D-B025-00F16DC6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68DF-2FF1-44A1-9DD0-4C132DB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CA41-ACEF-49BB-8399-0530DF02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629B-2270-41A5-A3FA-700DC65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7D5-16C6-4453-9D78-A6294981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0B55-FFC9-4984-9DDE-95D683D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2EF4-4E89-48C3-A98B-523C8DC1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A3F3-B70A-4EE1-9D0E-16048B8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3146-8404-4DF6-9339-938CEDDE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EAFB-4DDC-4F77-AB06-AC436CB0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5B98-7832-4FB3-AD28-13619DB4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81B4-C1BF-42C2-A99E-12B3388B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49A8-FE95-4DCA-A655-EED6189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016D-DAF6-46F2-B44D-4F274AED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D545-E75A-4CEF-8AD2-27091F5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DF6-44F7-4FC5-855A-3B686101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1026-814F-450D-B466-5AFBD9A2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37E0-B14B-4CB0-9238-1CC08D5F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A3325-D502-4291-9FAB-45C1B549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C387-09C6-4FF2-A444-E35E795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DABC-3A97-4E2D-BA6D-381BFC78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74C3-D7FF-4D6A-8D4C-E58704CF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277C-933B-49A6-9DBA-39236C41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AEA3-D074-42CE-86B3-94ADF8E2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ADBE-DF80-4959-9FC7-4CAD31DC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2EAC8-1AA0-43E9-80F3-58F721A4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0AC-02B9-4EA4-81CB-73196CA1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2F0F-2BE8-4502-8016-641DD462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091C-71A2-4EC3-ABC6-86C896F0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AAD4-8242-4A4B-8232-C018E4C8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5C3C-5541-41B6-BAEE-0308D9E1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782D-0A45-48EF-9390-EFC96B03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B784-3A44-4471-A0C7-D841EC6D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8A64-5553-4801-BB57-E5DAA09F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C3BF-B895-4B40-9CDB-A536FB1B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6DFA-AB4B-4F6A-9C76-4438AC19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6F6-7901-46DC-865D-58257C0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F46-A7A5-4ABD-BB3F-7BA3CA42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271-0C9E-4261-A1D1-EB85A872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DAC-4135-4D82-B911-2DA82C9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09C-8945-440D-8DEE-BAFB0B8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F812-6000-4B4D-A097-07AD574C99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2D71-F877-49AF-90A2-E10BC91571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B661-7DE6-481B-ACF9-4B455FCCB0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1350-F64C-465D-9F71-B796E6C9F5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5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6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7" name="Picture 6" descr="lemonade_glass[1]"/>
          <p:cNvPicPr/>
          <p:nvPr/>
        </p:nvPicPr>
        <p:blipFill>
          <a:blip r:embed="rId4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8" name="Picture 7" descr="Pizza-Capricciosa[1]"/>
          <p:cNvPicPr/>
          <p:nvPr/>
        </p:nvPicPr>
        <p:blipFill>
          <a:blip r:embed="rId5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9" name="Picture 8" descr="Chocolate[1]"/>
          <p:cNvPicPr/>
          <p:nvPr/>
        </p:nvPicPr>
        <p:blipFill>
          <a:blip r:embed="rId6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0" name="Picture 9" descr="nanos_cheese_product2[1]"/>
          <p:cNvPicPr/>
          <p:nvPr/>
        </p:nvPicPr>
        <p:blipFill>
          <a:blip r:embed="rId7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1" name="Picture 10" descr="NCI_clove_ham[1]"/>
          <p:cNvPicPr/>
          <p:nvPr/>
        </p:nvPicPr>
        <p:blipFill>
          <a:blip r:embed="rId8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2" name="Picture 11" descr="j0405246"/>
          <p:cNvPicPr/>
          <p:nvPr/>
        </p:nvPicPr>
        <p:blipFill>
          <a:blip r:embed="rId9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3" name="Picture 14" descr="http://www.healthline.com/hlcmsresource/images/diabetesmine/wp-content/uploads/2012/07/Vanilla-Ice-Cream-Cone.jpg"/>
          <p:cNvPicPr/>
          <p:nvPr/>
        </p:nvPicPr>
        <p:blipFill>
          <a:blip r:embed="rId10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5-23T11:17:03Z</dcterms:modified>
  <cp:revision>50</cp:revision>
  <dc:subject/>
  <dc:title>Slide 1</dc:title>
</cp:coreProperties>
</file>