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ABC1-320C-42F3-A89D-99ADB3EA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B43B-4E4D-4F5B-8897-C4AABFE6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E71C-04B7-430F-93BD-28925861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5CC6-79A4-45B2-AE7A-3F58DB02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3A84-F83C-402F-9D9D-9A9358AE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69DA-EB3E-477F-A46D-23B7A8DA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AD72-CB80-43DC-8C12-6E45D2D5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A40E-4BAD-4CF2-880B-8E753175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6540-2220-44C1-8E58-F481800D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A9CE-FDB1-4660-BD54-7DFE57A5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70AF-E1AF-47D0-BCA9-A95F808F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D24D-BAFA-4A0B-84CD-2F1592DA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239D-11C7-45F6-AE89-C6C384AE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6DF8-D99F-4264-9F23-26736D51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A0DD-1BA5-4741-A54F-34161F25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D98F-CC88-4A68-A07E-1CBD5F28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DBC1-B475-4BBC-93DF-A4AFC7417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F748E-FA59-4E12-BCCE-B785D166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284DE-A7A6-4B0C-879A-FD1E58F1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A8C31-B2D8-4707-B96F-4D54F900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5C75D-2561-4914-93CD-393A0561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204CC-2E6A-427E-BB1C-22479C4E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E3AD-DD0B-4B77-BA4F-A93A1609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7E86E-0595-4258-A542-8640BA86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7A89D-223B-4AA2-989B-711F41AE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2D896-CF91-4C51-87D2-F6719594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6AA52-CB93-449B-B45F-DC8BAC6A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FE12D-3DE0-4007-A3FC-9A9C48B8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8A045-10CE-4701-81FA-BCC56A11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1E2E9-2497-45E8-9ED3-93E280E5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F430B-5C97-4F3E-93EA-1A681492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237D3-DA9E-4B39-AD45-1325B685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1ED82-7081-461B-8B20-E611FC9E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B867-C235-4CD9-A3C1-766C7DB0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829A2-9FFF-4CB7-95B0-2DF7849B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225B2-6F28-4325-B4E0-84051B8E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D88BF-A58A-4EE0-BAD7-490F2F48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AA786-5B91-4A2F-AB1D-C5DF7411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173E6-1122-450B-B945-22D20F21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5501F-A6E2-43F6-A5B3-53C3B153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25B5D-2E28-4723-A15E-FA8590B0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F4C80-3F4A-4383-B21E-FCBBF97F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12BB9-F718-4EF7-BA15-B1B62BD0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9255-9FE4-4E28-A6BF-459F3E7C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4344-7490-4549-A981-696DA4CD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931C-619A-48C5-940D-4FC235E8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B3CA-41AC-4D65-89CE-22C7599F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C3BC-F199-4025-A0D0-5F1892B2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C43C-19E4-4F17-BD66-406068D8A54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B0E2-C2F1-41A6-A393-87CF078230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F6C1-7DDE-4D8E-AA20-6E206D43D1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4B71-C4A5-4176-A9D5-D61B22BAD82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1116000" y="404640"/>
            <a:ext cx="7559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1  2  3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4  5  6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5"/>
          <p:cNvSpPr/>
          <p:nvPr/>
        </p:nvSpPr>
        <p:spPr>
          <a:xfrm>
            <a:off x="5940360" y="549360"/>
            <a:ext cx="172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3182760" y="3860640"/>
            <a:ext cx="1729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1455840" y="692280"/>
            <a:ext cx="172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5"/>
          <p:cNvSpPr/>
          <p:nvPr/>
        </p:nvSpPr>
        <p:spPr>
          <a:xfrm>
            <a:off x="900000" y="2205000"/>
            <a:ext cx="172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5219640" y="3090960"/>
            <a:ext cx="172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5"/>
          <p:cNvSpPr/>
          <p:nvPr/>
        </p:nvSpPr>
        <p:spPr>
          <a:xfrm>
            <a:off x="3780000" y="1413000"/>
            <a:ext cx="172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2484360" y="115920"/>
            <a:ext cx="1079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Arial Black"/>
              </a:rPr>
              <a:t>2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Arial Black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Arial Black"/>
              </a:rPr>
              <a:t>6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Box 2"/>
          <p:cNvSpPr/>
          <p:nvPr/>
        </p:nvSpPr>
        <p:spPr>
          <a:xfrm>
            <a:off x="3708360" y="115920"/>
            <a:ext cx="4824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un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Comic Sans MS"/>
              </a:rPr>
              <a:t>deux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trois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Comic Sans MS"/>
              </a:rPr>
              <a:t>quatre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cinq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Comic Sans MS"/>
              </a:rPr>
              <a:t>six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3"/>
          <p:cNvSpPr/>
          <p:nvPr/>
        </p:nvSpPr>
        <p:spPr>
          <a:xfrm>
            <a:off x="1116000" y="404640"/>
            <a:ext cx="7559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1  2  3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4  </a:t>
            </a:r>
            <a:r>
              <a:rPr b="0" lang="en-GB" sz="15000" spc="-1" strike="noStrike">
                <a:solidFill>
                  <a:srgbClr val="0070c0"/>
                </a:solidFill>
                <a:latin typeface="Arial Black"/>
              </a:rPr>
              <a:t>5</a:t>
            </a: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  6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3"/>
          <p:cNvSpPr/>
          <p:nvPr/>
        </p:nvSpPr>
        <p:spPr>
          <a:xfrm>
            <a:off x="1116000" y="404640"/>
            <a:ext cx="7559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70c0"/>
                </a:solidFill>
                <a:latin typeface="Arial Black"/>
              </a:rPr>
              <a:t>1</a:t>
            </a: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  2  3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4  </a:t>
            </a:r>
            <a:r>
              <a:rPr b="0" lang="en-GB" sz="15000" spc="-1" strike="noStrike">
                <a:solidFill>
                  <a:srgbClr val="0070c0"/>
                </a:solidFill>
                <a:latin typeface="Arial Black"/>
              </a:rPr>
              <a:t>5</a:t>
            </a: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  6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3"/>
          <p:cNvSpPr/>
          <p:nvPr/>
        </p:nvSpPr>
        <p:spPr>
          <a:xfrm>
            <a:off x="1116000" y="404640"/>
            <a:ext cx="7559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70c0"/>
                </a:solidFill>
                <a:latin typeface="Arial Black"/>
              </a:rPr>
              <a:t>1</a:t>
            </a: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  2  3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4  </a:t>
            </a:r>
            <a:r>
              <a:rPr b="0" lang="en-GB" sz="15000" spc="-1" strike="noStrike">
                <a:solidFill>
                  <a:srgbClr val="0070c0"/>
                </a:solidFill>
                <a:latin typeface="Arial Black"/>
              </a:rPr>
              <a:t>5</a:t>
            </a: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GB" sz="15000" spc="-1" strike="noStrike">
                <a:solidFill>
                  <a:srgbClr val="0070c0"/>
                </a:solidFill>
                <a:latin typeface="Arial Black"/>
              </a:rPr>
              <a:t>6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1116000" y="404640"/>
            <a:ext cx="7559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70c0"/>
                </a:solidFill>
                <a:latin typeface="Arial Black"/>
              </a:rPr>
              <a:t>1</a:t>
            </a: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  2  </a:t>
            </a:r>
            <a:r>
              <a:rPr b="0" lang="en-GB" sz="15000" spc="-1" strike="noStrike">
                <a:solidFill>
                  <a:srgbClr val="0070c0"/>
                </a:solidFill>
                <a:latin typeface="Arial Black"/>
              </a:rPr>
              <a:t>3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4  </a:t>
            </a:r>
            <a:r>
              <a:rPr b="0" lang="en-GB" sz="15000" spc="-1" strike="noStrike">
                <a:solidFill>
                  <a:srgbClr val="0070c0"/>
                </a:solidFill>
                <a:latin typeface="Arial Black"/>
              </a:rPr>
              <a:t>5</a:t>
            </a: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GB" sz="15000" spc="-1" strike="noStrike">
                <a:solidFill>
                  <a:srgbClr val="0070c0"/>
                </a:solidFill>
                <a:latin typeface="Arial Black"/>
              </a:rPr>
              <a:t>6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3"/>
          <p:cNvSpPr/>
          <p:nvPr/>
        </p:nvSpPr>
        <p:spPr>
          <a:xfrm>
            <a:off x="1116000" y="404640"/>
            <a:ext cx="7559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70c0"/>
                </a:solidFill>
                <a:latin typeface="Arial Black"/>
              </a:rPr>
              <a:t>1</a:t>
            </a: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GB" sz="15000" spc="-1" strike="noStrike">
                <a:solidFill>
                  <a:srgbClr val="0070c0"/>
                </a:solidFill>
                <a:latin typeface="Arial Black"/>
              </a:rPr>
              <a:t>2</a:t>
            </a: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GB" sz="15000" spc="-1" strike="noStrike">
                <a:solidFill>
                  <a:srgbClr val="0070c0"/>
                </a:solidFill>
                <a:latin typeface="Arial Black"/>
              </a:rPr>
              <a:t>3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4  </a:t>
            </a:r>
            <a:r>
              <a:rPr b="0" lang="en-GB" sz="15000" spc="-1" strike="noStrike">
                <a:solidFill>
                  <a:srgbClr val="0070c0"/>
                </a:solidFill>
                <a:latin typeface="Arial Black"/>
              </a:rPr>
              <a:t>5</a:t>
            </a: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GB" sz="15000" spc="-1" strike="noStrike">
                <a:solidFill>
                  <a:srgbClr val="0070c0"/>
                </a:solidFill>
                <a:latin typeface="Arial Black"/>
              </a:rPr>
              <a:t>6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3"/>
          <p:cNvSpPr/>
          <p:nvPr/>
        </p:nvSpPr>
        <p:spPr>
          <a:xfrm>
            <a:off x="1116000" y="404640"/>
            <a:ext cx="7559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1  2  3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4  5  6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5076720" y="620640"/>
            <a:ext cx="172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1160640" y="2349360"/>
            <a:ext cx="172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753000" y="4149720"/>
            <a:ext cx="172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7093080" y="2671920"/>
            <a:ext cx="172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2887560" y="620640"/>
            <a:ext cx="172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3772080" y="3871800"/>
            <a:ext cx="172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900000" y="2421000"/>
            <a:ext cx="172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3203640" y="765000"/>
            <a:ext cx="172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6588000" y="3621240"/>
            <a:ext cx="1729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5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5-11-01T19:23:10Z</dcterms:modified>
  <cp:revision>30</cp:revision>
  <dc:subject/>
  <dc:title>Slide 1</dc:title>
</cp:coreProperties>
</file>