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4F9-3263-49BA-94DE-BF28F446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B71-BB43-49E6-9D3A-D4AA4488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722-BDCB-4926-8E59-9612FDAF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4ED-6F7B-41DE-8764-3447D8BB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3A3A-C3D1-4B05-9CE9-2BC4BE9B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0141-2AC6-4628-BABE-C9B8C61C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BAC5-636B-42F9-B245-C12DACAD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1989-D2FE-4A1C-A99A-7F32FF11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D890-B92D-494D-A057-85A24151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08AE-188E-4C9E-AF44-7D50CC55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2F48-D3DD-4579-98E5-DE1B0799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D2D-CAE6-4278-910C-40A62262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6EF8-D10E-41D1-B008-E9377E0B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8676-0CB3-4535-BB08-1053539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7C2F-B52B-4072-ABA8-16A29F5B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2156-9537-454C-B724-665B909F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B9A0-8FB5-46D8-85A6-9101B108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7351-DD57-4E5B-8048-EAB0F10B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9A11-60BC-4D27-B1D1-5A4980B3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2122-659C-4E3B-B58E-22243946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2914-56D6-4F30-9AFD-259E924B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1848-A71F-4EF4-A945-06EE2CD1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C69-A5A6-4E57-9E4F-1B090197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439A-A067-491D-8B16-2DBB16E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236F-5A14-4916-B25C-B5703035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458E-B71B-4F25-A125-0AC18FA1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CCCF-0528-49D0-9CE6-13CE45F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E392-271E-4DB8-BE29-EE0BDC9D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C5D3-6CDD-4AE3-8FDC-E901C46F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A49B-4FCF-479F-BE60-FF885E57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EB49-B03E-4BE4-9641-80FE6EE0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D3FA-2596-4B79-85D7-66234F75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2579-C190-499A-B869-FA223132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5BC-4DFB-47B7-83D7-0C7BEC80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B391B-468F-47A4-A603-64C0BCDA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6D173-EFB1-4BC5-AF46-A782D6F9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AF318-B9F3-4084-ADB9-184306CB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C5B64-F5F5-4A19-A072-4647425D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07822-6520-4CE1-B0CB-0DAB6739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AD22B-2052-4A19-ACBC-D6F8430A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BEF20-53D4-4AAD-B39E-641B23F3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225BB-3306-492C-9B58-AC0F4054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D962-BBF6-4289-A89F-A7A76937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436-427F-4401-BAEA-E7EA5C69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132-31C7-4EF0-AD84-6BF9B4AF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D2C-8E34-42BE-845B-66E21B52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C39-80C4-4E07-83CA-3759A85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C0C-2139-46AB-9550-5F2E643D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B0C2-EA1C-4188-8A63-7CFB132050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7720-9E75-4ADC-BBCB-A9619C96A2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4E6E-9A76-446E-864D-B5AA6BFDC8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7E66-642C-438E-BC61-7895FCC8FF5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1  2  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5  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/>
          <p:cNvSpPr/>
          <p:nvPr/>
        </p:nvSpPr>
        <p:spPr>
          <a:xfrm>
            <a:off x="5940360" y="54936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3182760" y="3860640"/>
            <a:ext cx="1729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1455840" y="692280"/>
            <a:ext cx="172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5"/>
          <p:cNvSpPr/>
          <p:nvPr/>
        </p:nvSpPr>
        <p:spPr>
          <a:xfrm>
            <a:off x="900000" y="220500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5219640" y="3090960"/>
            <a:ext cx="172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5"/>
          <p:cNvSpPr/>
          <p:nvPr/>
        </p:nvSpPr>
        <p:spPr>
          <a:xfrm>
            <a:off x="3780000" y="1413000"/>
            <a:ext cx="172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2484360" y="115920"/>
            <a:ext cx="1079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 Black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 Black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 Black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3708360" y="115920"/>
            <a:ext cx="482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un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deux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trois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quatre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cinq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six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1  2  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5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2  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5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2  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5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2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5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2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5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1  2  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5  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5076720" y="62064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160640" y="2349360"/>
            <a:ext cx="172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753000" y="4149720"/>
            <a:ext cx="172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7093080" y="2671920"/>
            <a:ext cx="172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2887560" y="620640"/>
            <a:ext cx="172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3772080" y="3871800"/>
            <a:ext cx="172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900000" y="242100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3203640" y="765000"/>
            <a:ext cx="172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6588000" y="3621240"/>
            <a:ext cx="1729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11-01T19:23:10Z</dcterms:modified>
  <cp:revision>30</cp:revision>
  <dc:subject/>
  <dc:title>Slide 1</dc:title>
</cp:coreProperties>
</file>