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3B5-27E5-4E09-B971-6F9C7C24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11F-9F9D-4D71-8978-25D06351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087-A73B-4A31-A976-90B73170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5F9-00C8-48D0-BFD2-36E03337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855-28AB-462D-A095-4C367DC5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EBD0-B71F-4460-913D-D19995A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AF0-2540-42AB-BDD9-7FBF9BC8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B681-9DF4-44EE-AAA8-F0E6BA7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12BD-455D-4DD0-8E9F-F0E0B26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169C-473A-48B7-92DB-0D671B1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5C33-53E4-4649-A1F9-D6C2B1F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5DE-0072-4AC0-9CBC-CFD61AF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F10-A051-4004-BF57-6479CC8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8D8C-BA1F-48F3-BEE9-592C0CB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83B-5339-4F8B-BE60-F045398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DBEF-1DC4-4EA4-BE6B-5C88942E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3C66-6077-4CBD-B8B1-55368E79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05DB-7443-460F-9D43-0027A40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80E2-9325-4259-BDD0-62D3C7F5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26D2-2240-4F1D-BB6F-EC7456F8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27AA-E959-42DF-8F64-C6E7E831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1CE5-8DB4-48A6-A869-EAABC594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355-F0C1-4EE3-88BA-FAACB66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01BE-EA6B-4E32-99DE-4A449F0F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18DC-02D3-4C87-A045-2C52F57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EC9E-B5ED-4285-86A0-5DA9A637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1CDE-1C46-44FC-9C96-18A6BCA7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ADBF-5035-43ED-B525-D0AEF94A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FA25-682B-48C9-8BAC-3EE9E0E5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0D0B-DCC1-48F3-8D09-B423650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3A58-32AF-4959-994E-0DE6F908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3F6B-D085-4491-97C6-73A6F8DE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9D81-B2E3-4966-B122-D56B12F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5E9-E761-401E-A160-888773C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6902-3BBF-4911-A444-CA1FD862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FC99-A658-4ADE-8045-3318E854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B639-BECB-4DA4-BAAD-2BFD148D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C11C-7244-4AEB-B7E6-48C9463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E167-86A8-417A-83BB-1C28413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C8C6-D009-448A-B68D-B63A0A67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F5B2-A932-4F37-A4C4-91D24E47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A180-6CF4-4B67-AE70-D6BA4E6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5534-E8E9-43B3-8E1E-BE45000A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94B-F854-4785-8695-39E102FD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7E3-284A-4770-A2C1-008DE091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FF6-D54D-4D24-9BAC-0EAC7E6D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E4A-6639-4EFA-BA7C-473E581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B1E-A90D-4A19-95EC-54D28866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400C-9FB1-404A-A41B-934D0842A7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6C76-94B2-4054-AC7B-10CDBF5C63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820-4BA9-4215-A99E-440FA755D0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74F-877F-43E4-A06E-075FFA429A2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11280" y="404640"/>
          <a:ext cx="7921440" cy="5280120"/>
        </p:xfrm>
        <a:graphic>
          <a:graphicData uri="http://schemas.openxmlformats.org/drawingml/2006/table">
            <a:tbl>
              <a:tblPr/>
              <a:tblGrid>
                <a:gridCol w="2639880"/>
                <a:gridCol w="2641680"/>
                <a:gridCol w="2639880"/>
              </a:tblGrid>
              <a:tr h="1475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4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4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4ff"/>
                    </a:solidFill>
                  </a:tcPr>
                </a:tc>
              </a:tr>
              <a:tr h="1338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ding in -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rapid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</a:tr>
              <a:tr h="1338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ding i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–</a:t>
                      </a: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t or -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gran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a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aff"/>
                    </a:solidFill>
                  </a:tcPr>
                </a:tc>
              </a:tr>
              <a:tr h="1338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ending i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333333"/>
                          </a:solidFill>
                          <a:latin typeface="Comic Sans MS"/>
                        </a:rPr>
                        <a:t>-ou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8585e0"/>
                          </a:solidFill>
                          <a:latin typeface="Comic Sans MS"/>
                        </a:rPr>
                        <a:t>dou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f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2"/>
          <p:cNvSpPr/>
          <p:nvPr/>
        </p:nvSpPr>
        <p:spPr>
          <a:xfrm>
            <a:off x="6012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rap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012000" y="342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grand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6012000" y="472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dou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</a:rPr>
              <a:t>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5-06-12T13:42:09Z</dcterms:modified>
  <cp:revision>123</cp:revision>
  <dc:subject/>
  <dc:title>Slide 1</dc:title>
</cp:coreProperties>
</file>