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173-5D48-4027-88DD-65A0E303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4DB-9775-417B-A120-0E31B7A2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4EF-B20F-4853-9847-803CA50F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97A-9335-48ED-85B1-EFF4732B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80F9-9146-43A7-8823-F80ADC18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0C19-7F99-4E45-B6C1-0F36AFFF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E3F2-26FC-4EA1-8A01-8D9ED341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5E81-3094-407F-B0DF-D4E42B31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2417-A5C0-48C3-A4D4-47B337FC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D440-139A-466E-A34E-4000C9D9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CA7F-FFBB-43BC-B439-D690A30C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6AC-2E14-4570-AAD4-6E388EB1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121D-E990-460B-98C8-58C8A02F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3753-7655-424C-A23D-4779A653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F9B3-86A9-499B-84D8-C5A8B535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3211-8B61-44B5-98B4-AC3A8DF4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8685-4A99-46E9-A912-C0797B1D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E8CD-E3D8-4523-9B58-8FBAC62C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1C0A6-26E9-4A63-9647-B4B4E455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0B09E-BB54-4841-A038-70872491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B273-C4F4-4675-A14D-99792655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DD60-B6D9-442D-A299-FA83D666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39A-7C38-4798-8CDE-8A8ACF13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BEDA-1D27-49DF-8776-49F013A8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C00B-E363-4C74-A0FD-7ACD2147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E8CC-DF65-412C-AAF6-0D51A464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C4DE1-9C1E-46D8-9A27-C4554C31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5916-7873-447D-8D78-D452AC4E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63CFB-BED7-41A5-8FE8-4BF8BCB0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CF790-E3B8-464A-93D4-353B910A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800F-727B-41DA-922C-57E6B1A4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A4802-6AF9-4F2C-B1F3-73D91DCA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507B-3182-4B70-86BC-3C81351A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715-811A-4AAD-8F37-75F455C8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703E-9AD9-477D-9414-068FF66D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C5357-E9B0-40FC-B76A-267DB3AC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106A-C6F8-43B9-A724-73D80361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E8CAD-6894-4050-9723-8B9F1667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CA30F-1CD5-45A3-96B1-16C1D37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DB1E-0FA5-4E30-B913-69AE76CF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07C17-151D-46C5-A6AE-038DB25F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7ABB0-6824-47E9-9ABC-5117D50B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246A9-6631-4713-8B3F-4D9BD7F4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015-1021-4722-8AD8-3FD7B8F5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278-94D8-4CCC-95B6-80779E87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A4C-528D-4CAB-9429-BEF1D972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A38-11AC-429B-9374-19CEE837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9ED-02B7-478C-A8EF-9A54DD97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6B89-8A64-41A1-9D60-EDE2DBCD35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2762-12F8-4EF3-B914-D2F9894D22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1330-4540-4FC3-BC23-FB867E27DD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09FF-A2CD-4A44-9937-0F52FAF7A99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611280" y="404640"/>
          <a:ext cx="7921440" cy="5280120"/>
        </p:xfrm>
        <a:graphic>
          <a:graphicData uri="http://schemas.openxmlformats.org/drawingml/2006/table">
            <a:tbl>
              <a:tblPr/>
              <a:tblGrid>
                <a:gridCol w="2639880"/>
                <a:gridCol w="2641680"/>
                <a:gridCol w="2639880"/>
              </a:tblGrid>
              <a:tr h="14756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4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8585e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4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4ff"/>
                    </a:solidFill>
                  </a:tcPr>
                </a:tc>
              </a:tr>
              <a:tr h="1338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ending in -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8585e0"/>
                          </a:solidFill>
                          <a:latin typeface="Comic Sans MS"/>
                        </a:rPr>
                        <a:t>rapid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f"/>
                    </a:solidFill>
                  </a:tcPr>
                </a:tc>
              </a:tr>
              <a:tr h="1338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ending in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–</a:t>
                      </a:r>
                      <a:r>
                        <a:rPr b="0" lang="en-GB" sz="3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t or -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8585e0"/>
                          </a:solidFill>
                          <a:latin typeface="Comic Sans MS"/>
                        </a:rPr>
                        <a:t>gran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aff"/>
                    </a:solidFill>
                  </a:tcPr>
                </a:tc>
              </a:tr>
              <a:tr h="1338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ending in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-ou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8585e0"/>
                          </a:solidFill>
                          <a:latin typeface="Comic Sans MS"/>
                        </a:rPr>
                        <a:t>dou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f"/>
                    </a:solidFill>
                  </a:tcPr>
                </a:tc>
              </a:tr>
            </a:tbl>
          </a:graphicData>
        </a:graphic>
      </p:graphicFrame>
      <p:sp>
        <p:nvSpPr>
          <p:cNvPr id="167" name="TextBox 2"/>
          <p:cNvSpPr/>
          <p:nvPr/>
        </p:nvSpPr>
        <p:spPr>
          <a:xfrm>
            <a:off x="601200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rapi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6012000" y="342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grand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6012000" y="4724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dou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</a:rPr>
              <a:t>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42:09Z</dcterms:modified>
  <cp:revision>123</cp:revision>
  <dc:subject/>
  <dc:title>Slide 1</dc:title>
</cp:coreProperties>
</file>