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2FC-CE88-4F11-A854-4A203290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A26-A692-4B0B-8850-B7DB91BA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CB2-C475-4289-859B-3BD2D39D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6B7-DF9F-4127-A61C-3844D385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EF99-782A-46E9-8B7C-0C37905F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BAD8-118F-45FA-99FB-B4376942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C5FD-5C5A-4359-9908-EC8860D4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91C1-A51E-47E7-81F7-8B5EC3F9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D618-1A63-488A-BA89-D6E80005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9113-88E1-4466-8269-D094EBAD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01FA-0C72-4866-9477-EBE31D05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37E-C1BA-4AB5-98DA-141E6A3E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73E9-A532-4631-84E3-28D0D117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8144-2ED8-4456-A404-9BB776BD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B400-297C-4D46-B1F4-40DD6C99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71A0-B28A-44FB-B4D5-BBF677CE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9782-060E-4EFA-BD18-91E9AD38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AA5E-C7E1-4F34-93A3-86A8B150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199C-9607-4F89-93CA-83E84DF0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4714-48F9-4D39-8609-20C155EF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DB07-3699-44A8-8221-6C77A17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C585-13D5-4DB5-B19F-6A3BEA2C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571-7522-4890-9123-C8F3AE15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2914-A4E2-4619-8F0E-248E8D4B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4D88-1691-4574-A734-FBBF9251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D005-4445-4595-BF45-C0BCFAA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EDC2-88B2-4887-8916-9C0B81E3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592D1-FE1D-407F-95FD-06768E47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27F31-2EC6-4D79-9975-8C0A798A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F476-5668-4A63-A82F-71DCB90C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94F59-51A7-4B2C-A366-24CB5CA6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4C95-DC35-44A5-9E6B-447ADB09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64B9-114D-48A4-94E8-B7F8390E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AD6-13B9-45E5-984E-AEB396CA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C432-CCAE-4968-BFD2-DE9F58BF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3064D-76D9-49B4-8ECC-92C68197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5FF1-BBD2-4462-915A-C3FF09D3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339C4-0F24-4D88-9624-8DBA030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A374-E073-4E30-BA59-401AA2E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6FE7-6511-45FD-8C72-0ED52577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471D-B970-43BF-824D-DC24E0DB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66E8C-BB5F-4996-AAE3-14CA1CB8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019F8-CAF3-4FAA-A0FE-AEED9D7E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86A-E2E8-43E6-909C-6F7C5780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6B4-E224-419F-9CCE-6E9F0522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67E-C6A4-4259-AA13-8F9034FD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3AB-5C10-4341-9AA0-8D232BAD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426-62D3-4233-87B9-29C48E2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6919-CD25-4052-BBAD-7654AA3469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3878-81EC-4C20-A797-223CBD233C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BB7F-C97E-4429-9422-AB0AF362C7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01E3-F70E-4287-984D-4239DA46C49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Oval 1"/>
          <p:cNvSpPr/>
          <p:nvPr/>
        </p:nvSpPr>
        <p:spPr>
          <a:xfrm>
            <a:off x="3016080" y="907920"/>
            <a:ext cx="5732640" cy="4753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395280" y="912960"/>
            <a:ext cx="576108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TextBox 6" descr=""/>
          <p:cNvPicPr/>
          <p:nvPr/>
        </p:nvPicPr>
        <p:blipFill>
          <a:blip r:embed="rId1"/>
          <a:stretch/>
        </p:blipFill>
        <p:spPr>
          <a:xfrm>
            <a:off x="609480" y="-36360"/>
            <a:ext cx="324972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8" descr=""/>
          <p:cNvPicPr/>
          <p:nvPr/>
        </p:nvPicPr>
        <p:blipFill>
          <a:blip r:embed="rId2"/>
          <a:stretch/>
        </p:blipFill>
        <p:spPr>
          <a:xfrm>
            <a:off x="6297480" y="884160"/>
            <a:ext cx="2571840" cy="17557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5076720" y="9525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abei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2411280" y="10684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â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580000" y="15606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balei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2124000" y="14684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h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070680" y="1944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hèv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1544760" y="18525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do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938160" y="23432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éléph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16"/>
          <p:cNvSpPr/>
          <p:nvPr/>
        </p:nvSpPr>
        <p:spPr>
          <a:xfrm>
            <a:off x="3780000" y="16527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féro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6157800" y="24224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for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6259680" y="2870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giraf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487440" y="2844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gra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6175440" y="330984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grenoui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488880" y="3300480"/>
            <a:ext cx="211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kangouro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787320" y="38685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lapi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1843200" y="38894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l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1217520" y="4454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l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25"/>
          <p:cNvSpPr/>
          <p:nvPr/>
        </p:nvSpPr>
        <p:spPr>
          <a:xfrm>
            <a:off x="5924520" y="38782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peti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26"/>
          <p:cNvSpPr/>
          <p:nvPr/>
        </p:nvSpPr>
        <p:spPr>
          <a:xfrm>
            <a:off x="3759120" y="22604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rapi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27"/>
          <p:cNvSpPr/>
          <p:nvPr/>
        </p:nvSpPr>
        <p:spPr>
          <a:xfrm>
            <a:off x="7245360" y="38685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souri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Box 28"/>
          <p:cNvSpPr/>
          <p:nvPr/>
        </p:nvSpPr>
        <p:spPr>
          <a:xfrm>
            <a:off x="1755720" y="4869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ig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29"/>
          <p:cNvSpPr/>
          <p:nvPr/>
        </p:nvSpPr>
        <p:spPr>
          <a:xfrm>
            <a:off x="3738600" y="29145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Comic Sans MS"/>
              </a:rPr>
              <a:t>timid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5732640" y="4454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ortu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5243400" y="4941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vach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TextBox 32"/>
          <p:cNvSpPr/>
          <p:nvPr/>
        </p:nvSpPr>
        <p:spPr>
          <a:xfrm>
            <a:off x="2038320" y="4462560"/>
            <a:ext cx="164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pois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41:40Z</dcterms:modified>
  <cp:revision>123</cp:revision>
  <dc:subject/>
  <dc:title>Slide 1</dc:title>
</cp:coreProperties>
</file>