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3751-258F-4C77-A4E2-F5021F69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C6F6-C5E0-4ECF-BE7F-BD2C40A5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0FE-8B55-4759-AF6D-ADE17183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6E5-985C-461B-B39F-A3071720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296D-80FF-4253-AC0B-596CEAB0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F826-67DE-45C3-BC8F-8A244FED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1CB6-C9C7-489F-B2B0-6AF1E6AE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3083-12F5-46E7-8F74-A3DA41D3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7AFD-9E56-40FC-A4F2-8B6E9208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E068-A40E-4C8C-8E39-411E7A15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09C3-6D20-4EB3-9F8A-3B6BD99F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0B9A-7C68-4D3F-9E88-173E3AB7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E570-A674-4AEC-A651-C8990C2C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B08F-6B89-449F-BF08-90F3D4F7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9A4F-1096-4607-A303-DB7E90C4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1BCC-0A69-49E6-BAB2-A3FEA66E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40E9-C25E-4103-A6F8-EAF12F86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F9577-47D9-4DEF-ABA5-2BEA8B48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3037-B0C4-4A53-861C-675A8DE7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AA4D5-1A23-4F69-BC0B-3E45094D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2D909-BBC1-4EF1-BCBF-0EDD5A1A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35B95-0E24-4E75-9407-70FD2DD6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7D59-2F92-4090-AAB0-9A2773E9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C1042-00AC-4081-8781-6CBFCB37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FC9C9-06A2-4628-B83D-B5998101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0DB26-7D41-4E56-8B12-6E48345B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C7FD8-755F-4F47-8C20-3490A353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CEEDF-E0BC-4DEC-8552-1BFE1183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0E40B-79FC-4173-83F1-8640F8DF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B2DE1-572A-43BE-BEBD-86955C8C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70D83-971E-41EF-82E8-A1C132F0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792B9-187D-4022-86BD-FBBE39A5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D6C6B-7CB4-4417-A566-96A9819E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215D-3445-4C17-8648-830A03C8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E1DC0-3BB5-487D-B4C2-504B26FA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A74A6-F354-4C03-BEA9-936A33B1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54EA2-10A8-49E3-976A-C72D33AD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80E11-D02A-42BC-982A-9D2D893C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8A139-3E2F-4A52-BC7C-55E4C922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006DC-FEE2-4BB0-BCD0-D1096149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CECCD-EED0-4F81-81C8-577CDB75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A4602-77C8-43BA-98C7-36B3454E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3DFD9-9BEB-4855-9594-65757BD8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7D66-6FC7-40CC-A59F-2CDE65C7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215C-C01F-42D2-B17B-8A503898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D2F0-F9E9-4171-AC98-C8B48022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185-9AB4-4218-B1FF-F8E02AE7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CF8-0E1D-4F33-8DD7-80F802E7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911B-CA7D-4BA7-A4D1-C22F0A0AAF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227C-E776-4FE7-A397-0811B5EA12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30C0-6357-4E5B-B620-5DE2E57846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6DC5-406A-4CAF-B09F-0CA6F1170B2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5359b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Oval 1"/>
          <p:cNvSpPr/>
          <p:nvPr/>
        </p:nvSpPr>
        <p:spPr>
          <a:xfrm>
            <a:off x="3016080" y="907920"/>
            <a:ext cx="5732640" cy="47530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395280" y="912960"/>
            <a:ext cx="5761080" cy="47512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TextBox 6" descr=""/>
          <p:cNvPicPr/>
          <p:nvPr/>
        </p:nvPicPr>
        <p:blipFill>
          <a:blip r:embed="rId1"/>
          <a:stretch/>
        </p:blipFill>
        <p:spPr>
          <a:xfrm>
            <a:off x="609480" y="-36360"/>
            <a:ext cx="3249720" cy="273672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 8" descr=""/>
          <p:cNvPicPr/>
          <p:nvPr/>
        </p:nvPicPr>
        <p:blipFill>
          <a:blip r:embed="rId2"/>
          <a:stretch/>
        </p:blipFill>
        <p:spPr>
          <a:xfrm>
            <a:off x="6297480" y="884160"/>
            <a:ext cx="2571840" cy="17557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7"/>
          <p:cNvSpPr/>
          <p:nvPr/>
        </p:nvSpPr>
        <p:spPr>
          <a:xfrm>
            <a:off x="5076720" y="9525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abeil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10"/>
          <p:cNvSpPr/>
          <p:nvPr/>
        </p:nvSpPr>
        <p:spPr>
          <a:xfrm>
            <a:off x="2411280" y="106848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â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5580000" y="156060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balei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2124000" y="14684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ch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6070680" y="1944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chèv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1544760" y="18525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Comic Sans MS"/>
              </a:rPr>
              <a:t>dou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938160" y="23432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élépha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Box 16"/>
          <p:cNvSpPr/>
          <p:nvPr/>
        </p:nvSpPr>
        <p:spPr>
          <a:xfrm>
            <a:off x="3780000" y="16527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Comic Sans MS"/>
              </a:rPr>
              <a:t>féroc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Box 17"/>
          <p:cNvSpPr/>
          <p:nvPr/>
        </p:nvSpPr>
        <p:spPr>
          <a:xfrm>
            <a:off x="6157800" y="24224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Comic Sans MS"/>
              </a:rPr>
              <a:t>for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Box 18"/>
          <p:cNvSpPr/>
          <p:nvPr/>
        </p:nvSpPr>
        <p:spPr>
          <a:xfrm>
            <a:off x="6259680" y="28702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giraf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Box 19"/>
          <p:cNvSpPr/>
          <p:nvPr/>
        </p:nvSpPr>
        <p:spPr>
          <a:xfrm>
            <a:off x="487440" y="2844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Comic Sans MS"/>
              </a:rPr>
              <a:t>gran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TextBox 20"/>
          <p:cNvSpPr/>
          <p:nvPr/>
        </p:nvSpPr>
        <p:spPr>
          <a:xfrm>
            <a:off x="6175440" y="3309840"/>
            <a:ext cx="22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grenouil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Box 21"/>
          <p:cNvSpPr/>
          <p:nvPr/>
        </p:nvSpPr>
        <p:spPr>
          <a:xfrm>
            <a:off x="488880" y="3300480"/>
            <a:ext cx="211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kangourou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Box 22"/>
          <p:cNvSpPr/>
          <p:nvPr/>
        </p:nvSpPr>
        <p:spPr>
          <a:xfrm>
            <a:off x="787320" y="386856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lapi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TextBox 23"/>
          <p:cNvSpPr/>
          <p:nvPr/>
        </p:nvSpPr>
        <p:spPr>
          <a:xfrm>
            <a:off x="1843200" y="38894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Comic Sans MS"/>
              </a:rPr>
              <a:t>l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Box 24"/>
          <p:cNvSpPr/>
          <p:nvPr/>
        </p:nvSpPr>
        <p:spPr>
          <a:xfrm>
            <a:off x="1217520" y="44546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l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Box 25"/>
          <p:cNvSpPr/>
          <p:nvPr/>
        </p:nvSpPr>
        <p:spPr>
          <a:xfrm>
            <a:off x="5924520" y="387828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Comic Sans MS"/>
              </a:rPr>
              <a:t>peti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Box 26"/>
          <p:cNvSpPr/>
          <p:nvPr/>
        </p:nvSpPr>
        <p:spPr>
          <a:xfrm>
            <a:off x="3759120" y="22604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Comic Sans MS"/>
              </a:rPr>
              <a:t>rapi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Box 27"/>
          <p:cNvSpPr/>
          <p:nvPr/>
        </p:nvSpPr>
        <p:spPr>
          <a:xfrm>
            <a:off x="7245360" y="38685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souri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TextBox 28"/>
          <p:cNvSpPr/>
          <p:nvPr/>
        </p:nvSpPr>
        <p:spPr>
          <a:xfrm>
            <a:off x="1755720" y="4869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ig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Box 29"/>
          <p:cNvSpPr/>
          <p:nvPr/>
        </p:nvSpPr>
        <p:spPr>
          <a:xfrm>
            <a:off x="3738600" y="29145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Comic Sans MS"/>
              </a:rPr>
              <a:t>timi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TextBox 30"/>
          <p:cNvSpPr/>
          <p:nvPr/>
        </p:nvSpPr>
        <p:spPr>
          <a:xfrm>
            <a:off x="5732640" y="44546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ortu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Box 31"/>
          <p:cNvSpPr/>
          <p:nvPr/>
        </p:nvSpPr>
        <p:spPr>
          <a:xfrm>
            <a:off x="5243400" y="494172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vach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TextBox 32"/>
          <p:cNvSpPr/>
          <p:nvPr/>
        </p:nvSpPr>
        <p:spPr>
          <a:xfrm>
            <a:off x="2038320" y="4462560"/>
            <a:ext cx="164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pois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06-12T13:41:40Z</dcterms:modified>
  <cp:revision>123</cp:revision>
  <dc:subject/>
  <dc:title>Slide 1</dc:title>
</cp:coreProperties>
</file>