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B72-F7A9-4A66-AE0F-9B0E8B0B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988-FF48-4226-A090-386255B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378-1C7B-4D53-8945-95F24B3F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2C7-0743-4297-8D16-F2B5C6A4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F6A0-61C5-495C-B70E-A048616D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0968-8406-4A95-B1EC-EF69766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1719-2DAE-4827-9DDB-40AFEFDE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E722-D64D-49FA-B287-D0FD2A81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C7D6-5611-4555-B493-BCBA596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F53-0B30-4B07-8424-BA825C2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C2C3-1C26-4C37-B185-05AF7E9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17F-D4FB-40A1-B920-D0B04A9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0836-C05D-4EAF-9B97-A800CE3E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47F-8D51-4E47-BF30-C384A24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FC16-B361-4777-BCD1-B541F63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7CE-2528-4B40-8BA9-331EF898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A1C1-F934-48AF-8654-E3A3597B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4CC3-5D81-47E6-988A-8C5188B4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D832-7EDD-4142-B235-0B01BB2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2285-BE50-45F1-85F0-D3471B4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0B40-B584-4CED-8597-F9D6285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96FC-7EA0-4DAA-954B-866C936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3DA-DEF3-4EFF-BE69-B6049D6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23ED-0F8E-4259-9A81-ED26437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AA95-F0BF-4616-93C7-25012CC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40A7-BC47-4FA4-8E61-26F0A5A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84CA-8E36-42B7-A56F-AA0CC6C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C78B-88EE-4037-AC51-830147D1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C2F0-385A-4F3A-9D9D-87A67EDD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A648-9410-4212-9AF8-45208B0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53E4-2CAE-4276-AB9D-BD22EF43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C1E7-EFB5-462A-8BE1-1977984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CBA4-F2B0-4766-85AC-8633A0C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1BB-D432-46F4-97C0-3153002A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1430-D5C3-42A0-9E33-929A999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E698-1EE7-4D04-A13D-3AD5663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63AC-6F08-4663-B2FF-91D0FDF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AD38-5E0E-4F72-B1E8-94D417B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207C-50D0-40DA-B5AB-918EAC6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5953-1079-46EF-9476-1B4919D8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AA0F-E3FD-4E9A-AAE9-47B407A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7211-54CA-422B-AA53-A672E498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39D4-EF5D-407F-A30E-14426F5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E2D-2F4D-4924-9F9D-9FFD438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CDC-BD57-4E7C-AE7A-DF64FAA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497-94DD-4E46-A9F5-6B77BB4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840-EECD-41E4-BF5E-02D7478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B80-818C-447B-8266-8EF8128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1C91-1E5F-4497-A4D2-936A8B3F02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4855-D9C1-4A8F-97D1-8493BF7877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F2B6-0651-4735-8A8E-E7EE3B3AB5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3F6-9A30-4876-B5FB-93C90589C7E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000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8328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403280" y="763560"/>
            <a:ext cx="6121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535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6264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46688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3690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40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9:55Z</dcterms:modified>
  <cp:revision>117</cp:revision>
  <dc:subject/>
  <dc:title>Slide 1</dc:title>
</cp:coreProperties>
</file>