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B15-1932-4AF0-9C66-477E1947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19C-2CC0-401D-A046-1D7373B8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76D-9C1D-472C-BA3F-B98DF2B8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647-7643-4E8C-AA96-DFA707D2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9271-4BF9-492A-8D1E-C8AE0991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29E4-4AFC-4912-9C9B-0CABC483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D005-1CAD-400A-A9E2-662E1A25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34D2-3933-4CDE-8E25-D1D84C2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41C1-9FB0-4D7B-BFFB-1E4CF935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9C22-096F-420C-8AEF-D904161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A62A-185A-457F-9DB1-6A1FB6F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E5F-B60E-439F-8E4E-8F1A6C4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90F-8475-4AE3-A053-03964CD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96DF-7829-46D5-B00B-CCF299A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6354-EB8C-40B1-8346-158CA69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53F-61B8-4794-ADC1-721099E2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088F-8EC6-4290-BEE9-DDD8221E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BA4B-2622-4FB9-9118-A84FA8AF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82CB-730F-47E9-A795-A55B3C83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D191-DFE8-4A11-8A0C-CF489E4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887D-6105-474F-B216-0B714D68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B9FE-A924-46A8-9E87-ADDEC60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047-7900-463C-83F5-7A62CE7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5D13-840D-4AFB-8E0B-E8DACAC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E600-FC32-47BA-AE4E-ECA6BBB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C4F7-12AA-4C57-8DA4-00202C0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1A82-ED17-4B3C-AC7D-B7D15E97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9BF1-9F30-4D99-B2C9-76E47810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E249-58CC-4DBC-A4D7-8BC18559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9ED7-919D-489F-816E-9E890C65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932B-6F81-4D51-97BF-78C72E3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27C3-62A1-444F-95EC-E7F274A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ABCB-F7CF-4ACF-9B30-9594C94E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BF2-7A6E-4033-97FE-67A6377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6151-D5B8-4329-9B73-8B442FC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C0768-B621-4462-9427-6925F1A0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FDE0-0221-4240-96F8-1351ABBF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9755-BB0A-454A-ACEE-7D639ED1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B0C5-7227-4E79-87FB-977B558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252A-26CB-4C29-AD99-2E8D1B2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03CD-3D39-4A79-889D-19F3C61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9CC7-BB64-4365-8485-040A6AA0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A3A8-477B-4B2F-83AF-50F91D3B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5FB-ED0D-4F01-87FD-E978093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603-E4CD-4E7F-91D1-C7BACADD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DB9-4F48-47D3-910F-CC32B77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FDC-0ED6-45AD-B72B-346DCD5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A0F-6A7A-4C72-A413-F25FF2C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8DA3-76B0-40FD-B505-DE39361B85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946-A25C-4AEC-BE2F-B84792F5D3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18C-61E5-4831-87B2-85F4EF2E0B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745-FBD3-4D6D-991E-3472B5A0D2F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6000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8328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403280" y="763560"/>
            <a:ext cx="61214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535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6264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46688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3690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040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9:55Z</dcterms:modified>
  <cp:revision>117</cp:revision>
  <dc:subject/>
  <dc:title>Slide 1</dc:title>
</cp:coreProperties>
</file>