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17E-582D-4493-A849-6B4AA005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AA1-F0A4-4E06-97C2-0514D600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F45-0391-461A-846C-9FE00F12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3F5-483F-48BB-857B-D2585A1F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3A51-8423-4B96-83FF-9CFBFEB9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D2F4-410A-45A5-A9EE-FA70571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B1F0-F055-4C22-AAF1-BA0D5182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2ACA-B51F-4117-A1B6-3D8788ED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3600-D184-48A3-AD53-546E0797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4BEE-F3F9-4370-A562-EC9F16D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F6AF-96F8-4EDD-80E6-AFB0398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96A-2DB2-467F-AC4F-10C9EAE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C526-C24F-4C42-88E6-693E155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BE46-B47F-4669-BBB7-8292277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E739-D0BD-4C42-9BB6-CACCDE8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D95-9D25-461A-ABB8-7AE815ED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A900-D6A3-4927-AB55-F940AC2C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D0AE-53EE-4D59-80A4-8D76F55D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917F-8C49-4FD4-9318-79D7A88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BB93-8ECB-4AFC-AF75-02B10FC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8746-635F-4BD2-9F75-5EF799F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3B78-E17B-46C9-8AD9-E7C1A5B7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178-90C2-43B3-9AE1-9481EC2E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8692-9A56-4CD2-8F87-A0ACFBC7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C302-DDB3-453B-A108-39B159C5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E0E7-BBB4-44C5-9717-F516DA9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A823-1A44-49CB-B473-C734C8A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CDE1-832B-4F95-A844-5173F790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F608-E5DF-4D06-A8B1-FA60FAED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0EC8-432C-44DB-90A8-BFE6763E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9253-87C8-4F5D-9784-53814B67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A5B1-88CC-4294-8CA2-3AEA53E6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5EFB-9322-4F1F-8ED8-5CEE0216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D6F-8FB2-417C-A34A-6E6F472E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B578-2175-422A-9DB2-4A8DD128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6AC2A-3938-4692-83A2-4325BDFA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73DC-BD99-48DE-ADEE-93955041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DE3B-3E10-4E06-99B1-3F39160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5CF5-03B1-4E55-BC66-3BB1D0E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50F6-F4E8-4459-BA02-533BFEF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7E61-BF48-44DB-AA7D-15313608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899A-F76D-4B26-9C0B-DE78F5C7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1B21-5F0A-4DCB-8AA5-A122DBC2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16B-3304-4A22-9F10-B71BA536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E3A-B09A-4039-808D-DDAD7694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60A-275B-4D39-A59E-A3FE21A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672-D2CD-481A-A41E-DEC1D7E1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1D0-08CF-488F-94FD-FA686C7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9EF7-D22D-4E1C-BB39-FF50012847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BB1-82EA-4B82-AB62-B11871EB9D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21E-0C9A-4F65-AEAE-E878CB0417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13F-597D-45BF-AE7A-59653BC8252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âne est grand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poisson est timide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tigre est fort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kangourou est féroce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lapin est lent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éléphant est petit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chat est doux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lion est rapide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39:08Z</dcterms:modified>
  <cp:revision>110</cp:revision>
  <dc:subject/>
  <dc:title>Slide 1</dc:title>
</cp:coreProperties>
</file>