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C92-59DD-4D7A-B200-A819CA84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40B-0170-4CD6-BD65-0C2BCD99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8B7-E8FE-42FE-AFB3-DF9067C1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3B0-E98F-4A75-9275-19CCA653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5D6F-842F-4821-BB21-20283429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5E91-E693-47DB-940A-98AB306E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EFC9-7E1E-4905-8443-A03DEEC9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F069-F8B7-40F3-BE8C-576CF3D2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7E5C-3A9C-4C53-B228-401EB9A9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0CF1-F8C6-4D06-8FB8-470222B8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4A68-9C33-4A2B-AFF5-ECE6D6CF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232-3F8F-4749-B6CC-0D3B9C39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1F37-1ADC-41CE-942E-4C57E288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7ADA-A8BC-457B-9577-BCED8FEE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F009-06DA-4533-9E1E-3F6CB8D0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92BA-CA52-4D20-9729-23F3FB4E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4CB7-F424-4CE5-8665-1E33A05A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A1ADE-2617-47DD-BB6A-62570924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DFC3-EC3C-4C8F-8318-72030CA7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113E1-7067-4178-A7E3-3D246AED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7B34-D930-4852-8A68-2E628C83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0116-8241-404C-93E3-5C3F26C3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377-FA15-4335-9F32-429F3D44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6498C-0199-4F5E-BBE5-425B7CD0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FF57-2F43-4CC0-9B71-B9D0298C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DB20-494F-497A-922E-71A03941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83F7-E5D7-452E-B4C2-261C174D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1105-3DEF-4846-BD87-9EA0A75E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4852-9D96-46A6-9AC3-431C623F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2E67-EB94-4E14-AF85-05EF1A9B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A5CD-2516-4F86-A044-B69E4694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C6EC8-FD78-4DF2-B89E-EEC494FF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0787E-7EF3-40B2-AB74-C31BB2D1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C9E-9DFF-4FA4-B4E8-A9980B6B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01525-4779-42C5-A6CE-85D0F5CD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CB49A-0BCA-4E14-89D6-D9F239D0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FEA61-ADBE-49E1-A27F-E5EB6460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93ED-7727-4C42-9C8B-890B3B6E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ECC38-6587-4B65-A711-E650F02E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CC85A-4A56-4304-92F9-BAECC375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51ED9-B935-4066-A0DD-145D3F2A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5DAB-4930-4C59-9520-1CC2E870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0B00A-3EEE-4445-8F91-62BD4BF7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88A-E0B9-4664-A712-7F9DC9FD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D39-0A8B-4C13-8961-5EB91384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129-220D-4F14-8E8D-8D40B954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4C7-F49B-475E-8C93-15015BDE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BF4-973E-44E5-A4DB-CA15A078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621C-5ED9-4A0D-BA21-97BFF671E0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9C43-6B58-4239-9A3F-F9E8F070F2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05F4-B002-43A6-86DB-C5A5B453BE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F49A-5C99-4E84-9A72-F983D800942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âne est grand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poisson est timide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tigre est fort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kangourou est féroce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lapin est lent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éléphant est petit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chat est doux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250920" y="18900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Vrai ou Faux 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rcRect l="7476" t="7346" r="7476" b="7346"/>
          <a:stretch/>
        </p:blipFill>
        <p:spPr>
          <a:xfrm>
            <a:off x="6875640" y="162000"/>
            <a:ext cx="879120" cy="877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2"/>
          <a:srcRect l="14912" t="0" r="13788" b="0"/>
          <a:stretch/>
        </p:blipFill>
        <p:spPr>
          <a:xfrm>
            <a:off x="1258920" y="141120"/>
            <a:ext cx="936720" cy="8780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9"/>
          <p:cNvSpPr/>
          <p:nvPr/>
        </p:nvSpPr>
        <p:spPr>
          <a:xfrm>
            <a:off x="250920" y="1916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Un lion est rapide.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39:08Z</dcterms:modified>
  <cp:revision>110</cp:revision>
  <dc:subject/>
  <dc:title>Slide 1</dc:title>
</cp:coreProperties>
</file>