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07E-EC0F-4145-85F0-69D32483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6CD-E51F-4980-9377-C1FB8BC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856-A5CA-4C4B-AE86-4D735204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A85-AA3B-48E0-BA7A-DED30D22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724D-C628-4983-AC0A-0EFCBAFD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E2FF-B334-40E2-8315-222FB82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392F-3AF8-4407-AEDA-6387343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B12-C62A-488C-82B4-82545FD4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588-5E6C-48A9-8EBA-A2FC1731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49A4-733B-43CE-B834-5F140459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C0BD-C317-4770-9F61-2A0384B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F73-E6C6-446C-8C7B-7291C0F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9CB3-0C03-44EB-90CC-D15DB0B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227-0D30-46CD-8209-84F37CD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D51-5962-4B5F-BFD5-EE3A05EE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F2DE-1E88-4958-9219-77A9FF0B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6E0A-C6B7-44CF-9059-72EF428A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DB1C-1B34-48F8-A062-7AB51055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53F8-F1E9-4586-8D5D-09B7A3BA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AD97-81B6-406F-B1DD-50FBEF23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3694-26EA-4B3C-A90F-67B6C1EC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ED9F-F10E-4063-AD45-D9E420AC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771-8126-4A2D-A8FA-EFC7A153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89A8-9E16-4F8D-BACA-DC54E06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8749-5C35-4090-927B-9385E28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1CCF-108A-4169-A91D-9BD490C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7790-A77F-45F9-B761-315AFDB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B030-E840-4973-B911-D5805E2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D72E-313F-49E8-9600-C6136F91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4698-236B-4AE6-BA2B-9C73A176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BBD4-1CE6-4C00-A6F9-39C784B3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93A5-F2EE-47DD-8A9B-B9A7FBD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9F8D-5D33-4F8F-AFF6-CA4952A3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110-D3F7-491E-92D7-DDB5CFE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C8C36-7161-4EFB-A71E-05A3A996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700C-887D-4D10-AC8C-15DCE74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E6AC-60ED-4B54-BA36-78F5F937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638F0-2C00-40D3-89AA-ABBDF04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33ECC-AAE4-4A1D-976E-BE3C4B1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BE49-5C3F-4A0C-B5CB-7B550DC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B2B0-4B85-44CA-939E-C112F364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8B69-39CB-4BDC-A310-0A393598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BD50-EE0F-49FD-A26A-FB4021A7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5FF-531E-4125-B8FD-B4E042C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7F6-7549-4B5B-B653-92B367AA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AE1-0C7E-4D05-8AA2-CBC7401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63C-60CF-4B4C-B7FF-59EFC36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E4D-4D60-4890-8884-841CB69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6C61-A73D-46B3-9E72-518590BCE9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5DE3-10A0-4584-83C3-1ECA1380D8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D985-4952-4E78-BFEF-63972AA11C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C103-5350-439D-AA6A-89E8C9AB787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50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995640" y="3789360"/>
            <a:ext cx="171000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5869080" y="5052960"/>
            <a:ext cx="28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omic Sans MS"/>
              </a:rPr>
              <a:t>Animal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995640" y="3789360"/>
            <a:ext cx="171000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5510160" y="5786280"/>
            <a:ext cx="33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99"/>
                </a:solidFill>
                <a:latin typeface="Comic Sans MS"/>
              </a:rPr>
              <a:t>Adj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5869080" y="5052960"/>
            <a:ext cx="28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omic Sans MS"/>
              </a:rPr>
              <a:t>Animal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5557680" y="5464080"/>
            <a:ext cx="33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99"/>
                </a:solidFill>
                <a:latin typeface="Comic Sans MS"/>
              </a:rPr>
              <a:t>Adj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5916600" y="4795920"/>
            <a:ext cx="287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omic Sans MS"/>
              </a:rPr>
              <a:t>Animal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Box 26"/>
          <p:cNvSpPr/>
          <p:nvPr/>
        </p:nvSpPr>
        <p:spPr>
          <a:xfrm>
            <a:off x="5557680" y="6132600"/>
            <a:ext cx="33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6600"/>
                </a:solidFill>
                <a:latin typeface="Comic Sans MS"/>
              </a:rPr>
              <a:t>êt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Explosion 1 38"/>
          <p:cNvSpPr/>
          <p:nvPr/>
        </p:nvSpPr>
        <p:spPr>
          <a:xfrm>
            <a:off x="4067280" y="5013360"/>
            <a:ext cx="1442880" cy="1295280"/>
          </a:xfrm>
          <a:prstGeom prst="irregularSeal1">
            <a:avLst/>
          </a:prstGeom>
          <a:solidFill>
            <a:srgbClr val="ff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Box 39"/>
          <p:cNvSpPr/>
          <p:nvPr/>
        </p:nvSpPr>
        <p:spPr>
          <a:xfrm>
            <a:off x="5510160" y="5097600"/>
            <a:ext cx="363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omic Sans MS"/>
              </a:rPr>
              <a:t>Conn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Rectangle 40"/>
          <p:cNvSpPr/>
          <p:nvPr/>
        </p:nvSpPr>
        <p:spPr>
          <a:xfrm>
            <a:off x="4943520" y="157320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Rectangle 41"/>
          <p:cNvSpPr/>
          <p:nvPr/>
        </p:nvSpPr>
        <p:spPr>
          <a:xfrm>
            <a:off x="5014800" y="2138400"/>
            <a:ext cx="41616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Rectangle 42"/>
          <p:cNvSpPr/>
          <p:nvPr/>
        </p:nvSpPr>
        <p:spPr>
          <a:xfrm>
            <a:off x="474840" y="2693880"/>
            <a:ext cx="830160" cy="3589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Rectangle 43"/>
          <p:cNvSpPr/>
          <p:nvPr/>
        </p:nvSpPr>
        <p:spPr>
          <a:xfrm>
            <a:off x="5769000" y="2695680"/>
            <a:ext cx="39672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Rectangle 44"/>
          <p:cNvSpPr/>
          <p:nvPr/>
        </p:nvSpPr>
        <p:spPr>
          <a:xfrm>
            <a:off x="1565280" y="3228840"/>
            <a:ext cx="1566720" cy="40500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Rectangle 45"/>
          <p:cNvSpPr/>
          <p:nvPr/>
        </p:nvSpPr>
        <p:spPr>
          <a:xfrm>
            <a:off x="3633840" y="3798720"/>
            <a:ext cx="4334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Rectangle 46"/>
          <p:cNvSpPr/>
          <p:nvPr/>
        </p:nvSpPr>
        <p:spPr>
          <a:xfrm>
            <a:off x="4686480" y="434808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Explosion 1 38"/>
          <p:cNvSpPr/>
          <p:nvPr/>
        </p:nvSpPr>
        <p:spPr>
          <a:xfrm>
            <a:off x="4067280" y="5013360"/>
            <a:ext cx="1442880" cy="1295280"/>
          </a:xfrm>
          <a:prstGeom prst="irregularSeal1">
            <a:avLst/>
          </a:prstGeom>
          <a:solidFill>
            <a:srgbClr val="ff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TextBox 39"/>
          <p:cNvSpPr/>
          <p:nvPr/>
        </p:nvSpPr>
        <p:spPr>
          <a:xfrm>
            <a:off x="5510160" y="5097600"/>
            <a:ext cx="363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omic Sans MS"/>
              </a:rPr>
              <a:t>Conn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Rectangle 40"/>
          <p:cNvSpPr/>
          <p:nvPr/>
        </p:nvSpPr>
        <p:spPr>
          <a:xfrm>
            <a:off x="4943520" y="157320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5014800" y="2138400"/>
            <a:ext cx="41616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Rectangle 42"/>
          <p:cNvSpPr/>
          <p:nvPr/>
        </p:nvSpPr>
        <p:spPr>
          <a:xfrm>
            <a:off x="474840" y="2693880"/>
            <a:ext cx="830160" cy="3589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5769000" y="2695680"/>
            <a:ext cx="39672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Rectangle 44"/>
          <p:cNvSpPr/>
          <p:nvPr/>
        </p:nvSpPr>
        <p:spPr>
          <a:xfrm>
            <a:off x="1565280" y="3228840"/>
            <a:ext cx="1566720" cy="40500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Rectangle 45"/>
          <p:cNvSpPr/>
          <p:nvPr/>
        </p:nvSpPr>
        <p:spPr>
          <a:xfrm>
            <a:off x="3633840" y="3798720"/>
            <a:ext cx="4334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Rectangle 46"/>
          <p:cNvSpPr/>
          <p:nvPr/>
        </p:nvSpPr>
        <p:spPr>
          <a:xfrm>
            <a:off x="4686480" y="434808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TextBox 47"/>
          <p:cNvSpPr/>
          <p:nvPr/>
        </p:nvSpPr>
        <p:spPr>
          <a:xfrm>
            <a:off x="5510160" y="5700600"/>
            <a:ext cx="363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66ff"/>
                </a:solidFill>
                <a:latin typeface="Comic Sans MS"/>
              </a:rPr>
              <a:t>Qualifier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48"/>
          <p:cNvSpPr/>
          <p:nvPr/>
        </p:nvSpPr>
        <p:spPr>
          <a:xfrm>
            <a:off x="1001880" y="3798720"/>
            <a:ext cx="137772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9"/>
          <p:cNvSpPr/>
          <p:nvPr/>
        </p:nvSpPr>
        <p:spPr>
          <a:xfrm>
            <a:off x="6248520" y="3787920"/>
            <a:ext cx="9032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50"/>
          <p:cNvSpPr/>
          <p:nvPr/>
        </p:nvSpPr>
        <p:spPr>
          <a:xfrm>
            <a:off x="414360" y="4917960"/>
            <a:ext cx="6890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"/>
          <p:cNvSpPr/>
          <p:nvPr/>
        </p:nvSpPr>
        <p:spPr>
          <a:xfrm>
            <a:off x="6426360" y="3133800"/>
            <a:ext cx="1962000" cy="485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705640" y="1557360"/>
            <a:ext cx="1314360" cy="358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692360" y="2060640"/>
            <a:ext cx="158436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5435640" y="2133720"/>
            <a:ext cx="1873080" cy="3585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1547640" y="2637000"/>
            <a:ext cx="1368720" cy="431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6165720" y="2708280"/>
            <a:ext cx="1646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3132000" y="3259080"/>
            <a:ext cx="17272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2276640" y="1573200"/>
            <a:ext cx="1152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4067280" y="3789360"/>
            <a:ext cx="163836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385920" y="4292640"/>
            <a:ext cx="1738080" cy="36036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5510160" y="4338720"/>
            <a:ext cx="2157480" cy="45864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3914640" y="15415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385920" y="2093760"/>
            <a:ext cx="1015920" cy="3668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848040" y="2133720"/>
            <a:ext cx="1116000" cy="3585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7880400" y="213372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3487680" y="2673360"/>
            <a:ext cx="79704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385920" y="3214800"/>
            <a:ext cx="10159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5435640" y="3209760"/>
            <a:ext cx="86508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2411280" y="3817800"/>
            <a:ext cx="107640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7151760" y="3787920"/>
            <a:ext cx="9493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522600" y="4338720"/>
            <a:ext cx="101772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1106640" y="4929120"/>
            <a:ext cx="1017360" cy="3603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424320" y="15778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7310520" y="158112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3324240" y="2114640"/>
            <a:ext cx="49068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7313760" y="2125800"/>
            <a:ext cx="4921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959200" y="26557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7854840" y="2700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4954680" y="3219480"/>
            <a:ext cx="49032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474840" y="3814920"/>
            <a:ext cx="490320" cy="358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738760" y="376236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2414520" y="4338720"/>
            <a:ext cx="490680" cy="360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7740720" y="4351320"/>
            <a:ext cx="490320" cy="3589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Explosion 1 38"/>
          <p:cNvSpPr/>
          <p:nvPr/>
        </p:nvSpPr>
        <p:spPr>
          <a:xfrm>
            <a:off x="4067280" y="5013360"/>
            <a:ext cx="1442880" cy="1295280"/>
          </a:xfrm>
          <a:prstGeom prst="irregularSeal1">
            <a:avLst/>
          </a:prstGeom>
          <a:solidFill>
            <a:srgbClr val="ff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5510160" y="4910040"/>
            <a:ext cx="363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omic Sans MS"/>
              </a:rPr>
              <a:t>Connectiv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4943520" y="157320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5014800" y="2138400"/>
            <a:ext cx="41616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474840" y="2693880"/>
            <a:ext cx="830160" cy="3589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5769000" y="2695680"/>
            <a:ext cx="39672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1565280" y="3228840"/>
            <a:ext cx="1566720" cy="40500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3633840" y="3798720"/>
            <a:ext cx="4334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4686480" y="4348080"/>
            <a:ext cx="795240" cy="360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Box 47"/>
          <p:cNvSpPr/>
          <p:nvPr/>
        </p:nvSpPr>
        <p:spPr>
          <a:xfrm>
            <a:off x="5519880" y="5559480"/>
            <a:ext cx="363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66ff"/>
                </a:solidFill>
                <a:latin typeface="Comic Sans MS"/>
              </a:rPr>
              <a:t>Qualifier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48"/>
          <p:cNvSpPr/>
          <p:nvPr/>
        </p:nvSpPr>
        <p:spPr>
          <a:xfrm>
            <a:off x="1001880" y="3798720"/>
            <a:ext cx="137772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Rectangle 49"/>
          <p:cNvSpPr/>
          <p:nvPr/>
        </p:nvSpPr>
        <p:spPr>
          <a:xfrm>
            <a:off x="6248520" y="3787920"/>
            <a:ext cx="9032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Rectangle 50"/>
          <p:cNvSpPr/>
          <p:nvPr/>
        </p:nvSpPr>
        <p:spPr>
          <a:xfrm>
            <a:off x="414360" y="4917960"/>
            <a:ext cx="689040" cy="3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Box 51"/>
          <p:cNvSpPr/>
          <p:nvPr/>
        </p:nvSpPr>
        <p:spPr>
          <a:xfrm>
            <a:off x="5518080" y="6153120"/>
            <a:ext cx="36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200"/>
                </a:solidFill>
                <a:latin typeface="Comic Sans MS"/>
              </a:rPr>
              <a:t>Opinion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4884840" y="882720"/>
            <a:ext cx="1127160" cy="385560"/>
          </a:xfrm>
          <a:prstGeom prst="rect">
            <a:avLst/>
          </a:prstGeom>
          <a:noFill/>
          <a:ln w="5724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Rectangle 53"/>
          <p:cNvSpPr/>
          <p:nvPr/>
        </p:nvSpPr>
        <p:spPr>
          <a:xfrm>
            <a:off x="353880" y="1455840"/>
            <a:ext cx="1911600" cy="460440"/>
          </a:xfrm>
          <a:prstGeom prst="rect">
            <a:avLst/>
          </a:prstGeom>
          <a:noFill/>
          <a:ln w="5724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54"/>
          <p:cNvSpPr/>
          <p:nvPr/>
        </p:nvSpPr>
        <p:spPr>
          <a:xfrm>
            <a:off x="4284720" y="2658960"/>
            <a:ext cx="1420920" cy="430200"/>
          </a:xfrm>
          <a:prstGeom prst="rect">
            <a:avLst/>
          </a:prstGeom>
          <a:noFill/>
          <a:ln w="5724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3:14Z</dcterms:modified>
  <cp:revision>135</cp:revision>
  <dc:subject/>
  <dc:title>Slide 1</dc:title>
</cp:coreProperties>
</file>