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081-E62F-401D-B76E-EA94A3D3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9C2-D6FB-4728-94F6-66A2E59D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3FF-C1EA-4955-8308-D1249A18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594-38A7-489D-8BC2-726872CA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393E-2695-4300-9DA8-D9953D5D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0C66-9087-418D-B24F-83F0983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CB10-9596-4E77-A8EC-7DA3A2C5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0F3F-1E14-4763-8D44-8482B90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DDCC-55B7-4D85-9577-93D77C25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B887-C483-4841-93AB-E68123F2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C4B7-C425-46A0-92A4-0B760C9C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F02-6257-4EAA-8207-9976F5BC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C9A8-2101-4D4A-94C0-68F2717E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C5BC-500D-4196-B063-E98F0F1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A19A-1EFC-46EA-93A2-0E2AF63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FA0E-B411-4D32-9292-386981A7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73D4-117E-4230-94DD-59E36B40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3607-2198-4BF8-80BF-31A52FAB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9EED-F245-469B-9FE0-88158DBA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8603-0784-4C5A-9FE8-568529AD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66DA6-75AF-4576-AAC6-E2492CAA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EF0B-2CAE-4FFD-8811-6EBD7093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1BA-0623-4AB8-8F04-407D8DD7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0860-7627-468B-AFD0-35A28D84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31EA-93D3-4052-9497-416C75E6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C2BA-FC38-4948-835E-33EC337C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DBC9-7A6D-48CF-BDDC-AC4A10BD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0A03-05EB-4C0F-803C-A08F2747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AFA52-603E-492D-AC41-1626D7DC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EDB52-76B9-4DA2-8FAC-E9969C45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40A88-9692-4170-9AB4-D474095B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1048-1818-41C7-978C-6C908E3E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210A9-D72F-4FC0-9761-5DEF7914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D17-E3A0-4E8D-B449-2A5983F9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379B-4628-443A-9554-1612BDC4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388C1-5E9C-4D04-B8AD-3DA5B874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9FD8-7D6C-47EB-816E-E385953B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D372-72D1-4101-9E49-5E2AB937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4880-8470-4F74-BEC9-91C88FFD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7BF0-2E80-4CDC-8073-41FF2E8F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DBE8-2441-437F-8870-6243DF08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1B9C-A376-40BA-B477-E1B1FA9E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EFE9-BD10-469C-A1E3-06464499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DE5-AFF0-45B8-AD55-BCE00665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652-60A2-4886-8A2F-8B85CE78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C3D-2C82-4316-AF5B-6938CFD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97F-53F3-4514-9C83-AC2E378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80C-6522-4EB7-AD57-20E0D52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C094-E6B4-4FE1-BC72-24E2CB67C8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D4E8-BF2B-46D7-91A3-838CAF6871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101D-4013-402F-8E4E-720CBB6905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27A1-96D5-4224-807E-D39B3EBBBFB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250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995640" y="3789360"/>
            <a:ext cx="171000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5869080" y="5052960"/>
            <a:ext cx="28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omic Sans MS"/>
              </a:rPr>
              <a:t>Animal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995640" y="3789360"/>
            <a:ext cx="171000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5510160" y="5786280"/>
            <a:ext cx="33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99"/>
                </a:solidFill>
                <a:latin typeface="Comic Sans MS"/>
              </a:rPr>
              <a:t>Adj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5869080" y="5052960"/>
            <a:ext cx="28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omic Sans MS"/>
              </a:rPr>
              <a:t>Animal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067280" y="3789360"/>
            <a:ext cx="1638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5557680" y="5464080"/>
            <a:ext cx="33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99"/>
                </a:solidFill>
                <a:latin typeface="Comic Sans MS"/>
              </a:rPr>
              <a:t>Adj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5916600" y="4795920"/>
            <a:ext cx="287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omic Sans MS"/>
              </a:rPr>
              <a:t>Animal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Box 26"/>
          <p:cNvSpPr/>
          <p:nvPr/>
        </p:nvSpPr>
        <p:spPr>
          <a:xfrm>
            <a:off x="5557680" y="6132600"/>
            <a:ext cx="33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6600"/>
                </a:solidFill>
                <a:latin typeface="Comic Sans MS"/>
              </a:rPr>
              <a:t>êt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3424320" y="15778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7310520" y="158112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3324240" y="2114640"/>
            <a:ext cx="49068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7313760" y="212580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2959200" y="26557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7854840" y="2700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4954680" y="32194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474840" y="3814920"/>
            <a:ext cx="49032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5738760" y="3762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36"/>
          <p:cNvSpPr/>
          <p:nvPr/>
        </p:nvSpPr>
        <p:spPr>
          <a:xfrm>
            <a:off x="2414520" y="433872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7740720" y="43513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067280" y="3789360"/>
            <a:ext cx="1638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3424320" y="15778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7310520" y="158112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3324240" y="2114640"/>
            <a:ext cx="49068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7313760" y="212580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2959200" y="26557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Rectangle 32"/>
          <p:cNvSpPr/>
          <p:nvPr/>
        </p:nvSpPr>
        <p:spPr>
          <a:xfrm>
            <a:off x="7854840" y="2700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Rectangle 33"/>
          <p:cNvSpPr/>
          <p:nvPr/>
        </p:nvSpPr>
        <p:spPr>
          <a:xfrm>
            <a:off x="4954680" y="32194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Rectangle 34"/>
          <p:cNvSpPr/>
          <p:nvPr/>
        </p:nvSpPr>
        <p:spPr>
          <a:xfrm>
            <a:off x="474840" y="3814920"/>
            <a:ext cx="49032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Rectangle 35"/>
          <p:cNvSpPr/>
          <p:nvPr/>
        </p:nvSpPr>
        <p:spPr>
          <a:xfrm>
            <a:off x="5738760" y="3762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Rectangle 36"/>
          <p:cNvSpPr/>
          <p:nvPr/>
        </p:nvSpPr>
        <p:spPr>
          <a:xfrm>
            <a:off x="2414520" y="433872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7740720" y="43513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Explosion 1 38"/>
          <p:cNvSpPr/>
          <p:nvPr/>
        </p:nvSpPr>
        <p:spPr>
          <a:xfrm>
            <a:off x="4067280" y="5013360"/>
            <a:ext cx="1442880" cy="1295280"/>
          </a:xfrm>
          <a:prstGeom prst="irregularSeal1">
            <a:avLst/>
          </a:prstGeom>
          <a:solidFill>
            <a:srgbClr val="ffff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Box 39"/>
          <p:cNvSpPr/>
          <p:nvPr/>
        </p:nvSpPr>
        <p:spPr>
          <a:xfrm>
            <a:off x="5510160" y="5097600"/>
            <a:ext cx="363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omic Sans MS"/>
              </a:rPr>
              <a:t>Conn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Rectangle 40"/>
          <p:cNvSpPr/>
          <p:nvPr/>
        </p:nvSpPr>
        <p:spPr>
          <a:xfrm>
            <a:off x="4943520" y="157320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Rectangle 41"/>
          <p:cNvSpPr/>
          <p:nvPr/>
        </p:nvSpPr>
        <p:spPr>
          <a:xfrm>
            <a:off x="5014800" y="2138400"/>
            <a:ext cx="41616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Rectangle 42"/>
          <p:cNvSpPr/>
          <p:nvPr/>
        </p:nvSpPr>
        <p:spPr>
          <a:xfrm>
            <a:off x="474840" y="2693880"/>
            <a:ext cx="830160" cy="3589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Rectangle 43"/>
          <p:cNvSpPr/>
          <p:nvPr/>
        </p:nvSpPr>
        <p:spPr>
          <a:xfrm>
            <a:off x="5769000" y="2695680"/>
            <a:ext cx="39672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Rectangle 44"/>
          <p:cNvSpPr/>
          <p:nvPr/>
        </p:nvSpPr>
        <p:spPr>
          <a:xfrm>
            <a:off x="1565280" y="3228840"/>
            <a:ext cx="1566720" cy="40500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Rectangle 45"/>
          <p:cNvSpPr/>
          <p:nvPr/>
        </p:nvSpPr>
        <p:spPr>
          <a:xfrm>
            <a:off x="3633840" y="3798720"/>
            <a:ext cx="4334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Rectangle 46"/>
          <p:cNvSpPr/>
          <p:nvPr/>
        </p:nvSpPr>
        <p:spPr>
          <a:xfrm>
            <a:off x="4686480" y="434808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067280" y="3789360"/>
            <a:ext cx="1638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3424320" y="15778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7310520" y="158112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324240" y="2114640"/>
            <a:ext cx="49068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7313760" y="212580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2959200" y="26557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7854840" y="2700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4954680" y="32194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74840" y="3814920"/>
            <a:ext cx="49032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Rectangle 35"/>
          <p:cNvSpPr/>
          <p:nvPr/>
        </p:nvSpPr>
        <p:spPr>
          <a:xfrm>
            <a:off x="5738760" y="3762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Rectangle 36"/>
          <p:cNvSpPr/>
          <p:nvPr/>
        </p:nvSpPr>
        <p:spPr>
          <a:xfrm>
            <a:off x="2414520" y="433872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Rectangle 37"/>
          <p:cNvSpPr/>
          <p:nvPr/>
        </p:nvSpPr>
        <p:spPr>
          <a:xfrm>
            <a:off x="7740720" y="43513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Explosion 1 38"/>
          <p:cNvSpPr/>
          <p:nvPr/>
        </p:nvSpPr>
        <p:spPr>
          <a:xfrm>
            <a:off x="4067280" y="5013360"/>
            <a:ext cx="1442880" cy="1295280"/>
          </a:xfrm>
          <a:prstGeom prst="irregularSeal1">
            <a:avLst/>
          </a:prstGeom>
          <a:solidFill>
            <a:srgbClr val="ffff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TextBox 39"/>
          <p:cNvSpPr/>
          <p:nvPr/>
        </p:nvSpPr>
        <p:spPr>
          <a:xfrm>
            <a:off x="5510160" y="5097600"/>
            <a:ext cx="363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omic Sans MS"/>
              </a:rPr>
              <a:t>Conn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Rectangle 40"/>
          <p:cNvSpPr/>
          <p:nvPr/>
        </p:nvSpPr>
        <p:spPr>
          <a:xfrm>
            <a:off x="4943520" y="157320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5014800" y="2138400"/>
            <a:ext cx="41616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Rectangle 42"/>
          <p:cNvSpPr/>
          <p:nvPr/>
        </p:nvSpPr>
        <p:spPr>
          <a:xfrm>
            <a:off x="474840" y="2693880"/>
            <a:ext cx="830160" cy="3589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5769000" y="2695680"/>
            <a:ext cx="39672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Rectangle 44"/>
          <p:cNvSpPr/>
          <p:nvPr/>
        </p:nvSpPr>
        <p:spPr>
          <a:xfrm>
            <a:off x="1565280" y="3228840"/>
            <a:ext cx="1566720" cy="40500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Rectangle 45"/>
          <p:cNvSpPr/>
          <p:nvPr/>
        </p:nvSpPr>
        <p:spPr>
          <a:xfrm>
            <a:off x="3633840" y="3798720"/>
            <a:ext cx="4334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Rectangle 46"/>
          <p:cNvSpPr/>
          <p:nvPr/>
        </p:nvSpPr>
        <p:spPr>
          <a:xfrm>
            <a:off x="4686480" y="434808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TextBox 47"/>
          <p:cNvSpPr/>
          <p:nvPr/>
        </p:nvSpPr>
        <p:spPr>
          <a:xfrm>
            <a:off x="5510160" y="5700600"/>
            <a:ext cx="363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66ff"/>
                </a:solidFill>
                <a:latin typeface="Comic Sans MS"/>
              </a:rPr>
              <a:t>Qualifier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Rectangle 48"/>
          <p:cNvSpPr/>
          <p:nvPr/>
        </p:nvSpPr>
        <p:spPr>
          <a:xfrm>
            <a:off x="1001880" y="3798720"/>
            <a:ext cx="137772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9"/>
          <p:cNvSpPr/>
          <p:nvPr/>
        </p:nvSpPr>
        <p:spPr>
          <a:xfrm>
            <a:off x="6248520" y="3787920"/>
            <a:ext cx="90324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Rectangle 50"/>
          <p:cNvSpPr/>
          <p:nvPr/>
        </p:nvSpPr>
        <p:spPr>
          <a:xfrm>
            <a:off x="414360" y="4917960"/>
            <a:ext cx="68904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4067280" y="3789360"/>
            <a:ext cx="1638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424320" y="15778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7310520" y="158112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3324240" y="2114640"/>
            <a:ext cx="49068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7313760" y="212580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959200" y="26557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7854840" y="2700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4954680" y="32194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474840" y="3814920"/>
            <a:ext cx="49032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738760" y="3762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2414520" y="433872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7740720" y="43513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Explosion 1 38"/>
          <p:cNvSpPr/>
          <p:nvPr/>
        </p:nvSpPr>
        <p:spPr>
          <a:xfrm>
            <a:off x="4067280" y="5013360"/>
            <a:ext cx="1442880" cy="1295280"/>
          </a:xfrm>
          <a:prstGeom prst="irregularSeal1">
            <a:avLst/>
          </a:prstGeom>
          <a:solidFill>
            <a:srgbClr val="ffff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Box 39"/>
          <p:cNvSpPr/>
          <p:nvPr/>
        </p:nvSpPr>
        <p:spPr>
          <a:xfrm>
            <a:off x="5510160" y="4910040"/>
            <a:ext cx="363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omic Sans MS"/>
              </a:rPr>
              <a:t>Conn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4943520" y="157320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5014800" y="2138400"/>
            <a:ext cx="41616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474840" y="2693880"/>
            <a:ext cx="830160" cy="3589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5769000" y="2695680"/>
            <a:ext cx="39672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1565280" y="3228840"/>
            <a:ext cx="1566720" cy="40500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3633840" y="3798720"/>
            <a:ext cx="4334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4686480" y="434808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Box 47"/>
          <p:cNvSpPr/>
          <p:nvPr/>
        </p:nvSpPr>
        <p:spPr>
          <a:xfrm>
            <a:off x="5519880" y="5559480"/>
            <a:ext cx="36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66ff"/>
                </a:solidFill>
                <a:latin typeface="Comic Sans MS"/>
              </a:rPr>
              <a:t>Qualifier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Rectangle 48"/>
          <p:cNvSpPr/>
          <p:nvPr/>
        </p:nvSpPr>
        <p:spPr>
          <a:xfrm>
            <a:off x="1001880" y="3798720"/>
            <a:ext cx="137772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Rectangle 49"/>
          <p:cNvSpPr/>
          <p:nvPr/>
        </p:nvSpPr>
        <p:spPr>
          <a:xfrm>
            <a:off x="6248520" y="3787920"/>
            <a:ext cx="90324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Rectangle 50"/>
          <p:cNvSpPr/>
          <p:nvPr/>
        </p:nvSpPr>
        <p:spPr>
          <a:xfrm>
            <a:off x="414360" y="4917960"/>
            <a:ext cx="68904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Box 51"/>
          <p:cNvSpPr/>
          <p:nvPr/>
        </p:nvSpPr>
        <p:spPr>
          <a:xfrm>
            <a:off x="5518080" y="6153120"/>
            <a:ext cx="363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200"/>
                </a:solidFill>
                <a:latin typeface="Comic Sans MS"/>
              </a:rPr>
              <a:t>Opinion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4884840" y="882720"/>
            <a:ext cx="1127160" cy="385560"/>
          </a:xfrm>
          <a:prstGeom prst="rect">
            <a:avLst/>
          </a:prstGeom>
          <a:noFill/>
          <a:ln w="5724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Rectangle 53"/>
          <p:cNvSpPr/>
          <p:nvPr/>
        </p:nvSpPr>
        <p:spPr>
          <a:xfrm>
            <a:off x="353880" y="1455840"/>
            <a:ext cx="1911600" cy="460440"/>
          </a:xfrm>
          <a:prstGeom prst="rect">
            <a:avLst/>
          </a:prstGeom>
          <a:noFill/>
          <a:ln w="5724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54"/>
          <p:cNvSpPr/>
          <p:nvPr/>
        </p:nvSpPr>
        <p:spPr>
          <a:xfrm>
            <a:off x="4284720" y="2658960"/>
            <a:ext cx="1420920" cy="430200"/>
          </a:xfrm>
          <a:prstGeom prst="rect">
            <a:avLst/>
          </a:prstGeom>
          <a:noFill/>
          <a:ln w="5724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3:14Z</dcterms:modified>
  <cp:revision>135</cp:revision>
  <dc:subject/>
  <dc:title>Slide 1</dc:title>
</cp:coreProperties>
</file>