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25DD-5B77-4228-9E4F-964CD0C5F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7286-CC91-4492-B985-D3A5721B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720B-8641-43B9-B307-5833D2D3F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3C62-6188-4356-B486-49E7DC50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AA68-7343-4FFE-A8AF-298E2ED0E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90AB-8404-4CBD-8ECD-043E9EF5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9DC6-18E1-4829-B70F-9F1E2160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62A9-256E-409F-B5F3-3D902186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F86D-74D3-41B4-B705-113CA312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5BCB-F155-49A2-B2D0-A9382559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997E-D908-4F0C-A68E-2803C7C6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7288-0428-4D6A-8605-52526D0E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50CF-F243-45DC-AB7F-E6C179D5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1A65-64B3-43A8-BB27-C1E68AAE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4E21-CD3C-45B5-B2DA-18C9EDDA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6B06-05A7-49D4-92F4-79A174681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67AF-59E2-438D-9E62-EC275A91F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F7E08-EC84-483A-8527-0403EAC77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A734E-EF9B-4BE2-8AC5-F647B10A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5FF48-CF3E-4389-8564-C7E3BF6F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6368A-FCCA-43EA-97C8-26925364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59D48-EF04-42DF-982C-D553BCEC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8E46-EE67-4CBE-9193-5C7C3176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68D41-DB2E-4900-9487-0DEF643B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79C2E-6987-459E-95C6-746B5865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292BA-6A1D-429B-853A-E4F793E2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B3334-D346-4462-8593-46241111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03261-4E27-496C-AE31-61F64193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BB3C6-85BC-4C2E-9BA5-33D4C1DA8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BB677-8C91-461E-A6D4-56FAF562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A6DCD-DA94-4F95-8220-3AF390E1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B613B-47FD-4668-97B5-2522D071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73480-327C-4164-8EDB-0ED7E646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C31B-7CBA-4382-BC7B-4997C654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4ABE7-A914-4162-A55C-23542204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EAAF2-4A66-4CEC-B32B-D1317128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AF476-BCAF-4CE9-88C4-009A79DE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B0320-EEE1-4CAC-9A8B-DD7EE2F9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F772D-70A0-4F24-A11B-759320F6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B29B6-BAF0-431D-84E3-C2B0FD69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8F313-6866-403A-866C-6C2F84BE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BE9A5-D6E3-431E-BFE7-E20D22A15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F46E4-0BFE-4985-AFDE-29DBF49C8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F9AF-E226-42A7-9411-79D6F70F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C3F1-1721-4812-8DE6-EED0AE2C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284D-16C1-47D3-8D08-973A6AB4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E417-2A96-4D04-9CA7-FE0D0E87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C865-5FAC-446E-832A-B6773F43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1EDD-192A-4A4D-87C1-E08F70DF4E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D0CD-526F-4D70-B611-F0A68D7C88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C721-725C-4BB2-A212-F616EB8A0BC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C77C-1C73-4334-B3A3-1EA738B2F79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13800" cy="45975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2"/>
          <p:cNvSpPr/>
          <p:nvPr/>
        </p:nvSpPr>
        <p:spPr>
          <a:xfrm>
            <a:off x="0" y="1159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Chandeleur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0" y="6021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le 2 février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2"/>
          <p:cNvSpPr/>
          <p:nvPr/>
        </p:nvSpPr>
        <p:spPr>
          <a:xfrm>
            <a:off x="0" y="1159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Mardi Gras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Box 3"/>
          <p:cNvSpPr/>
          <p:nvPr/>
        </p:nvSpPr>
        <p:spPr>
          <a:xfrm>
            <a:off x="0" y="6021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le 17 février 2015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1" name="Picture 2" descr="http://p1.storage.canalblog.com/16/08/468321/62256850.jpg"/>
          <p:cNvPicPr/>
          <p:nvPr/>
        </p:nvPicPr>
        <p:blipFill>
          <a:blip r:embed="rId1"/>
          <a:stretch/>
        </p:blipFill>
        <p:spPr>
          <a:xfrm>
            <a:off x="4859280" y="3703680"/>
            <a:ext cx="2887560" cy="2160720"/>
          </a:xfrm>
          <a:prstGeom prst="rect">
            <a:avLst/>
          </a:prstGeom>
          <a:ln w="0">
            <a:noFill/>
          </a:ln>
        </p:spPr>
      </p:pic>
      <p:sp>
        <p:nvSpPr>
          <p:cNvPr id="172" name="TextBox 5"/>
          <p:cNvSpPr/>
          <p:nvPr/>
        </p:nvSpPr>
        <p:spPr>
          <a:xfrm>
            <a:off x="6588000" y="3652920"/>
            <a:ext cx="1584360" cy="1068840"/>
          </a:xfrm>
          <a:prstGeom prst="rect">
            <a:avLst/>
          </a:prstGeom>
          <a:solidFill>
            <a:srgbClr val="0b0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ugn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73" name="Group 7"/>
          <p:cNvGrpSpPr/>
          <p:nvPr/>
        </p:nvGrpSpPr>
        <p:grpSpPr>
          <a:xfrm>
            <a:off x="1258920" y="3675240"/>
            <a:ext cx="3035160" cy="2203200"/>
            <a:chOff x="1258920" y="3675240"/>
            <a:chExt cx="3035160" cy="2203200"/>
          </a:xfrm>
        </p:grpSpPr>
        <p:pic>
          <p:nvPicPr>
            <p:cNvPr id="174" name="Picture 4" descr="http://www.wherewearinthecity.com/wp-content/uploads/2013/09/beignets.jpg"/>
            <p:cNvPicPr/>
            <p:nvPr/>
          </p:nvPicPr>
          <p:blipFill>
            <a:blip r:embed="rId2"/>
            <a:stretch/>
          </p:blipFill>
          <p:spPr>
            <a:xfrm>
              <a:off x="1609560" y="3733200"/>
              <a:ext cx="2684520" cy="21452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175" name="TextBox 8"/>
            <p:cNvSpPr/>
            <p:nvPr/>
          </p:nvSpPr>
          <p:spPr>
            <a:xfrm>
              <a:off x="1258920" y="3675240"/>
              <a:ext cx="1833480" cy="1068840"/>
            </a:xfrm>
            <a:prstGeom prst="rect">
              <a:avLst/>
            </a:prstGeom>
            <a:solidFill>
              <a:srgbClr val="0b0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beignets</a:t>
              </a:r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pic>
        <p:nvPicPr>
          <p:cNvPr id="176" name="Picture 6" descr=""/>
          <p:cNvPicPr/>
          <p:nvPr/>
        </p:nvPicPr>
        <p:blipFill>
          <a:blip r:embed="rId3"/>
          <a:srcRect l="0" t="0" r="0" b="43239"/>
          <a:stretch/>
        </p:blipFill>
        <p:spPr>
          <a:xfrm>
            <a:off x="166680" y="1131840"/>
            <a:ext cx="871056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62699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6300720" y="3700440"/>
            <a:ext cx="3144960" cy="3144960"/>
          </a:xfrm>
          <a:prstGeom prst="rect">
            <a:avLst/>
          </a:prstGeom>
          <a:ln w="0">
            <a:noFill/>
          </a:ln>
        </p:spPr>
      </p:pic>
      <p:sp>
        <p:nvSpPr>
          <p:cNvPr id="179" name="TextBox 1"/>
          <p:cNvSpPr/>
          <p:nvPr/>
        </p:nvSpPr>
        <p:spPr>
          <a:xfrm>
            <a:off x="179280" y="260280"/>
            <a:ext cx="878544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omic Sans MS"/>
              </a:rPr>
              <a:t>Quand on fait des crêpes chez nous,</a:t>
            </a:r>
            <a:br>
              <a:rPr sz="4000"/>
            </a:br>
            <a:r>
              <a:rPr b="0" lang="fr-FR" sz="4000" spc="-1" strike="noStrike">
                <a:solidFill>
                  <a:srgbClr val="ffffff"/>
                </a:solidFill>
                <a:latin typeface="Comic Sans MS"/>
              </a:rPr>
              <a:t>Ma mère vous invite.</a:t>
            </a:r>
            <a:br>
              <a:rPr sz="4000"/>
            </a:br>
            <a:r>
              <a:rPr b="0" lang="fr-FR" sz="4000" spc="-1" strike="noStrike">
                <a:solidFill>
                  <a:srgbClr val="ffffff"/>
                </a:solidFill>
                <a:latin typeface="Comic Sans MS"/>
              </a:rPr>
              <a:t>Quand on fait des crêpes chez nous,</a:t>
            </a:r>
            <a:br>
              <a:rPr sz="4000"/>
            </a:br>
            <a:r>
              <a:rPr b="0" lang="fr-FR" sz="4000" spc="-1" strike="noStrike">
                <a:solidFill>
                  <a:srgbClr val="ffffff"/>
                </a:solidFill>
                <a:latin typeface="Comic Sans MS"/>
              </a:rPr>
              <a:t>Elle vous invite tous!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ffffff"/>
                </a:solidFill>
                <a:latin typeface="Comic Sans MS"/>
              </a:rPr>
              <a:t>Une pour toi, une pour moi, </a:t>
            </a:r>
            <a:br>
              <a:rPr sz="4000"/>
            </a:br>
            <a:r>
              <a:rPr b="0" lang="fr-FR" sz="4000" spc="-1" strike="noStrike">
                <a:solidFill>
                  <a:srgbClr val="ffffff"/>
                </a:solidFill>
                <a:latin typeface="Comic Sans MS"/>
              </a:rPr>
              <a:t>Une pour mon petit frère François</a:t>
            </a:r>
            <a:br>
              <a:rPr sz="4000"/>
            </a:br>
            <a:r>
              <a:rPr b="0" lang="fr-FR" sz="4000" spc="-1" strike="noStrike">
                <a:solidFill>
                  <a:srgbClr val="ffffff"/>
                </a:solidFill>
                <a:latin typeface="Comic Sans MS"/>
              </a:rPr>
              <a:t>Une pour toi, une pour moi,</a:t>
            </a:r>
            <a:br>
              <a:rPr sz="4000"/>
            </a:br>
            <a:r>
              <a:rPr b="0" lang="fr-FR" sz="4000" spc="-1" strike="noStrike">
                <a:solidFill>
                  <a:srgbClr val="ffffff"/>
                </a:solidFill>
                <a:latin typeface="Comic Sans MS"/>
              </a:rPr>
              <a:t>Une pour tous les trois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" descr="lemon"/>
          <p:cNvPicPr/>
          <p:nvPr/>
        </p:nvPicPr>
        <p:blipFill>
          <a:blip r:embed="rId1"/>
          <a:stretch/>
        </p:blipFill>
        <p:spPr>
          <a:xfrm>
            <a:off x="250920" y="765000"/>
            <a:ext cx="3031920" cy="2016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article?img_id=1073347&amp;t=1422874157320"/>
          <p:cNvPicPr/>
          <p:nvPr/>
        </p:nvPicPr>
        <p:blipFill>
          <a:blip r:embed="rId2"/>
          <a:stretch/>
        </p:blipFill>
        <p:spPr>
          <a:xfrm>
            <a:off x="3638520" y="765000"/>
            <a:ext cx="2367000" cy="2557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tumblr_static_cheese_205_1362800142"/>
          <p:cNvPicPr/>
          <p:nvPr/>
        </p:nvPicPr>
        <p:blipFill>
          <a:blip r:embed="rId3"/>
          <a:stretch/>
        </p:blipFill>
        <p:spPr>
          <a:xfrm>
            <a:off x="1301760" y="3789360"/>
            <a:ext cx="2367000" cy="2303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czeladnika_ham"/>
          <p:cNvPicPr/>
          <p:nvPr/>
        </p:nvPicPr>
        <p:blipFill>
          <a:blip r:embed="rId4"/>
          <a:srcRect l="13003" t="10816" r="6401" b="15904"/>
          <a:stretch/>
        </p:blipFill>
        <p:spPr>
          <a:xfrm>
            <a:off x="4745160" y="3925800"/>
            <a:ext cx="3354120" cy="2030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Bonne_Maman_Strawberry_Wild_Strawberry_Jam_370__42765"/>
          <p:cNvPicPr/>
          <p:nvPr/>
        </p:nvPicPr>
        <p:blipFill>
          <a:blip r:embed="rId5"/>
          <a:stretch/>
        </p:blipFill>
        <p:spPr>
          <a:xfrm>
            <a:off x="6362640" y="765000"/>
            <a:ext cx="2541600" cy="2541600"/>
          </a:xfrm>
          <a:prstGeom prst="rect">
            <a:avLst/>
          </a:prstGeom>
          <a:ln w="0">
            <a:noFill/>
          </a:ln>
        </p:spPr>
      </p:pic>
      <p:sp>
        <p:nvSpPr>
          <p:cNvPr id="185" name="TextBox 1"/>
          <p:cNvSpPr/>
          <p:nvPr/>
        </p:nvSpPr>
        <p:spPr>
          <a:xfrm>
            <a:off x="108000" y="379440"/>
            <a:ext cx="431640" cy="76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TextBox 7"/>
          <p:cNvSpPr/>
          <p:nvPr/>
        </p:nvSpPr>
        <p:spPr>
          <a:xfrm>
            <a:off x="3452760" y="393840"/>
            <a:ext cx="433440" cy="76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TextBox 8"/>
          <p:cNvSpPr/>
          <p:nvPr/>
        </p:nvSpPr>
        <p:spPr>
          <a:xfrm>
            <a:off x="6205680" y="393840"/>
            <a:ext cx="433080" cy="76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TextBox 9"/>
          <p:cNvSpPr/>
          <p:nvPr/>
        </p:nvSpPr>
        <p:spPr>
          <a:xfrm>
            <a:off x="1085760" y="3403440"/>
            <a:ext cx="432000" cy="76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Box 10"/>
          <p:cNvSpPr/>
          <p:nvPr/>
        </p:nvSpPr>
        <p:spPr>
          <a:xfrm>
            <a:off x="4606920" y="3556080"/>
            <a:ext cx="431640" cy="76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3"/>
          <p:cNvSpPr/>
          <p:nvPr/>
        </p:nvSpPr>
        <p:spPr>
          <a:xfrm>
            <a:off x="4356000" y="192240"/>
            <a:ext cx="478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j’adore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4356000" y="1943280"/>
            <a:ext cx="478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j’aime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4356000" y="3693960"/>
            <a:ext cx="47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je n’aime pas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4356000" y="5445000"/>
            <a:ext cx="478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je déteste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4" name="Picture 8" descr=""/>
          <p:cNvPicPr/>
          <p:nvPr/>
        </p:nvPicPr>
        <p:blipFill>
          <a:blip r:embed="rId1"/>
          <a:stretch/>
        </p:blipFill>
        <p:spPr>
          <a:xfrm>
            <a:off x="1731960" y="0"/>
            <a:ext cx="2638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5-03-23T15:23:45Z</dcterms:modified>
  <cp:revision>40</cp:revision>
  <dc:subject/>
  <dc:title>Slide 1</dc:title>
</cp:coreProperties>
</file>