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5647-D310-4BCB-B395-886C81023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FE2C-E126-4F8A-84B3-3A9064BC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EC8E-A166-4D0D-A37E-3E4EFD35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5ADB-8069-48A4-8D7B-522C5F08F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740B-6569-484E-983F-85230BE4C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0D50-0977-4599-8515-D6BF0175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0968-DF4D-420B-A563-90928FA0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2512-5F18-4C02-AD96-458A1114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C548-6FE2-482F-B359-4471C4D6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67E8-162B-4910-B977-0C1674AC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D6E4-9B71-4CF5-A2D4-80AE9566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35B2-CA54-4B20-9A74-07107F59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4FAE-D882-49DE-B23C-C82BEE42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1EE2-78E3-46EC-BC2B-8F2FDECE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7CF9-5AAC-490E-B1AC-865E599C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E83B-8967-48F8-A49F-DE5A8F9E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5DDE-0265-4A2E-A5FD-4AE03E7F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20142-7F3C-49DF-9A9A-633AE374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83A79-3679-4928-8135-90F908AF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26045-150F-49A1-AD59-21CC61EC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01DAE-505F-49A7-BF74-AA7FE849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D40AE-A79B-46FE-80BD-63ED7FA3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E37F-7549-4E76-A1D8-D1897801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00235-52F3-43A5-AD69-63A26C9C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DAF2E-6C44-4517-AB31-657EFFD6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B4D4D-62A1-459B-B3B1-3728D8E1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4C296-0349-4F49-AEDA-8F300BAF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5C117-474B-4408-B98A-1DE26860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2FA20-B0FB-402F-92CF-7F82021B5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7116A-20CE-4B3A-868B-99FAADDF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2D1C7-EF01-4D2D-85DD-2996A48B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C8BCC-4394-461E-8160-733F81D7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6550C-883B-44D8-8845-4193BCFF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EBD2-E957-4247-AF77-93FD2189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3B9C0-AF55-4673-928E-52B20671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02629-F9FE-4E7E-B683-1FE4D562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92B9C-E1F6-48DF-9DFC-72820B14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18150-3641-4119-852F-17B38F5A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A6744-DEFC-4A08-AAEF-AD290CB4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7FFC0-34D4-4A1B-ACCC-131A1801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30439-169F-4D31-83DB-B2A9292A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BB868-29AE-404F-845E-7E5B3B06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E2FF7-558C-459F-B6E5-14AA0BA0F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E864-0E5B-418E-A712-923B4DEC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31CC-E561-45E0-A48D-CBDE88FE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1EB4-1925-42F5-BCD6-82726C4B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231E-C741-466A-AAF4-F2731D71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47C4-9EA2-41E1-AFF9-C4DC82E8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28FB-639A-4E55-8FED-8FA1D29B62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E539-D1B4-4315-839F-9A5D05DB91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17E1-4C0E-4BAA-B919-0D561BDC81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CE21-1462-4E94-A768-3C86F980D8F2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13800" cy="45975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2"/>
          <p:cNvSpPr/>
          <p:nvPr/>
        </p:nvSpPr>
        <p:spPr>
          <a:xfrm>
            <a:off x="0" y="1159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Chandeleur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0" y="6021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le 2 février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2"/>
          <p:cNvSpPr/>
          <p:nvPr/>
        </p:nvSpPr>
        <p:spPr>
          <a:xfrm>
            <a:off x="0" y="1159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Mardi Gras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0" y="6021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le 17 février 2015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1" name="Picture 2" descr="http://p1.storage.canalblog.com/16/08/468321/62256850.jpg"/>
          <p:cNvPicPr/>
          <p:nvPr/>
        </p:nvPicPr>
        <p:blipFill>
          <a:blip r:embed="rId1"/>
          <a:stretch/>
        </p:blipFill>
        <p:spPr>
          <a:xfrm>
            <a:off x="4859280" y="3703680"/>
            <a:ext cx="2887560" cy="2160720"/>
          </a:xfrm>
          <a:prstGeom prst="rect">
            <a:avLst/>
          </a:prstGeom>
          <a:ln w="0">
            <a:noFill/>
          </a:ln>
        </p:spPr>
      </p:pic>
      <p:sp>
        <p:nvSpPr>
          <p:cNvPr id="172" name="TextBox 5"/>
          <p:cNvSpPr/>
          <p:nvPr/>
        </p:nvSpPr>
        <p:spPr>
          <a:xfrm>
            <a:off x="6588000" y="3652920"/>
            <a:ext cx="1584360" cy="1068840"/>
          </a:xfrm>
          <a:prstGeom prst="rect">
            <a:avLst/>
          </a:prstGeom>
          <a:solidFill>
            <a:srgbClr val="0b0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ugn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73" name="Group 7"/>
          <p:cNvGrpSpPr/>
          <p:nvPr/>
        </p:nvGrpSpPr>
        <p:grpSpPr>
          <a:xfrm>
            <a:off x="1258920" y="3675240"/>
            <a:ext cx="3035160" cy="2203200"/>
            <a:chOff x="1258920" y="3675240"/>
            <a:chExt cx="3035160" cy="2203200"/>
          </a:xfrm>
        </p:grpSpPr>
        <p:pic>
          <p:nvPicPr>
            <p:cNvPr id="174" name="Picture 4" descr="http://www.wherewearinthecity.com/wp-content/uploads/2013/09/beignets.jpg"/>
            <p:cNvPicPr/>
            <p:nvPr/>
          </p:nvPicPr>
          <p:blipFill>
            <a:blip r:embed="rId2"/>
            <a:stretch/>
          </p:blipFill>
          <p:spPr>
            <a:xfrm>
              <a:off x="1609560" y="3733200"/>
              <a:ext cx="2684520" cy="21452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175" name="TextBox 8"/>
            <p:cNvSpPr/>
            <p:nvPr/>
          </p:nvSpPr>
          <p:spPr>
            <a:xfrm>
              <a:off x="1258920" y="3675240"/>
              <a:ext cx="1833480" cy="1068840"/>
            </a:xfrm>
            <a:prstGeom prst="rect">
              <a:avLst/>
            </a:prstGeom>
            <a:solidFill>
              <a:srgbClr val="0b0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beignets</a:t>
              </a:r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pic>
        <p:nvPicPr>
          <p:cNvPr id="176" name="Picture 6" descr=""/>
          <p:cNvPicPr/>
          <p:nvPr/>
        </p:nvPicPr>
        <p:blipFill>
          <a:blip r:embed="rId3"/>
          <a:srcRect l="0" t="0" r="0" b="43239"/>
          <a:stretch/>
        </p:blipFill>
        <p:spPr>
          <a:xfrm>
            <a:off x="166680" y="1131840"/>
            <a:ext cx="871056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99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6300720" y="3700440"/>
            <a:ext cx="3144960" cy="3144960"/>
          </a:xfrm>
          <a:prstGeom prst="rect">
            <a:avLst/>
          </a:prstGeom>
          <a:ln w="0">
            <a:noFill/>
          </a:ln>
        </p:spPr>
      </p:pic>
      <p:sp>
        <p:nvSpPr>
          <p:cNvPr id="179" name="TextBox 1"/>
          <p:cNvSpPr/>
          <p:nvPr/>
        </p:nvSpPr>
        <p:spPr>
          <a:xfrm>
            <a:off x="179280" y="260280"/>
            <a:ext cx="878544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omic Sans MS"/>
              </a:rPr>
              <a:t>Quand on fait des crêpes chez nous,</a:t>
            </a: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omic Sans MS"/>
              </a:rPr>
              <a:t>Ma mère vous invite.</a:t>
            </a: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omic Sans MS"/>
              </a:rPr>
              <a:t>Quand on fait des crêpes chez nous,</a:t>
            </a: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omic Sans MS"/>
              </a:rPr>
              <a:t>Elle vous invite tous!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omic Sans MS"/>
              </a:rPr>
              <a:t>Une pour toi, une pour moi, </a:t>
            </a: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omic Sans MS"/>
              </a:rPr>
              <a:t>Une pour mon petit frère François</a:t>
            </a: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omic Sans MS"/>
              </a:rPr>
              <a:t>Une pour toi, une pour moi,</a:t>
            </a: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omic Sans MS"/>
              </a:rPr>
              <a:t>Une pour tous les trois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" descr="lemon"/>
          <p:cNvPicPr/>
          <p:nvPr/>
        </p:nvPicPr>
        <p:blipFill>
          <a:blip r:embed="rId1"/>
          <a:stretch/>
        </p:blipFill>
        <p:spPr>
          <a:xfrm>
            <a:off x="250920" y="765000"/>
            <a:ext cx="3031920" cy="2016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article?img_id=1073347&amp;t=1422874157320"/>
          <p:cNvPicPr/>
          <p:nvPr/>
        </p:nvPicPr>
        <p:blipFill>
          <a:blip r:embed="rId2"/>
          <a:stretch/>
        </p:blipFill>
        <p:spPr>
          <a:xfrm>
            <a:off x="3638520" y="765000"/>
            <a:ext cx="2367000" cy="2557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tumblr_static_cheese_205_1362800142"/>
          <p:cNvPicPr/>
          <p:nvPr/>
        </p:nvPicPr>
        <p:blipFill>
          <a:blip r:embed="rId3"/>
          <a:stretch/>
        </p:blipFill>
        <p:spPr>
          <a:xfrm>
            <a:off x="1301760" y="3789360"/>
            <a:ext cx="2367000" cy="2303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czeladnika_ham"/>
          <p:cNvPicPr/>
          <p:nvPr/>
        </p:nvPicPr>
        <p:blipFill>
          <a:blip r:embed="rId4"/>
          <a:srcRect l="13003" t="10816" r="6401" b="15904"/>
          <a:stretch/>
        </p:blipFill>
        <p:spPr>
          <a:xfrm>
            <a:off x="4745160" y="3925800"/>
            <a:ext cx="3354120" cy="2030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Bonne_Maman_Strawberry_Wild_Strawberry_Jam_370__42765"/>
          <p:cNvPicPr/>
          <p:nvPr/>
        </p:nvPicPr>
        <p:blipFill>
          <a:blip r:embed="rId5"/>
          <a:stretch/>
        </p:blipFill>
        <p:spPr>
          <a:xfrm>
            <a:off x="6362640" y="765000"/>
            <a:ext cx="2541600" cy="2541600"/>
          </a:xfrm>
          <a:prstGeom prst="rect">
            <a:avLst/>
          </a:prstGeom>
          <a:ln w="0">
            <a:noFill/>
          </a:ln>
        </p:spPr>
      </p:pic>
      <p:sp>
        <p:nvSpPr>
          <p:cNvPr id="185" name="TextBox 1"/>
          <p:cNvSpPr/>
          <p:nvPr/>
        </p:nvSpPr>
        <p:spPr>
          <a:xfrm>
            <a:off x="108000" y="379440"/>
            <a:ext cx="43164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TextBox 7"/>
          <p:cNvSpPr/>
          <p:nvPr/>
        </p:nvSpPr>
        <p:spPr>
          <a:xfrm>
            <a:off x="3452760" y="393840"/>
            <a:ext cx="43344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6205680" y="393840"/>
            <a:ext cx="43308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Box 9"/>
          <p:cNvSpPr/>
          <p:nvPr/>
        </p:nvSpPr>
        <p:spPr>
          <a:xfrm>
            <a:off x="1085760" y="3403440"/>
            <a:ext cx="43200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Box 10"/>
          <p:cNvSpPr/>
          <p:nvPr/>
        </p:nvSpPr>
        <p:spPr>
          <a:xfrm>
            <a:off x="4606920" y="3556080"/>
            <a:ext cx="43164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3"/>
          <p:cNvSpPr/>
          <p:nvPr/>
        </p:nvSpPr>
        <p:spPr>
          <a:xfrm>
            <a:off x="4356000" y="192240"/>
            <a:ext cx="47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j’adore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4356000" y="1943280"/>
            <a:ext cx="47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j’aime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4356000" y="3693960"/>
            <a:ext cx="47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je n’aime pas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4356000" y="5445000"/>
            <a:ext cx="47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je déteste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4" name="Picture 8" descr=""/>
          <p:cNvPicPr/>
          <p:nvPr/>
        </p:nvPicPr>
        <p:blipFill>
          <a:blip r:embed="rId1"/>
          <a:stretch/>
        </p:blipFill>
        <p:spPr>
          <a:xfrm>
            <a:off x="1731960" y="0"/>
            <a:ext cx="2638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5-03-23T15:23:45Z</dcterms:modified>
  <cp:revision>40</cp:revision>
  <dc:subject/>
  <dc:title>Slide 1</dc:title>
</cp:coreProperties>
</file>