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438E-AB48-4258-AE55-DBB5F607E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C85A-D15A-45F3-A11B-46D0DF18B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D62B-FAB9-4AC5-AEC5-292E3B02E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06EF-D8B7-4CEF-9078-8A2743B00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5B666-763F-437C-B84E-C5EAEC550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32C44-1CF5-435C-A6FC-A08AEF69F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0F521-A906-4B14-B0DE-4FE51B005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B13B0-401B-48D3-9B1A-BAFD892CA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C4D89-3582-45C0-9D2F-9F6401720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1D995-323B-471B-A532-BDA12030A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50CC5-1DDB-4DD1-B6D1-7FC82D018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63BD-7294-401A-8284-084E87049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22DBC-DD15-4A62-BFE1-D00E9415B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CBF94-B4B3-4240-9896-15191B323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7A44A-A507-4FB2-97EE-977E6BF40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2FD29-AEFE-44E0-9309-4C98230DC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EEFF4-A8EF-4B45-965C-1F0724069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39F88-8FE2-46D2-A145-BF371D03D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C8E51-0271-47B6-BC29-5735EBC53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51CDD-C308-45FC-82F1-15CEA3ED8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2B3DA-7FE5-47C6-914C-07145CBCC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7DA73-7A1C-49DE-8DC5-811E95F3F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2898-F64A-4C24-A858-9A6632DE9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BBE5E-EB6B-48C7-8521-0B33F4601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8B99B-18FD-4E7E-BC6A-AE372E367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15F6A-9DF5-4496-B6E8-7A343C772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1B417-E247-4718-A156-1DDD79E97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92A8C-7B56-42EF-BE5D-C79EEFA4A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2C5B6-CA4B-4C7C-9612-6F63FFFCB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BCF43-AD4F-4AFD-9809-4C010A3FF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3D98A-80CE-4B7F-BF36-DE815E608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D338A-6952-4B45-8831-805897D96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5928D-E319-4938-ACF6-00602357A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E642-312A-4D45-A15A-C1D030F52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4B894-50D9-4829-9575-C88D8F75B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7C2AB-24F0-4CFF-9763-68287004C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D9FEC-1B2F-4621-BB91-8EDB23D63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E6CCC-4A41-4024-83D5-2CE5F9D40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1188D-F88C-4182-90CB-4E6D2C071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42D56-DE71-4254-8E92-BA3AE1B35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EFB1A-0085-4778-B24E-8DE760E21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651B0-1F06-4058-B14A-6544B5C49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1D6BB-5802-481F-A715-3CE1E41BB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4786-946D-474A-81A6-3BA50DFE1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FBE4-0C84-404E-9B36-B9E915411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A31B-0BFF-463E-A300-866B4C972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54BA-41D8-49F3-8A1E-50D06B14B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8BFA-BDF8-43D0-A435-EBEEAD029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B2CEF-FF54-4B62-BF7B-843F530256A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F3811-CA48-41F0-BB4B-510ECC4A92F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EF24C-2340-42B7-95E2-7B6B342BA356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130120"/>
            <a:ext cx="7313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12868-2F6B-4837-9E14-664590153C26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79280" y="260280"/>
            <a:ext cx="8785440" cy="527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alphabe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X X A 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X X B B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X A X B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X alphabe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7164360" y="692280"/>
            <a:ext cx="165564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79280" y="260280"/>
            <a:ext cx="8785440" cy="621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Trois petits chats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Trois petits chats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Trois petits chats, chats, cha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Chapeau de paille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Chapeau de paille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Chapeau de paille, paille, pail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Paillasson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Paillasson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Paillasson, son, s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7020000" y="4653000"/>
            <a:ext cx="165564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 Seccombe</cp:lastModifiedBy>
  <dcterms:modified xsi:type="dcterms:W3CDTF">2012-10-15T09:53:40Z</dcterms:modified>
  <cp:revision>24</cp:revision>
  <dc:subject/>
  <dc:title>Slide 1</dc:title>
</cp:coreProperties>
</file>