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3DD0-8F0C-4E6A-AC8C-054BD3213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7839-5B70-4645-9F47-4D2A430E2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3ED2-F2EA-4389-8A35-149631D41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8A97-B323-47BA-8138-5CFF5A2B4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BAA03-BA5F-4B9C-9042-1EE9107FF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6287D-D1A3-4BFD-B4CB-001A90EA7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3657F-038A-4634-B51E-2E05529E8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AE74A-4E55-4879-97A8-F6C41D8C7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9F66D-440E-482C-A21F-5DAE94259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5E0B9-1C02-46A8-B958-FF02AD71E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D6D88-D7C9-4323-9E88-B4D32475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4A1E-D334-437B-AE4B-3EB730C4F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1E024-1EF6-4E77-BEB2-6C5537FA0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C247D-FAA6-402F-89D8-4E183598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402B4-CBF9-490A-863D-843D32D9B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39C30-870A-4EAF-AE55-DF839F35D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EB2EF-8AD9-493E-B9E4-011F231DC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CD5CF-C301-44C0-ACE4-561D7F1A9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F9424-BAFB-4219-AFCB-BEE2D9257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0E1FE-A7B3-4F64-A9EF-62D31E1F1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D4D2C-B37C-466F-99C8-869ADF566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1CCEB-C34E-4F65-A0AB-6B38B4182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2E6C-B0CF-4626-80BD-9F3862CBF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34D6A-C84B-4278-978B-B023BF3B3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F8A81-9B58-4227-9292-BB95FA9B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9DD90-04CD-48C1-88F3-A5D5AECC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60F9C-BEDA-4858-B1C4-882DE728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A5F2B-1EE5-4C11-9FC5-0E2F83D8A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FE414-9B3B-458A-B2FE-C84575BC3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C1713-ED51-4C13-91C3-0CD16B6C4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EFF4B-1431-4C2D-8FE2-03D91F793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2842E-DDCB-4AE5-940A-A9DFEDC19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52A19-875E-4BA5-AEC4-8EB912331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14A7-86B0-4EF8-92B7-95DA04359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C6CDA-9F64-402F-8332-EDB64CB86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69CDF-D14E-4552-9AC4-CA6D5132F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EA825-7E9E-4223-B3D6-9AF0B645A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A3E59-3E32-48B6-8873-C26287124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3DCCB-D169-4BA4-A9FF-5F860145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7F8E2-7518-4EB8-A0F1-42A31DDA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7353C-38A1-4937-BE7A-9DB0BC6A2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49FC8-E432-4929-BC7E-30FE56934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0A1C7-00E3-4800-A7D8-396DD8991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D675-C39D-4020-ADF5-F7315FEA5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CC67-7715-417B-8285-BE2209F9D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3FCD-A33D-49BD-A03B-1AC6086AF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EE26-9905-4806-8B94-23459129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88A1-C06B-4A00-B524-3201B3223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C574C-CEA3-4353-A434-F1BAC9230BC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DCEC1-668B-4DF2-995D-36EC9ACF159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8295A-BAD5-420A-9FFB-413FD029FE91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130120"/>
            <a:ext cx="7313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44FB8-7AA7-4C22-B816-96AA8776CCD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79280" y="260280"/>
            <a:ext cx="8785440" cy="527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alphabe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X X A 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X X B B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X A X B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X alphabe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7164360" y="692280"/>
            <a:ext cx="165564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79280" y="260280"/>
            <a:ext cx="8785440" cy="621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Trois petits chats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Trois petits chats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Trois petits chats, chats, cha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Chapeau de paille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Chapeau de paille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Chapeau de paille, paille, pail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Paillasson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Paillasson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Paillasson, son, s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7020000" y="4653000"/>
            <a:ext cx="165564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 Seccombe</cp:lastModifiedBy>
  <dcterms:modified xsi:type="dcterms:W3CDTF">2012-10-15T09:53:40Z</dcterms:modified>
  <cp:revision>24</cp:revision>
  <dc:subject/>
  <dc:title>Slide 1</dc:title>
</cp:coreProperties>
</file>