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0861-C8EC-4665-B5A0-7DF264E74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080A-B7E3-464D-A92B-555DD55C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75B8-FD07-43E6-B0F4-51F79CB6A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6045-D43C-47AC-AC23-E09F129C0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D471-C14C-4FF1-9F95-DDA921D89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1D2E-BF60-4EE2-BB47-C0054269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C339-7DF3-433A-A1AE-8DE53CB0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DAD6-5F46-4D0B-9CE1-1D262CEE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5236-307B-40F0-B49E-D35B637A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ABB6-4EA3-4BD2-A933-78F6CDEE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B675-571B-46C6-A90D-9902C1D6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83D9-E1D2-49CA-9172-7A882610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FBFA-3D2D-4661-9A10-EE9BB912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3A91-482E-46F3-8104-CA2548F2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D732-C122-4908-AA43-052618A5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7F24-4AA1-4428-9A13-3D7E97C65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7149-9381-4923-8505-7D1238246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E54CB-E378-4FF2-8056-9314E5EB6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5C9B4-E5C1-47D2-8D81-6FF63CAA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C55E8-EE62-42BE-BFA1-C870791C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A4611-236F-4B1A-8800-444192F9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5C1BA-C43B-4E95-B499-369A8D3E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DCA4-C186-4EDD-AC4F-0932351F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AB1D4-88AF-4997-A27A-15C981AE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60FCF-8942-4106-95BA-5B9CEDFB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87EFD-AE0E-4F12-9D1F-9BC743BD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58061-F2CB-4BF1-94AF-E8155359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F9A03-CB71-4112-8D97-9A1B096F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D8848-BC2A-40CB-B39A-CE0FED1D3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53B9D-7837-4899-8DAB-D4CF3602A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7C345-DCAF-49E9-B4F7-AEDAF4EC8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C2195-0889-44D3-A90B-CDEA7676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001DD-D01A-414B-932A-71D2F3F9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CF15-FA61-42AB-8E54-CB516DA9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87A98-7EA0-48F9-B96D-46F94621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DA26F-2871-4D78-91C2-E643077A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2EEF4-615E-4F83-9C05-D11024EF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C9A53-0A55-4A0C-B291-39E14CA5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3843A-A2BF-4346-B0B8-85C7A9A5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E23FC-BE66-4A6F-BE11-A1B1562A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C682F-2A10-41F6-AC11-253B897B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40412-BDC9-4D7E-9CB3-43F72A265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A5BBC-0CFD-4AAC-A53E-B5C398D6D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45CE-F4D8-4C65-92D1-2E535AD4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3611-F7A1-4AC9-9F02-FA6C2EA7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8B7D-A6C0-47FE-80D5-53A8EBB6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5668-21F7-4F21-A97E-95354B2B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DDA9-E588-47FF-88A5-0C8CB5A5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F5A5-9550-4177-AC60-C121FC88E4E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9757-B9B9-4329-935E-025D8F3199C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2BD6-5B10-472F-BBC7-F039A752D4F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59A7-14B1-4A55-BBA0-442A47E3C24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24000" y="189000"/>
            <a:ext cx="1944360" cy="187164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77080" y="189000"/>
            <a:ext cx="1944720" cy="18716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92600" y="189000"/>
            <a:ext cx="1944720" cy="1871640"/>
          </a:xfrm>
          <a:prstGeom prst="rect">
            <a:avLst/>
          </a:prstGeom>
          <a:solidFill>
            <a:srgbClr val="009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84360" y="2349360"/>
            <a:ext cx="1944720" cy="187164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8120" y="189000"/>
            <a:ext cx="1944720" cy="1871640"/>
          </a:xfrm>
          <a:prstGeom prst="rect">
            <a:avLst/>
          </a:prstGeom>
          <a:solidFill>
            <a:srgbClr val="9cc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2349360"/>
            <a:ext cx="1944360" cy="18716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16360" y="4508640"/>
            <a:ext cx="1944720" cy="1871640"/>
          </a:xfrm>
          <a:prstGeom prst="rect">
            <a:avLst/>
          </a:prstGeom>
          <a:solidFill>
            <a:srgbClr val="800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4508640"/>
            <a:ext cx="1944720" cy="1871640"/>
          </a:xfrm>
          <a:prstGeom prst="rect">
            <a:avLst/>
          </a:prstGeom>
          <a:solidFill>
            <a:srgbClr val="ff66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16360" y="2349360"/>
            <a:ext cx="1944720" cy="1871640"/>
          </a:xfrm>
          <a:prstGeom prst="rect">
            <a:avLst/>
          </a:prstGeom>
          <a:solidFill>
            <a:srgbClr val="ff9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77080" y="2349360"/>
            <a:ext cx="1944720" cy="1871640"/>
          </a:xfrm>
          <a:prstGeom prst="rect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4508640"/>
            <a:ext cx="1944360" cy="1871640"/>
          </a:xfrm>
          <a:prstGeom prst="rect">
            <a:avLst/>
          </a:prstGeom>
          <a:solidFill>
            <a:srgbClr val="808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77080" y="2349360"/>
            <a:ext cx="1944720" cy="1871640"/>
          </a:xfrm>
          <a:prstGeom prst="rect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4508640"/>
            <a:ext cx="1944360" cy="1871640"/>
          </a:xfrm>
          <a:prstGeom prst="rect">
            <a:avLst/>
          </a:prstGeom>
          <a:solidFill>
            <a:srgbClr val="808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24000" y="4508640"/>
            <a:ext cx="1944360" cy="1871640"/>
          </a:xfrm>
          <a:prstGeom prst="rect">
            <a:avLst/>
          </a:prstGeom>
          <a:solidFill>
            <a:srgbClr val="808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24000" y="189000"/>
            <a:ext cx="1944360" cy="187164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77080" y="189000"/>
            <a:ext cx="1944720" cy="18716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92600" y="189000"/>
            <a:ext cx="1944720" cy="1871640"/>
          </a:xfrm>
          <a:prstGeom prst="rect">
            <a:avLst/>
          </a:prstGeom>
          <a:solidFill>
            <a:srgbClr val="009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84360" y="2349360"/>
            <a:ext cx="1944720" cy="187164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08120" y="189000"/>
            <a:ext cx="1944720" cy="1871640"/>
          </a:xfrm>
          <a:prstGeom prst="rect">
            <a:avLst/>
          </a:prstGeom>
          <a:solidFill>
            <a:srgbClr val="9cc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4000" y="2349360"/>
            <a:ext cx="1944360" cy="18716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16360" y="4508640"/>
            <a:ext cx="1944720" cy="1871640"/>
          </a:xfrm>
          <a:prstGeom prst="rect">
            <a:avLst/>
          </a:prstGeom>
          <a:solidFill>
            <a:srgbClr val="800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84360" y="4508640"/>
            <a:ext cx="1944720" cy="1871640"/>
          </a:xfrm>
          <a:prstGeom prst="rect">
            <a:avLst/>
          </a:prstGeom>
          <a:solidFill>
            <a:srgbClr val="ff66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16360" y="2349360"/>
            <a:ext cx="1944720" cy="1871640"/>
          </a:xfrm>
          <a:prstGeom prst="rect">
            <a:avLst/>
          </a:prstGeom>
          <a:solidFill>
            <a:srgbClr val="ff9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77080" y="2349360"/>
            <a:ext cx="1944720" cy="1871640"/>
          </a:xfrm>
          <a:prstGeom prst="rect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4000" y="4508640"/>
            <a:ext cx="1944360" cy="1871640"/>
          </a:xfrm>
          <a:prstGeom prst="rect">
            <a:avLst/>
          </a:prstGeom>
          <a:solidFill>
            <a:srgbClr val="808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24000" y="189000"/>
            <a:ext cx="1944360" cy="187164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77080" y="189000"/>
            <a:ext cx="1944720" cy="18716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92600" y="189000"/>
            <a:ext cx="1944720" cy="1871640"/>
          </a:xfrm>
          <a:prstGeom prst="rect">
            <a:avLst/>
          </a:prstGeom>
          <a:solidFill>
            <a:srgbClr val="009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4360" y="2349360"/>
            <a:ext cx="1944720" cy="187164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4000" y="2349360"/>
            <a:ext cx="1944360" cy="18716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716360" y="4508640"/>
            <a:ext cx="1944720" cy="1871640"/>
          </a:xfrm>
          <a:prstGeom prst="rect">
            <a:avLst/>
          </a:prstGeom>
          <a:solidFill>
            <a:srgbClr val="800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484360" y="4508640"/>
            <a:ext cx="1944720" cy="1871640"/>
          </a:xfrm>
          <a:prstGeom prst="rect">
            <a:avLst/>
          </a:prstGeom>
          <a:solidFill>
            <a:srgbClr val="ff66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716360" y="2349360"/>
            <a:ext cx="1944720" cy="1871640"/>
          </a:xfrm>
          <a:prstGeom prst="rect">
            <a:avLst/>
          </a:prstGeom>
          <a:solidFill>
            <a:srgbClr val="ff9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77080" y="2349360"/>
            <a:ext cx="1944720" cy="1871640"/>
          </a:xfrm>
          <a:prstGeom prst="rect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4000" y="4508640"/>
            <a:ext cx="1944360" cy="1871640"/>
          </a:xfrm>
          <a:prstGeom prst="rect">
            <a:avLst/>
          </a:prstGeom>
          <a:solidFill>
            <a:srgbClr val="808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24000" y="189000"/>
            <a:ext cx="1944360" cy="187164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877080" y="189000"/>
            <a:ext cx="1944720" cy="18716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692600" y="189000"/>
            <a:ext cx="1944720" cy="1871640"/>
          </a:xfrm>
          <a:prstGeom prst="rect">
            <a:avLst/>
          </a:prstGeom>
          <a:solidFill>
            <a:srgbClr val="009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84360" y="2349360"/>
            <a:ext cx="1944720" cy="187164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4000" y="2349360"/>
            <a:ext cx="1944360" cy="18716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84360" y="4508640"/>
            <a:ext cx="1944720" cy="1871640"/>
          </a:xfrm>
          <a:prstGeom prst="rect">
            <a:avLst/>
          </a:prstGeom>
          <a:solidFill>
            <a:srgbClr val="ff66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716360" y="2349360"/>
            <a:ext cx="1944720" cy="1871640"/>
          </a:xfrm>
          <a:prstGeom prst="rect">
            <a:avLst/>
          </a:prstGeom>
          <a:solidFill>
            <a:srgbClr val="ff9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877080" y="2349360"/>
            <a:ext cx="1944720" cy="1871640"/>
          </a:xfrm>
          <a:prstGeom prst="rect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4000" y="4508640"/>
            <a:ext cx="1944360" cy="1871640"/>
          </a:xfrm>
          <a:prstGeom prst="rect">
            <a:avLst/>
          </a:prstGeom>
          <a:solidFill>
            <a:srgbClr val="808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24000" y="189000"/>
            <a:ext cx="1944360" cy="187164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77080" y="189000"/>
            <a:ext cx="1944720" cy="18716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92600" y="189000"/>
            <a:ext cx="1944720" cy="1871640"/>
          </a:xfrm>
          <a:prstGeom prst="rect">
            <a:avLst/>
          </a:prstGeom>
          <a:solidFill>
            <a:srgbClr val="009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84360" y="2349360"/>
            <a:ext cx="1944720" cy="187164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84360" y="4508640"/>
            <a:ext cx="1944720" cy="1871640"/>
          </a:xfrm>
          <a:prstGeom prst="rect">
            <a:avLst/>
          </a:prstGeom>
          <a:solidFill>
            <a:srgbClr val="ff66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716360" y="2349360"/>
            <a:ext cx="1944720" cy="1871640"/>
          </a:xfrm>
          <a:prstGeom prst="rect">
            <a:avLst/>
          </a:prstGeom>
          <a:solidFill>
            <a:srgbClr val="ff9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77080" y="2349360"/>
            <a:ext cx="1944720" cy="1871640"/>
          </a:xfrm>
          <a:prstGeom prst="rect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24000" y="4508640"/>
            <a:ext cx="1944360" cy="1871640"/>
          </a:xfrm>
          <a:prstGeom prst="rect">
            <a:avLst/>
          </a:prstGeom>
          <a:solidFill>
            <a:srgbClr val="808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24000" y="189000"/>
            <a:ext cx="1944360" cy="187164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877080" y="189000"/>
            <a:ext cx="1944720" cy="18716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92600" y="189000"/>
            <a:ext cx="1944720" cy="1871640"/>
          </a:xfrm>
          <a:prstGeom prst="rect">
            <a:avLst/>
          </a:prstGeom>
          <a:solidFill>
            <a:srgbClr val="009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484360" y="2349360"/>
            <a:ext cx="1944720" cy="187164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484360" y="4508640"/>
            <a:ext cx="1944720" cy="1871640"/>
          </a:xfrm>
          <a:prstGeom prst="rect">
            <a:avLst/>
          </a:prstGeom>
          <a:solidFill>
            <a:srgbClr val="ff66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16360" y="2349360"/>
            <a:ext cx="1944720" cy="1871640"/>
          </a:xfrm>
          <a:prstGeom prst="rect">
            <a:avLst/>
          </a:prstGeom>
          <a:solidFill>
            <a:srgbClr val="ff9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4000" y="4508640"/>
            <a:ext cx="1944360" cy="1871640"/>
          </a:xfrm>
          <a:prstGeom prst="rect">
            <a:avLst/>
          </a:prstGeom>
          <a:solidFill>
            <a:srgbClr val="808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24000" y="189000"/>
            <a:ext cx="1944360" cy="187164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77080" y="189000"/>
            <a:ext cx="1944720" cy="18716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484360" y="2349360"/>
            <a:ext cx="1944720" cy="187164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484360" y="4508640"/>
            <a:ext cx="1944720" cy="1871640"/>
          </a:xfrm>
          <a:prstGeom prst="rect">
            <a:avLst/>
          </a:prstGeom>
          <a:solidFill>
            <a:srgbClr val="ff66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716360" y="2349360"/>
            <a:ext cx="1944720" cy="1871640"/>
          </a:xfrm>
          <a:prstGeom prst="rect">
            <a:avLst/>
          </a:prstGeom>
          <a:solidFill>
            <a:srgbClr val="ff9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24000" y="4508640"/>
            <a:ext cx="1944360" cy="1871640"/>
          </a:xfrm>
          <a:prstGeom prst="rect">
            <a:avLst/>
          </a:prstGeom>
          <a:solidFill>
            <a:srgbClr val="808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24000" y="189000"/>
            <a:ext cx="1944360" cy="187164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877080" y="189000"/>
            <a:ext cx="1944720" cy="18716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484360" y="4508640"/>
            <a:ext cx="1944720" cy="1871640"/>
          </a:xfrm>
          <a:prstGeom prst="rect">
            <a:avLst/>
          </a:prstGeom>
          <a:solidFill>
            <a:srgbClr val="ff66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716360" y="2349360"/>
            <a:ext cx="1944720" cy="1871640"/>
          </a:xfrm>
          <a:prstGeom prst="rect">
            <a:avLst/>
          </a:prstGeom>
          <a:solidFill>
            <a:srgbClr val="ff9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4000" y="4508640"/>
            <a:ext cx="1944360" cy="1871640"/>
          </a:xfrm>
          <a:prstGeom prst="rect">
            <a:avLst/>
          </a:prstGeom>
          <a:solidFill>
            <a:srgbClr val="808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24000" y="189000"/>
            <a:ext cx="1944360" cy="187164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877080" y="189000"/>
            <a:ext cx="1944720" cy="18716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84360" y="4508640"/>
            <a:ext cx="1944720" cy="1871640"/>
          </a:xfrm>
          <a:prstGeom prst="rect">
            <a:avLst/>
          </a:prstGeom>
          <a:solidFill>
            <a:srgbClr val="ff66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716360" y="2349360"/>
            <a:ext cx="1944720" cy="1871640"/>
          </a:xfrm>
          <a:prstGeom prst="rect">
            <a:avLst/>
          </a:prstGeom>
          <a:solidFill>
            <a:srgbClr val="ff9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24000" y="189000"/>
            <a:ext cx="1944360" cy="187164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77080" y="189000"/>
            <a:ext cx="1944720" cy="18716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92600" y="189000"/>
            <a:ext cx="1944720" cy="1871640"/>
          </a:xfrm>
          <a:prstGeom prst="rect">
            <a:avLst/>
          </a:prstGeom>
          <a:solidFill>
            <a:srgbClr val="009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84360" y="2349360"/>
            <a:ext cx="1944720" cy="187164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8120" y="189000"/>
            <a:ext cx="1944720" cy="1871640"/>
          </a:xfrm>
          <a:prstGeom prst="rect">
            <a:avLst/>
          </a:prstGeom>
          <a:solidFill>
            <a:srgbClr val="9cc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16360" y="4508640"/>
            <a:ext cx="1944720" cy="1871640"/>
          </a:xfrm>
          <a:prstGeom prst="rect">
            <a:avLst/>
          </a:prstGeom>
          <a:solidFill>
            <a:srgbClr val="800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84360" y="4508640"/>
            <a:ext cx="1944720" cy="1871640"/>
          </a:xfrm>
          <a:prstGeom prst="rect">
            <a:avLst/>
          </a:prstGeom>
          <a:solidFill>
            <a:srgbClr val="ff66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16360" y="2349360"/>
            <a:ext cx="1944720" cy="1871640"/>
          </a:xfrm>
          <a:prstGeom prst="rect">
            <a:avLst/>
          </a:prstGeom>
          <a:solidFill>
            <a:srgbClr val="ff9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77080" y="2349360"/>
            <a:ext cx="1944720" cy="1871640"/>
          </a:xfrm>
          <a:prstGeom prst="rect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4508640"/>
            <a:ext cx="1944360" cy="1871640"/>
          </a:xfrm>
          <a:prstGeom prst="rect">
            <a:avLst/>
          </a:prstGeom>
          <a:solidFill>
            <a:srgbClr val="808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877080" y="189000"/>
            <a:ext cx="1944720" cy="18716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484360" y="4508640"/>
            <a:ext cx="1944720" cy="1871640"/>
          </a:xfrm>
          <a:prstGeom prst="rect">
            <a:avLst/>
          </a:prstGeom>
          <a:solidFill>
            <a:srgbClr val="ff66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716360" y="2349360"/>
            <a:ext cx="1944720" cy="1871640"/>
          </a:xfrm>
          <a:prstGeom prst="rect">
            <a:avLst/>
          </a:prstGeom>
          <a:solidFill>
            <a:srgbClr val="ff9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6877080" y="189000"/>
            <a:ext cx="1944720" cy="18716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84360" y="4508640"/>
            <a:ext cx="1944720" cy="1871640"/>
          </a:xfrm>
          <a:prstGeom prst="rect">
            <a:avLst/>
          </a:prstGeom>
          <a:solidFill>
            <a:srgbClr val="ff66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877080" y="189000"/>
            <a:ext cx="1944720" cy="18716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179280" y="189000"/>
          <a:ext cx="8640720" cy="6480000"/>
        </p:xfrm>
        <a:graphic>
          <a:graphicData uri="http://schemas.openxmlformats.org/drawingml/2006/table">
            <a:tbl>
              <a:tblPr/>
              <a:tblGrid>
                <a:gridCol w="2880000"/>
                <a:gridCol w="2881080"/>
                <a:gridCol w="2879640"/>
              </a:tblGrid>
              <a:tr h="21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3564000" y="404640"/>
            <a:ext cx="2087640" cy="180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611280" y="2708280"/>
            <a:ext cx="2289240" cy="152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3276720" y="5084640"/>
            <a:ext cx="2519280" cy="12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00" name="" descr=""/>
          <p:cNvPicPr/>
          <p:nvPr/>
        </p:nvPicPr>
        <p:blipFill>
          <a:blip r:embed="rId5"/>
          <a:stretch/>
        </p:blipFill>
        <p:spPr>
          <a:xfrm>
            <a:off x="611280" y="549360"/>
            <a:ext cx="2305080" cy="153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6"/>
          <a:stretch/>
        </p:blipFill>
        <p:spPr>
          <a:xfrm>
            <a:off x="6372360" y="2708280"/>
            <a:ext cx="2303280" cy="154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02" name="" descr=""/>
          <p:cNvPicPr/>
          <p:nvPr/>
        </p:nvPicPr>
        <p:blipFill>
          <a:blip r:embed="rId7"/>
          <a:stretch/>
        </p:blipFill>
        <p:spPr>
          <a:xfrm>
            <a:off x="324000" y="5157720"/>
            <a:ext cx="2592360" cy="119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8"/>
          <a:stretch/>
        </p:blipFill>
        <p:spPr>
          <a:xfrm>
            <a:off x="6372360" y="549360"/>
            <a:ext cx="2288880" cy="15285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9"/>
          <a:stretch/>
        </p:blipFill>
        <p:spPr>
          <a:xfrm>
            <a:off x="3492360" y="2708280"/>
            <a:ext cx="2303640" cy="153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05" name="" descr=""/>
          <p:cNvPicPr/>
          <p:nvPr/>
        </p:nvPicPr>
        <p:blipFill>
          <a:blip r:embed="rId10"/>
          <a:stretch/>
        </p:blipFill>
        <p:spPr>
          <a:xfrm>
            <a:off x="6372360" y="4900680"/>
            <a:ext cx="2303280" cy="152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24000" y="189000"/>
            <a:ext cx="1944360" cy="187164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77080" y="189000"/>
            <a:ext cx="1944720" cy="18716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84360" y="2349360"/>
            <a:ext cx="1944720" cy="187164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08120" y="189000"/>
            <a:ext cx="1944720" cy="1871640"/>
          </a:xfrm>
          <a:prstGeom prst="rect">
            <a:avLst/>
          </a:prstGeom>
          <a:solidFill>
            <a:srgbClr val="9cc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16360" y="4508640"/>
            <a:ext cx="1944720" cy="1871640"/>
          </a:xfrm>
          <a:prstGeom prst="rect">
            <a:avLst/>
          </a:prstGeom>
          <a:solidFill>
            <a:srgbClr val="800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84360" y="4508640"/>
            <a:ext cx="1944720" cy="1871640"/>
          </a:xfrm>
          <a:prstGeom prst="rect">
            <a:avLst/>
          </a:prstGeom>
          <a:solidFill>
            <a:srgbClr val="ff66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16360" y="2349360"/>
            <a:ext cx="1944720" cy="1871640"/>
          </a:xfrm>
          <a:prstGeom prst="rect">
            <a:avLst/>
          </a:prstGeom>
          <a:solidFill>
            <a:srgbClr val="ff9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77080" y="2349360"/>
            <a:ext cx="1944720" cy="1871640"/>
          </a:xfrm>
          <a:prstGeom prst="rect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4508640"/>
            <a:ext cx="1944360" cy="1871640"/>
          </a:xfrm>
          <a:prstGeom prst="rect">
            <a:avLst/>
          </a:prstGeom>
          <a:solidFill>
            <a:srgbClr val="808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24000" y="189000"/>
            <a:ext cx="1944360" cy="187164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77080" y="189000"/>
            <a:ext cx="1944720" cy="18716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84360" y="2349360"/>
            <a:ext cx="1944720" cy="187164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08120" y="189000"/>
            <a:ext cx="1944720" cy="1871640"/>
          </a:xfrm>
          <a:prstGeom prst="rect">
            <a:avLst/>
          </a:prstGeom>
          <a:solidFill>
            <a:srgbClr val="9cc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6360" y="4508640"/>
            <a:ext cx="1944720" cy="1871640"/>
          </a:xfrm>
          <a:prstGeom prst="rect">
            <a:avLst/>
          </a:prstGeom>
          <a:solidFill>
            <a:srgbClr val="800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84360" y="4508640"/>
            <a:ext cx="1944720" cy="1871640"/>
          </a:xfrm>
          <a:prstGeom prst="rect">
            <a:avLst/>
          </a:prstGeom>
          <a:solidFill>
            <a:srgbClr val="ff66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77080" y="2349360"/>
            <a:ext cx="1944720" cy="1871640"/>
          </a:xfrm>
          <a:prstGeom prst="rect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4508640"/>
            <a:ext cx="1944360" cy="1871640"/>
          </a:xfrm>
          <a:prstGeom prst="rect">
            <a:avLst/>
          </a:prstGeom>
          <a:solidFill>
            <a:srgbClr val="808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77080" y="189000"/>
            <a:ext cx="1944720" cy="18716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2349360"/>
            <a:ext cx="1944720" cy="187164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08120" y="189000"/>
            <a:ext cx="1944720" cy="1871640"/>
          </a:xfrm>
          <a:prstGeom prst="rect">
            <a:avLst/>
          </a:prstGeom>
          <a:solidFill>
            <a:srgbClr val="9cc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716360" y="4508640"/>
            <a:ext cx="1944720" cy="1871640"/>
          </a:xfrm>
          <a:prstGeom prst="rect">
            <a:avLst/>
          </a:prstGeom>
          <a:solidFill>
            <a:srgbClr val="800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84360" y="4508640"/>
            <a:ext cx="1944720" cy="1871640"/>
          </a:xfrm>
          <a:prstGeom prst="rect">
            <a:avLst/>
          </a:prstGeom>
          <a:solidFill>
            <a:srgbClr val="ff66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77080" y="2349360"/>
            <a:ext cx="1944720" cy="1871640"/>
          </a:xfrm>
          <a:prstGeom prst="rect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4508640"/>
            <a:ext cx="1944360" cy="1871640"/>
          </a:xfrm>
          <a:prstGeom prst="rect">
            <a:avLst/>
          </a:prstGeom>
          <a:solidFill>
            <a:srgbClr val="808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77080" y="189000"/>
            <a:ext cx="1944720" cy="18716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484360" y="2349360"/>
            <a:ext cx="1944720" cy="187164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08120" y="189000"/>
            <a:ext cx="1944720" cy="1871640"/>
          </a:xfrm>
          <a:prstGeom prst="rect">
            <a:avLst/>
          </a:prstGeom>
          <a:solidFill>
            <a:srgbClr val="9cc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16360" y="4508640"/>
            <a:ext cx="1944720" cy="1871640"/>
          </a:xfrm>
          <a:prstGeom prst="rect">
            <a:avLst/>
          </a:prstGeom>
          <a:solidFill>
            <a:srgbClr val="800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77080" y="2349360"/>
            <a:ext cx="1944720" cy="1871640"/>
          </a:xfrm>
          <a:prstGeom prst="rect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4508640"/>
            <a:ext cx="1944360" cy="1871640"/>
          </a:xfrm>
          <a:prstGeom prst="rect">
            <a:avLst/>
          </a:prstGeom>
          <a:solidFill>
            <a:srgbClr val="808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877080" y="189000"/>
            <a:ext cx="1944720" cy="18716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08120" y="189000"/>
            <a:ext cx="1944720" cy="1871640"/>
          </a:xfrm>
          <a:prstGeom prst="rect">
            <a:avLst/>
          </a:prstGeom>
          <a:solidFill>
            <a:srgbClr val="9cc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16360" y="4508640"/>
            <a:ext cx="1944720" cy="1871640"/>
          </a:xfrm>
          <a:prstGeom prst="rect">
            <a:avLst/>
          </a:prstGeom>
          <a:solidFill>
            <a:srgbClr val="800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77080" y="2349360"/>
            <a:ext cx="1944720" cy="1871640"/>
          </a:xfrm>
          <a:prstGeom prst="rect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4000" y="4508640"/>
            <a:ext cx="1944360" cy="1871640"/>
          </a:xfrm>
          <a:prstGeom prst="rect">
            <a:avLst/>
          </a:prstGeom>
          <a:solidFill>
            <a:srgbClr val="808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508120" y="189000"/>
            <a:ext cx="1944720" cy="1871640"/>
          </a:xfrm>
          <a:prstGeom prst="rect">
            <a:avLst/>
          </a:prstGeom>
          <a:solidFill>
            <a:srgbClr val="9cc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16360" y="4508640"/>
            <a:ext cx="1944720" cy="1871640"/>
          </a:xfrm>
          <a:prstGeom prst="rect">
            <a:avLst/>
          </a:prstGeom>
          <a:solidFill>
            <a:srgbClr val="800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77080" y="2349360"/>
            <a:ext cx="1944720" cy="1871640"/>
          </a:xfrm>
          <a:prstGeom prst="rect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4000" y="4508640"/>
            <a:ext cx="1944360" cy="1871640"/>
          </a:xfrm>
          <a:prstGeom prst="rect">
            <a:avLst/>
          </a:prstGeom>
          <a:solidFill>
            <a:srgbClr val="808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508120" y="189000"/>
            <a:ext cx="1944720" cy="1871640"/>
          </a:xfrm>
          <a:prstGeom prst="rect">
            <a:avLst/>
          </a:prstGeom>
          <a:solidFill>
            <a:srgbClr val="9cc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77080" y="2349360"/>
            <a:ext cx="1944720" cy="1871640"/>
          </a:xfrm>
          <a:prstGeom prst="rect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4508640"/>
            <a:ext cx="1944360" cy="1871640"/>
          </a:xfrm>
          <a:prstGeom prst="rect">
            <a:avLst/>
          </a:prstGeom>
          <a:solidFill>
            <a:srgbClr val="808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3-03-27T12:22:58Z</dcterms:modified>
  <cp:revision>35</cp:revision>
  <dc:subject/>
  <dc:title>Slide 1</dc:title>
</cp:coreProperties>
</file>