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AF8-7CE4-424B-BC4F-5373FAFC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05E-C54B-48BB-B2C0-F49D74F5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B5E-DF1C-4117-9708-685D4240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145-52B0-4C02-A542-25583F07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D79B-1CE7-4D6D-9ABE-47A894EA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AA47-9A9A-487D-92F6-C0252850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F1CA-875B-414C-853A-9E9653E3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237F-B99D-48B9-AC5E-FC914EC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551B-70D0-4FF4-9F40-D17B7C35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0163-1C6F-43FC-94FA-5D2C2996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39C1-8634-400A-927A-3A5F0C5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DA1-F724-4142-8C7E-96CECE6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4E8B-AEB2-49C8-AB86-168517F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A82B-9ADC-48AC-A00A-5971B3C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F45-CFDA-4594-82DD-6DAE4576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56C9-8387-448A-A577-53EDEEA9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D61-04EC-4FA7-8DCE-32BA4C6F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CB0B-50EF-42ED-97B5-6FD93DBD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8DB5-89FA-478F-B577-017DEC6E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B392-64B9-4F7A-894B-0E37EC5C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9115-C118-45CB-B365-E057AA9E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B454-B83D-4421-8397-3DDC053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D48-F246-4D78-B1D9-29A32320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81A4-A250-41B3-9C77-4EEA0DD6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FFE5-4176-42C9-9032-EC0A766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DDBE-58C9-41AB-938C-9DA7C16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D90A-6BD1-466F-804C-8B483585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5C04-503C-4651-B398-B6F3ED1B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F350-D84B-400A-9E16-A627E57E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CDE3-E7B1-47FF-8D15-7FDBC8FA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1301-C58E-487C-8D1B-95D8E980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96BE-3D0D-4A53-8738-130E03AD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0468-AA10-4235-B23C-2CA08EC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8E3-A200-42D5-89E0-C1B11E02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E3DF-D176-4F65-8BC0-10CF3A38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42C5-88BF-4A6F-843E-65E92883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C96E-EC32-4DC4-A5AA-E2C5871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DCFD-D9AC-47B0-9943-5075264D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8D75-0C30-478D-9C75-0FDF7FE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0525B-11C7-4151-8994-0A169021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EA3C-6347-443A-9F64-4496421B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D5EF-DE42-45F9-8CA2-3B413823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EC16-B241-41A2-AC7B-AE471D15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657-3CDF-40B6-AA2C-8C332CAA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F59-9B32-49AE-8E46-5A8274AE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881-57C5-4059-A819-87F9081B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61E-23C5-43A7-984E-2F7785B4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CC3-0DED-4D8A-8D18-8EBCB695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77FD-C89E-4F28-85E2-CE401A0271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FC1-F85F-4BC9-8F5A-748A8255A5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1D5-B558-48AC-892F-021EA6E169B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E9F8-7274-4ED8-B20F-6253C4B6C84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79280" y="189000"/>
          <a:ext cx="8640720" cy="6480000"/>
        </p:xfrm>
        <a:graphic>
          <a:graphicData uri="http://schemas.openxmlformats.org/drawingml/2006/table">
            <a:tbl>
              <a:tblPr/>
              <a:tblGrid>
                <a:gridCol w="2880000"/>
                <a:gridCol w="2881080"/>
                <a:gridCol w="287964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2087640" cy="180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611280" y="2708280"/>
            <a:ext cx="228924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3276720" y="5084640"/>
            <a:ext cx="2519280" cy="12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611280" y="549360"/>
            <a:ext cx="2305080" cy="153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2303280" cy="15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324000" y="5157720"/>
            <a:ext cx="2592360" cy="11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6372360" y="549360"/>
            <a:ext cx="2288880" cy="1528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3492360" y="2708280"/>
            <a:ext cx="2303640" cy="153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10"/>
          <a:stretch/>
        </p:blipFill>
        <p:spPr>
          <a:xfrm>
            <a:off x="6372360" y="4900680"/>
            <a:ext cx="2303280" cy="152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22:58Z</dcterms:modified>
  <cp:revision>35</cp:revision>
  <dc:subject/>
  <dc:title>Slide 1</dc:title>
</cp:coreProperties>
</file>