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8B2B-4A6C-44F1-9F79-8850CDB30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146A-CB3F-4E8D-8995-896CEB67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772F-3F5F-4FB2-A8FE-7BEC0A155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3B54-2D8A-40CA-8497-A8766644C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89C0-AD9D-453E-BDE0-DB2802647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FD6C-2CDC-42B6-8961-9362EFC1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761D-833A-4282-B8FD-FDA8F1BC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9564-B6C3-45B1-81C6-EDB27577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EA8D-6C47-47B5-9021-E1E65AE8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45A5-BD33-4B5E-A421-570C3940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2A46-A6DD-4988-AE8C-5FA9FAF0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EB78-A284-4551-AB55-625A3890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D162-3B59-4DC8-81A6-C6F3C261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A206-6474-4A82-B899-701E358B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AA4D-05DF-402F-8AC8-A1B64A15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CD37-D020-4B25-996D-F29E0E11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8180-3173-47BF-BC75-A14E74CF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67C7B-0042-4D57-B925-BEDDB99FC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E0B81-AB4D-48C2-A955-7EF0B0D5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B5664-1F0D-491E-9B8B-707CA127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B95B8-2056-40CC-9280-3815D4C2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B2E01-5544-453C-991D-1506F800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C564-F197-4371-8485-167AE0D3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27D68-82DE-4DB0-A658-B7AF6B5D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DEE11-CF07-4401-8908-61F48442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2083B-DB93-4911-893E-40830E20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929FD-874B-47A8-8859-0B65EB04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DE633-6EC8-4D6F-BBB4-3C64CEBF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DB88F-46E8-49AB-A828-0F1B4793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2D083-E89A-4F04-974C-7B41BEB9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B5423-0060-41B9-871B-2ACC2604E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A10B5-3F6B-4618-93B5-2BCCD9B5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F8E38-4F3A-4F54-AC2E-D24518DD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9AE4-52B5-4033-9AE3-6E1201F1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89492-7466-47D9-80A1-A6419384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7EEE1-004E-4FC9-9F17-AA495E7D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C7DE7-3456-481D-93B5-1B2E38A3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84A2D-8D03-4C13-BEC8-D079FFCA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0E69C-EF72-45B3-9130-F8DBEECD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5FC48-39EC-48E4-BCAE-9F3B2E05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D70DF-7AFD-4CDC-A10A-FFE02E5C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4EBCE-1D20-40F4-84A5-5DA8FE6A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BC074-2203-4C7B-A6C2-BA608A20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B630-8109-403C-AD8B-5AF1234F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4156-1B1F-4325-A396-48999B24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7F38-9816-4E04-93AC-C82FEDAE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D6D6-E932-491F-B762-21827C35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E978-9CB1-4FEE-8272-D4BCEB49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B436-BE00-4FDD-82DA-2A9052BBBD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5FC4-3DCA-4714-B0AF-7CFFD4EA97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BDFA-12E6-4A34-8968-FEE1E26FBEA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A663-4944-4372-A544-0703AECCCC3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24000" y="189000"/>
            <a:ext cx="1944360" cy="187164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77080" y="189000"/>
            <a:ext cx="1944720" cy="187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92600" y="189000"/>
            <a:ext cx="1944720" cy="1871640"/>
          </a:xfrm>
          <a:prstGeom prst="rect">
            <a:avLst/>
          </a:prstGeom>
          <a:solidFill>
            <a:srgbClr val="00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84360" y="2349360"/>
            <a:ext cx="1944720" cy="187164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8120" y="189000"/>
            <a:ext cx="1944720" cy="1871640"/>
          </a:xfrm>
          <a:prstGeom prst="rect">
            <a:avLst/>
          </a:prstGeom>
          <a:solidFill>
            <a:srgbClr val="9cc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2349360"/>
            <a:ext cx="1944360" cy="18716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6360" y="4508640"/>
            <a:ext cx="1944720" cy="1871640"/>
          </a:xfrm>
          <a:prstGeom prst="rect">
            <a:avLst/>
          </a:prstGeom>
          <a:solidFill>
            <a:srgbClr val="8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4508640"/>
            <a:ext cx="1944720" cy="1871640"/>
          </a:xfrm>
          <a:prstGeom prst="rect">
            <a:avLst/>
          </a:prstGeom>
          <a:solidFill>
            <a:srgbClr val="ff66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16360" y="2349360"/>
            <a:ext cx="1944720" cy="1871640"/>
          </a:xfrm>
          <a:prstGeom prst="rect">
            <a:avLst/>
          </a:prstGeom>
          <a:solidFill>
            <a:srgbClr val="ff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77080" y="2349360"/>
            <a:ext cx="1944720" cy="1871640"/>
          </a:xfrm>
          <a:prstGeom prst="rect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4508640"/>
            <a:ext cx="1944360" cy="1871640"/>
          </a:xfrm>
          <a:prstGeom prst="rect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69228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ou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56000" y="69228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le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88000" y="69228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ve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48360" y="69228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au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292428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lan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292428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o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88000" y="2924280"/>
            <a:ext cx="180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ran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04000" y="2349360"/>
            <a:ext cx="208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marron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bru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501336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gr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56000" y="501336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o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8000" y="501336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viol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3-03-27T12:23:47Z</dcterms:modified>
  <cp:revision>38</cp:revision>
  <dc:subject/>
  <dc:title>Slide 1</dc:title>
</cp:coreProperties>
</file>