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EE1-D879-4D4A-8835-9127A3FB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02A-AA97-4B08-BFC5-64451173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875-8925-4543-BFF8-EC57552F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C18-14B4-4D42-9FF6-8AE2328A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618-CC77-40B4-BD69-8CFDE253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EBA5-9702-49AC-AC98-3F79BE6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D0E7-C546-4B33-A843-A8CE92E9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4F0-DFC3-42EC-9B5D-C299509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783-E01C-43A2-BB1E-3B50809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1B5D-DEA2-4FF4-A2B0-CD2BEE8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D6D8-B6F1-4976-909F-53910CA3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05-A1F8-4C4B-AAC0-79EFDDE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075-4A64-4FB7-9DE0-DBD20F9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AC3D-2199-41F1-8954-49CA1C4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4B6-D907-44FC-862D-5B2CF62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D4C-4301-4CC1-B5CB-516FBFBC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25C0-8C8F-4F8D-BA0F-CE9ABBF4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DE1B-385A-4806-B520-35211A28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8F20-61AA-4218-A442-8AC6E03A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0632-A0A7-48E3-9865-CCE72E9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F887-31EC-4F4D-827E-04BB2D7B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EEF0-0F52-4E66-8EC7-BDAF71C4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6E5-D3A3-4423-8EFF-7DDAF47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6AE4-A852-46BB-B730-CE0ADF8D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9814-1C48-4BF7-9187-7045C6B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8172-4AAB-41A4-9D65-1FEC22D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AC5A-7865-477C-82FF-CCB97E4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5C14-DFD9-4523-9371-47911B5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0A06-5855-4961-AF18-02AD516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A323-40B8-4A38-9D42-7942018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B181-2516-4A14-91DE-4CA586A6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97EC-010C-48C2-B7C0-1D6671F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B906-54CE-440C-875F-17051CF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645-31CC-437C-A3AA-9926DE44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7D494-8F64-4FE5-9E06-01A1981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8618-4807-4B8C-92A0-E2E0868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E56F-FF3F-4CC4-A4F1-37766E7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5D72-3DA5-4695-9429-41349F71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BFA8-0B84-4488-BDBC-091C47A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F549-1B5B-4BAD-BECE-2B2AA54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9BE8-42D1-4D85-8F71-0638274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02EE-84D5-438E-AF40-851A44DD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BD9C-06FB-40C7-BE8B-63E9A760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9C1-6848-46DD-965E-6565E75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76F-3B85-401E-82A4-74FC3D8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DED-CA5F-41DD-92CE-61DB4DF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768-4DCD-4C11-9001-4D8E2B3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AFC-6CDE-4695-A1C6-4F50203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365E-D9E9-4612-98DF-49342E114F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150E-B243-46F0-9DCC-D66C8D76E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F5C-E2F2-4F8C-A858-EA8B89E042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B66-B124-4D8F-8F89-1A033D0D3D5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ou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692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692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v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924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92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292428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349360"/>
            <a:ext cx="208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ron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br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013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g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01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501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ol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3:47Z</dcterms:modified>
  <cp:revision>38</cp:revision>
  <dc:subject/>
  <dc:title>Slide 1</dc:title>
</cp:coreProperties>
</file>