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7DB0-7EEE-4F35-BEB7-843EEF8EF9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63A6-24EC-453E-8AF8-777B0909D7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828-C680-4259-A533-0256D5AD94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01E-594A-4D4B-AF8C-53CC536680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7519-557B-41E5-8A39-434A62EAE3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935E-AE98-4404-9CF7-FAE4A2892A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718-3887-422B-ADF1-ED06C0F5EE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A02-F978-4950-9C5C-ADE5AAA277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1349-7A09-4627-A9B9-45D801F112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DAF-DA13-4FD9-A56B-E986BD2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222-7F0A-418C-8272-A2BF02E6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674-1E34-483C-80CA-E04DCD21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55A-8090-408D-97B9-3786924F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FBE-EDDD-4590-8DFD-DC05B189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8E4-EAC3-4CDF-94DD-70CE2F68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10C-DB9C-4769-916F-FD213576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2D4-15C9-4785-9215-4C3D8F6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46E-E170-4896-B660-18A594E1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760-BEB9-4E0B-8C92-1E18DA7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EF2-BAEE-47D1-BBE9-2FB56F0D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5FC-F19B-458D-B602-B03375A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09D3-AE18-426B-B346-1F238AC0C9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vingt-s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 maison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 maison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2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ix-hu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 chapeaux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 chapeaux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0"/>
          <p:cNvSpPr/>
          <p:nvPr/>
        </p:nvSpPr>
        <p:spPr>
          <a:xfrm>
            <a:off x="1187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ator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plum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189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plum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Box 36"/>
          <p:cNvSpPr/>
          <p:nvPr/>
        </p:nvSpPr>
        <p:spPr>
          <a:xfrm>
            <a:off x="154764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trente-et-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37:48Z</dcterms:modified>
  <cp:revision>105</cp:revision>
  <dc:subject/>
  <dc:title>TITLE</dc:title>
</cp:coreProperties>
</file>