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8B01-218D-40A8-B37E-7ADC7F96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66B7-6D2F-45EB-9BA0-26979114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3538-952D-4C9D-9EDF-18AE0429F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7162-51E0-4C0E-B5D5-EA90E045A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BFE3-24AE-4EEB-90B9-6BC98DD09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A30D-F9CC-4262-A16B-907E7380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16CA-996F-472D-8435-BE18F99F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0CAC-77CF-4B68-B1EA-0B535F32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42A9-E2F6-4943-91C8-7AF78C61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891A-F40D-4401-B5F0-CDAB3B8B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E93D-92F7-49D8-8EA9-3B54510D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1278-298D-4DF0-83C9-51564EEF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328E-AC64-4E0D-8C02-70D440E0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ECD4-142A-4335-8E18-41571AA5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4EA7-4629-47BB-8FCB-95A58194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9A72-0DB0-49A4-9273-9457B2107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7FB3-5489-4470-8B2E-3C94D268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CBC91-CB89-4EE8-8358-520EEE0E5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97005-6C63-4A7D-B5A5-2400A368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FB9B5-6520-4A61-BF8A-56353352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7096C-34BC-45C6-BFEF-F0CB7552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175A6-055C-49BE-8E09-FC0DB927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55B5-64CF-485F-8DC2-191AEC09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2D70F-0071-4904-A7BC-BEF22E8B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A8436-BA12-422E-94F7-0040B294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1AC7C-42E7-46A7-9726-E2011879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768DB-868C-44DA-B500-008E0D1C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06333-9738-45A0-8623-7D413353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3C74C-E8C5-4C86-89FD-5ADD2E22F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22D4A-834A-4995-ABB4-D542E314E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B6188-D535-453C-BCBA-A8328BE94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CDF01-B213-4F8D-A3F1-31507458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F8050-DC20-43D7-BDFD-89A51571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B74E-8B71-420B-94EB-DA5DD4DD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CEE7D-200A-4622-B2FD-E717E7C9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CD0B4-AEC8-4126-AA28-2EE2609D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59649-C9A5-47BA-B261-423124FB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00CFC-25E0-48D1-8534-0205B3E4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61CA6-4110-4EDD-B610-A4FE6BEC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A103C-3306-43B1-A61C-1D699EAE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A4A0B-A3A7-42AA-9750-D2BE3EF6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ADE03-4CF9-45BA-8ED2-C9BDB7655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BAB0E-574E-4B31-9784-40457BB4A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2DF4-E460-4C5C-A9D8-4D375AD1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925D-621E-4298-83DB-56BE295B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165C-708F-41AE-921D-0727F83D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A875-838D-4AF0-864F-D08F90BB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DE89-D20A-4FF2-84B3-89256B9B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E326-4C11-4F14-ABC0-F937DBCF00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3CFE-8AC3-46E8-A476-195A60B859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BF28-74B5-4218-B616-73CDF70D33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740B-4596-4576-B4A1-CE9BE207BAA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7524720" y="5373720"/>
            <a:ext cx="1514520" cy="1282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-6480" y="1125360"/>
            <a:ext cx="1262160" cy="1405080"/>
          </a:xfrm>
          <a:prstGeom prst="rect">
            <a:avLst/>
          </a:prstGeom>
          <a:ln w="0">
            <a:noFill/>
          </a:ln>
        </p:spPr>
      </p:pic>
      <p:sp>
        <p:nvSpPr>
          <p:cNvPr id="168" name="Rounded Rectangular Callout 4"/>
          <p:cNvSpPr/>
          <p:nvPr/>
        </p:nvSpPr>
        <p:spPr>
          <a:xfrm>
            <a:off x="1332000" y="189000"/>
            <a:ext cx="6840360" cy="1511280"/>
          </a:xfrm>
          <a:prstGeom prst="wedgeRoundRectCallout">
            <a:avLst>
              <a:gd name="adj1" fmla="val -49800"/>
              <a:gd name="adj2" fmla="val 68675"/>
              <a:gd name="adj3" fmla="val 16667"/>
            </a:avLst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Comic Sans MS"/>
              </a:rPr>
              <a:t>Bonjour Madame </a:t>
            </a:r>
            <a:r>
              <a:rPr b="0" lang="en-GB" sz="3600" spc="-1" strike="noStrike">
                <a:solidFill>
                  <a:srgbClr val="006acd"/>
                </a:solidFill>
                <a:latin typeface="Comic Sans MS"/>
              </a:rPr>
              <a:t>Lundi</a:t>
            </a:r>
            <a:r>
              <a:rPr b="0" lang="en-GB" sz="3600" spc="-1" strike="noStrike">
                <a:solidFill>
                  <a:srgbClr val="333333"/>
                </a:solidFill>
                <a:latin typeface="Comic Sans MS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Comic Sans MS"/>
              </a:rPr>
              <a:t>Comment va Madame </a:t>
            </a:r>
            <a:r>
              <a:rPr b="0" lang="en-GB" sz="3600" spc="-1" strike="noStrike">
                <a:solidFill>
                  <a:srgbClr val="006acd"/>
                </a:solidFill>
                <a:latin typeface="Comic Sans MS"/>
              </a:rPr>
              <a:t>Mardi</a:t>
            </a:r>
            <a:r>
              <a:rPr b="0" lang="en-GB" sz="3600" spc="-1" strike="noStrike">
                <a:solidFill>
                  <a:srgbClr val="333333"/>
                </a:solidFill>
                <a:latin typeface="Comic Sans MS"/>
              </a:rPr>
              <a:t>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ounded Rectangular Callout 7"/>
          <p:cNvSpPr/>
          <p:nvPr/>
        </p:nvSpPr>
        <p:spPr>
          <a:xfrm>
            <a:off x="1332000" y="2060640"/>
            <a:ext cx="6840360" cy="3024000"/>
          </a:xfrm>
          <a:prstGeom prst="wedgeRoundRectCallout">
            <a:avLst>
              <a:gd name="adj1" fmla="val 45592"/>
              <a:gd name="adj2" fmla="val 63884"/>
              <a:gd name="adj3" fmla="val 16667"/>
            </a:avLst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Comic Sans MS"/>
              </a:rPr>
              <a:t>Très bien, Madame </a:t>
            </a:r>
            <a:r>
              <a:rPr b="0" lang="en-GB" sz="3600" spc="-1" strike="noStrike">
                <a:solidFill>
                  <a:srgbClr val="006acd"/>
                </a:solidFill>
                <a:latin typeface="Comic Sans MS"/>
              </a:rPr>
              <a:t>Mercredi</a:t>
            </a:r>
            <a:r>
              <a:rPr b="0" lang="en-GB" sz="3600" spc="-1" strike="noStrike">
                <a:solidFill>
                  <a:srgbClr val="333333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Comic Sans MS"/>
              </a:rPr>
              <a:t>Dites à Madame </a:t>
            </a:r>
            <a:r>
              <a:rPr b="0" lang="en-GB" sz="3600" spc="-1" strike="noStrike">
                <a:solidFill>
                  <a:srgbClr val="006acd"/>
                </a:solidFill>
                <a:latin typeface="Comic Sans MS"/>
              </a:rPr>
              <a:t>Jeud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Comic Sans MS"/>
              </a:rPr>
              <a:t>De venir </a:t>
            </a:r>
            <a:r>
              <a:rPr b="0" lang="en-GB" sz="3600" spc="-1" strike="noStrike">
                <a:solidFill>
                  <a:srgbClr val="006acd"/>
                </a:solidFill>
                <a:latin typeface="Comic Sans MS"/>
              </a:rPr>
              <a:t>vendred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Comic Sans MS"/>
              </a:rPr>
              <a:t>Danser </a:t>
            </a:r>
            <a:r>
              <a:rPr b="0" lang="en-GB" sz="3600" spc="-1" strike="noStrike">
                <a:solidFill>
                  <a:srgbClr val="006acd"/>
                </a:solidFill>
                <a:latin typeface="Comic Sans MS"/>
              </a:rPr>
              <a:t>samed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Comic Sans MS"/>
              </a:rPr>
              <a:t>Dans la salle de </a:t>
            </a:r>
            <a:r>
              <a:rPr b="0" lang="en-GB" sz="3600" spc="-1" strike="noStrike">
                <a:solidFill>
                  <a:srgbClr val="006acd"/>
                </a:solidFill>
                <a:latin typeface="Comic Sans MS"/>
              </a:rPr>
              <a:t>Dimanche</a:t>
            </a:r>
            <a:r>
              <a:rPr b="0" lang="en-GB" sz="3600" spc="-1" strike="noStrike">
                <a:solidFill>
                  <a:srgbClr val="333333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5-11-01T19:24:41Z</dcterms:modified>
  <cp:revision>41</cp:revision>
  <dc:subject/>
  <dc:title>Slide 1</dc:title>
</cp:coreProperties>
</file>