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E4D-A760-47C1-94BB-4B073162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8D1-47EF-4809-95CA-1CD46797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0D1-D982-468E-9460-66F6F121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C07-F53D-4D9A-AC06-46825840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41A5-4060-4D24-809F-C2A11FBC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E45B-8328-4495-8DE2-1D26E811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84C7-81C6-4EA3-A6BF-713E06CF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A125-C748-4AC2-B353-4D88A192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BAE5-3A6C-4039-80C7-54AAC882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1EE2-1F13-487F-B1B6-22711E87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F178-1AC5-4BA6-8CD0-2C1AC037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479-399D-443E-AC81-5307F6FC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F693-EE3B-4CBA-ABBC-D9C027E6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038B-4A1D-438C-8941-E43D711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B271-95C1-4838-8651-44BF1F2A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0B7A-42A7-4560-B74F-60C19C82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34BE-CBB4-4F24-A8D5-01C3D48F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C039-2149-4BC5-8B6E-DF1AAC88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1A6F-10B6-4FF2-970F-A2F6C770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ADF3-BD42-4831-A204-976CD584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9549-8CDB-43B3-840A-7A266E26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B41C-2B8C-4085-B917-B702B496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8FE-18C3-483C-BD06-5AEFFC20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757D-F1D9-4ED9-AECD-F29B06BA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89D6-97C9-40C5-AD5F-4F8DB42C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39AF6-B8AD-4846-BB08-386C833E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33FC-444F-4F49-83E2-E3AF4820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7B4F-F21B-4FA6-800B-B571AF1C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9ADA-8C3B-4BF4-BE0E-8C3D2A95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ACFF-8087-48CC-9A55-C9C19955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07693-BA9E-4C9C-BD25-2E52C3F1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4BAD-3519-40BE-A7C6-D4BA6090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A55E1-ABA4-4D3C-879B-B1F1C205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AAD-4952-43DC-9749-D2CA9FDF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833FC-A01D-4E92-A632-BD87B542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48863-8E34-4663-A974-638E405F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E8D34-9E3F-44F8-B5F7-30D98A40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676E-3868-400E-8178-0A8B934B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2045-237D-4D5F-9FB8-1297D3B3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8A48-00DC-423C-BA58-82BCEA66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0F21-3E8C-43DC-9876-4E6A98F6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D8AF6-9687-45A9-8E21-56FC5598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65CD-701A-4614-8532-44EC05FF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9FF-A694-450B-AEA4-4506FF82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8D7-B249-49FF-B707-B627346A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E6D-E7DD-4933-B1CD-8826D92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0EC-7BA1-436F-ACC7-C32B8936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923-4EBB-41E2-8C24-DE0529E7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CD5B-5595-4684-9994-7183C37A9C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0451-2207-40BC-99C8-ACD4D8A013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910A-FB0F-4309-AEC3-84C0C1F87C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EB93-98D4-46EB-96C1-082D8996901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1514520" cy="1282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-6480" y="1125360"/>
            <a:ext cx="1262160" cy="1405080"/>
          </a:xfrm>
          <a:prstGeom prst="rect">
            <a:avLst/>
          </a:prstGeom>
          <a:ln w="0">
            <a:noFill/>
          </a:ln>
        </p:spPr>
      </p:pic>
      <p:sp>
        <p:nvSpPr>
          <p:cNvPr id="168" name="Rounded Rectangular Callout 4"/>
          <p:cNvSpPr/>
          <p:nvPr/>
        </p:nvSpPr>
        <p:spPr>
          <a:xfrm>
            <a:off x="1332000" y="189000"/>
            <a:ext cx="6840360" cy="1511280"/>
          </a:xfrm>
          <a:prstGeom prst="wedgeRoundRectCallout">
            <a:avLst>
              <a:gd name="adj1" fmla="val -49800"/>
              <a:gd name="adj2" fmla="val 68675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Bonjour Madame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Lundi</a:t>
            </a: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Comment va Madame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Mardi</a:t>
            </a: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ounded Rectangular Callout 7"/>
          <p:cNvSpPr/>
          <p:nvPr/>
        </p:nvSpPr>
        <p:spPr>
          <a:xfrm>
            <a:off x="1332000" y="2060640"/>
            <a:ext cx="6840360" cy="3024000"/>
          </a:xfrm>
          <a:prstGeom prst="wedgeRoundRectCallout">
            <a:avLst>
              <a:gd name="adj1" fmla="val 45592"/>
              <a:gd name="adj2" fmla="val 63884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Très bien, Madame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Mercredi</a:t>
            </a: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Dites à Madame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Jeu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De venir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vendre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Danser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same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Dans la salle de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Dimanche</a:t>
            </a: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11-01T19:24:41Z</dcterms:modified>
  <cp:revision>41</cp:revision>
  <dc:subject/>
  <dc:title>Slide 1</dc:title>
</cp:coreProperties>
</file>