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6C5-2952-470D-B8A9-BC6504DD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7EA-9469-4D40-AEA7-78AABBE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07D-3C93-4F84-858A-1602373A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A12-7A6D-4CC3-9B2A-A6B3AE50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406-8767-41D3-86B4-B3BAC13A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C378-EA10-4D87-86C2-0146D86E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4D4-F12F-4023-AFCA-0EF5009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F1D3-38ED-4DE5-B86B-8887E126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121-1F78-4FED-B77B-D7D26090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DD3A-2F64-43FB-A4D3-7B2BAE49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77C-9FC4-43A9-AA48-CC51749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C58-CDC3-4B5E-96F0-66B55D9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DDE1-2B85-4AA2-BB7B-78D651D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6CA-5DFE-489D-8137-3B7D680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17BB-2405-430C-A3D7-22074AFE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E86-AA4E-457E-B969-0F1F4709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E140-0913-4C2A-92B2-A483A4F1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4F79-A948-41E4-9F3F-0C9FC43C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0C88-9329-4A71-A61D-20537450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4F96-DA6C-45ED-A150-6C786004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1E72-03DD-4E7E-9F29-3A82E69A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11F8-B2FD-4A01-B3CF-89DBB164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482-9E69-413F-B2E0-70AF75C2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6B17-7A9A-4618-B61B-479C5F2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BB37-3CDD-4928-B212-4C37947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DBD6A-10BD-4EC4-AF13-A1C6AFF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9AFC-AC01-45AD-934C-89158298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991C-29A3-4CD6-85ED-B7BA16E7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552B-F61B-4E04-A88E-A7C00B0F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D9F1-3891-47B3-AA2A-CEF8AC7D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5780-0400-47CF-9542-8C74E744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5A93-3FD9-403E-89C4-07BD4458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49C0-B09C-4F52-AE55-49171A73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C6A-527D-4ED5-85C2-9790F0FB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E79B-ECAE-4ABD-B28A-44AC6DC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9BEA-E7AA-4EB4-AB34-AC7130A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CC78-495F-43B9-B2EC-DED831D0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C61F-5511-480F-8456-E350F55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EF23-90DC-4FF3-92B5-7C451A5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C4AF-3B4D-4936-8486-9F49B8E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5A80-9046-4320-8FAB-B7468B2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58E6-2C62-4F16-B924-19DA7FD7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3A18-E905-4BC3-AEF1-6CAEE261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83E-1463-4BB3-AD45-109DE8B5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8F1-1B98-46B1-ABF8-C332AFC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0B5-2D39-46C4-8919-95CABA2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60B-400F-4643-8BC6-A4032BD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C40-B0FF-4F1D-B672-029F8DD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F78-6B29-4A6B-9CB1-8E813C05F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8F5D-04FA-48B2-8475-35A3589AF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3F9-01C6-4E2F-B6BE-7A55CE8DF7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AEC-3E31-4CB0-82EB-1558007BD66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549360" y="193680"/>
            <a:ext cx="576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22480" y="55548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697040" y="566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860560" y="5540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276640" y="193680"/>
            <a:ext cx="576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6400" y="293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112760" y="338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1682640" y="3398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539640" y="19890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11600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2257560" y="33804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2832120" y="338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1692360" y="198900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2257560" y="163044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84328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4062240" y="35132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527040" y="351324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4670280" y="3873600"/>
            <a:ext cx="5749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470400" y="387360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287964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29536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698480" y="38782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1119240" y="38768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7164360" y="19368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9"/>
          <p:cNvSpPr/>
          <p:nvPr/>
        </p:nvSpPr>
        <p:spPr>
          <a:xfrm>
            <a:off x="7770960" y="5540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6572160" y="5540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5981760" y="554040"/>
            <a:ext cx="5745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5397480" y="5540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4800600" y="5572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7740720" y="35132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831852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4852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7"/>
          <p:cNvSpPr/>
          <p:nvPr/>
        </p:nvSpPr>
        <p:spPr>
          <a:xfrm>
            <a:off x="655632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8"/>
          <p:cNvSpPr/>
          <p:nvPr/>
        </p:nvSpPr>
        <p:spPr>
          <a:xfrm>
            <a:off x="597384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9"/>
          <p:cNvSpPr/>
          <p:nvPr/>
        </p:nvSpPr>
        <p:spPr>
          <a:xfrm>
            <a:off x="7740720" y="162864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8317080" y="198900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714852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2"/>
          <p:cNvSpPr/>
          <p:nvPr/>
        </p:nvSpPr>
        <p:spPr>
          <a:xfrm>
            <a:off x="655632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3"/>
          <p:cNvSpPr/>
          <p:nvPr/>
        </p:nvSpPr>
        <p:spPr>
          <a:xfrm>
            <a:off x="597384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4"/>
          <p:cNvSpPr/>
          <p:nvPr/>
        </p:nvSpPr>
        <p:spPr>
          <a:xfrm>
            <a:off x="5376960" y="199224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4797360" y="1992240"/>
            <a:ext cx="5749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19724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7691400" y="522612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8265960" y="55864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7099200" y="55864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0"/>
          <p:cNvSpPr/>
          <p:nvPr/>
        </p:nvSpPr>
        <p:spPr>
          <a:xfrm>
            <a:off x="6507000" y="55864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5327640" y="559116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4746600" y="558972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4148280" y="558648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5919840" y="522612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6"/>
          <p:cNvSpPr/>
          <p:nvPr/>
        </p:nvSpPr>
        <p:spPr>
          <a:xfrm>
            <a:off x="4773600" y="357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7"/>
          <p:cNvSpPr/>
          <p:nvPr/>
        </p:nvSpPr>
        <p:spPr>
          <a:xfrm>
            <a:off x="5349960" y="3999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8"/>
          <p:cNvSpPr/>
          <p:nvPr/>
        </p:nvSpPr>
        <p:spPr>
          <a:xfrm>
            <a:off x="5862600" y="399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9"/>
          <p:cNvSpPr/>
          <p:nvPr/>
        </p:nvSpPr>
        <p:spPr>
          <a:xfrm>
            <a:off x="6492960" y="3999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0"/>
          <p:cNvSpPr/>
          <p:nvPr/>
        </p:nvSpPr>
        <p:spPr>
          <a:xfrm>
            <a:off x="7068960" y="399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61"/>
          <p:cNvSpPr/>
          <p:nvPr/>
        </p:nvSpPr>
        <p:spPr>
          <a:xfrm>
            <a:off x="7691400" y="39996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63"/>
          <p:cNvSpPr/>
          <p:nvPr/>
        </p:nvSpPr>
        <p:spPr>
          <a:xfrm>
            <a:off x="555480" y="1860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j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64"/>
          <p:cNvSpPr/>
          <p:nvPr/>
        </p:nvSpPr>
        <p:spPr>
          <a:xfrm>
            <a:off x="110160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5"/>
          <p:cNvSpPr/>
          <p:nvPr/>
        </p:nvSpPr>
        <p:spPr>
          <a:xfrm>
            <a:off x="1673280" y="1832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66"/>
          <p:cNvSpPr/>
          <p:nvPr/>
        </p:nvSpPr>
        <p:spPr>
          <a:xfrm>
            <a:off x="2246400" y="18302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7"/>
          <p:cNvSpPr/>
          <p:nvPr/>
        </p:nvSpPr>
        <p:spPr>
          <a:xfrm>
            <a:off x="282240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8"/>
          <p:cNvSpPr/>
          <p:nvPr/>
        </p:nvSpPr>
        <p:spPr>
          <a:xfrm>
            <a:off x="4221000" y="1785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9"/>
          <p:cNvSpPr/>
          <p:nvPr/>
        </p:nvSpPr>
        <p:spPr>
          <a:xfrm>
            <a:off x="4797360" y="183024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70"/>
          <p:cNvSpPr/>
          <p:nvPr/>
        </p:nvSpPr>
        <p:spPr>
          <a:xfrm>
            <a:off x="5367240" y="1832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71"/>
          <p:cNvSpPr/>
          <p:nvPr/>
        </p:nvSpPr>
        <p:spPr>
          <a:xfrm>
            <a:off x="594036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72"/>
          <p:cNvSpPr/>
          <p:nvPr/>
        </p:nvSpPr>
        <p:spPr>
          <a:xfrm>
            <a:off x="651672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73"/>
          <p:cNvSpPr/>
          <p:nvPr/>
        </p:nvSpPr>
        <p:spPr>
          <a:xfrm>
            <a:off x="7140600" y="1785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74"/>
          <p:cNvSpPr/>
          <p:nvPr/>
        </p:nvSpPr>
        <p:spPr>
          <a:xfrm>
            <a:off x="7716960" y="18302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75"/>
          <p:cNvSpPr/>
          <p:nvPr/>
        </p:nvSpPr>
        <p:spPr>
          <a:xfrm>
            <a:off x="8286840" y="18320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7"/>
          <p:cNvSpPr/>
          <p:nvPr/>
        </p:nvSpPr>
        <p:spPr>
          <a:xfrm>
            <a:off x="525600" y="36576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78"/>
          <p:cNvSpPr/>
          <p:nvPr/>
        </p:nvSpPr>
        <p:spPr>
          <a:xfrm>
            <a:off x="1101600" y="370188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79"/>
          <p:cNvSpPr/>
          <p:nvPr/>
        </p:nvSpPr>
        <p:spPr>
          <a:xfrm>
            <a:off x="1576440" y="37018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80"/>
          <p:cNvSpPr/>
          <p:nvPr/>
        </p:nvSpPr>
        <p:spPr>
          <a:xfrm>
            <a:off x="2244600" y="370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81"/>
          <p:cNvSpPr/>
          <p:nvPr/>
        </p:nvSpPr>
        <p:spPr>
          <a:xfrm>
            <a:off x="2820960" y="370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82"/>
          <p:cNvSpPr/>
          <p:nvPr/>
        </p:nvSpPr>
        <p:spPr>
          <a:xfrm>
            <a:off x="3444840" y="36576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83"/>
          <p:cNvSpPr/>
          <p:nvPr/>
        </p:nvSpPr>
        <p:spPr>
          <a:xfrm>
            <a:off x="4021200" y="370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84"/>
          <p:cNvSpPr/>
          <p:nvPr/>
        </p:nvSpPr>
        <p:spPr>
          <a:xfrm>
            <a:off x="4591080" y="37036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85"/>
          <p:cNvSpPr/>
          <p:nvPr/>
        </p:nvSpPr>
        <p:spPr>
          <a:xfrm>
            <a:off x="5967360" y="3692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6"/>
          <p:cNvSpPr/>
          <p:nvPr/>
        </p:nvSpPr>
        <p:spPr>
          <a:xfrm>
            <a:off x="6516720" y="3722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87"/>
          <p:cNvSpPr/>
          <p:nvPr/>
        </p:nvSpPr>
        <p:spPr>
          <a:xfrm>
            <a:off x="7086600" y="37242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88"/>
          <p:cNvSpPr/>
          <p:nvPr/>
        </p:nvSpPr>
        <p:spPr>
          <a:xfrm>
            <a:off x="7661160" y="3722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9"/>
          <p:cNvSpPr/>
          <p:nvPr/>
        </p:nvSpPr>
        <p:spPr>
          <a:xfrm>
            <a:off x="8237520" y="3722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90"/>
          <p:cNvSpPr/>
          <p:nvPr/>
        </p:nvSpPr>
        <p:spPr>
          <a:xfrm>
            <a:off x="4195800" y="5430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91"/>
          <p:cNvSpPr/>
          <p:nvPr/>
        </p:nvSpPr>
        <p:spPr>
          <a:xfrm>
            <a:off x="4772160" y="54752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92"/>
          <p:cNvSpPr/>
          <p:nvPr/>
        </p:nvSpPr>
        <p:spPr>
          <a:xfrm>
            <a:off x="5342040" y="54770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93"/>
          <p:cNvSpPr/>
          <p:nvPr/>
        </p:nvSpPr>
        <p:spPr>
          <a:xfrm>
            <a:off x="5916600" y="547524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4"/>
          <p:cNvSpPr/>
          <p:nvPr/>
        </p:nvSpPr>
        <p:spPr>
          <a:xfrm>
            <a:off x="6491160" y="5475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95"/>
          <p:cNvSpPr/>
          <p:nvPr/>
        </p:nvSpPr>
        <p:spPr>
          <a:xfrm>
            <a:off x="7080120" y="5430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96"/>
          <p:cNvSpPr/>
          <p:nvPr/>
        </p:nvSpPr>
        <p:spPr>
          <a:xfrm>
            <a:off x="7653240" y="5429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97"/>
          <p:cNvSpPr/>
          <p:nvPr/>
        </p:nvSpPr>
        <p:spPr>
          <a:xfrm>
            <a:off x="8229600" y="5429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4-28T10:20:15Z</dcterms:modified>
  <cp:revision>39</cp:revision>
  <dc:subject/>
  <dc:title>Slide 1</dc:title>
</cp:coreProperties>
</file>