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9AC-B547-4844-8674-BFFF1D2F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524-6BAD-4607-9F7B-5A5C7F3C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B34-DC7C-4D46-89E4-7E5CE4D0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803-AD5E-4791-92BF-B7CF0C0F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7730-A15C-4FF3-AB41-B27FB6DC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C557-5CC1-4B09-A9CB-F57B4377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8743-3E94-4D89-8EC4-F465D006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B1CB-35B9-47BF-B42A-FC29986E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5568-04C7-43CF-8A6A-53B28715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7090-04FE-49A2-94A5-C6E738BB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86A0-17C5-44CE-8BCC-49451B94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119-0A8E-498F-9355-778751E0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34D6-B4F5-4395-8282-DAB206A7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71C2-60A5-4A79-A34C-58C5238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926F-D670-4430-B1B4-815282D7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AC1E-41F5-4782-8203-FD94796B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3BA6-B2EF-42E0-8810-E21E4F0F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7C54-6151-4E75-9B3A-D59EC8A8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F0C6-6269-4542-842C-01A4B83B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F737-B8B7-4CEB-B402-CD3B9B4A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F841-4B79-46B6-92B3-F885EF34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066F-910C-4344-B506-1F2F8E48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43E-C22B-4B39-9344-D6F2ADCF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0F6E-0880-4C1F-B261-48523E38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B22F-037C-4E53-B270-9221758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CA71-44F7-419C-93FB-8592E038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25AF-E6D6-4D0F-92E7-35F46E1C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695C-6128-47CC-9C25-D1572E68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CBD1-58E2-4995-A204-9E8F7023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4069-DF0C-4408-8EED-9A408FFE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B0075-0D65-43AF-A71A-39886EBB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ACD0-D5D4-4368-9689-5BB76CB4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782C8-13B3-4355-B85D-E93851C3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BE6-0D92-4EA5-AE7D-6190FA4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DAD7B-DB32-427C-928A-A650E010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34E49-0921-40BE-9B92-2E3AB10D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0B3A-56BA-416A-A74C-7F81AD0E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A319-2F25-4E78-8F0E-40CB8C1B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C9509-8F0F-4AA1-84D9-F14584B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7603C-7C6F-49ED-82D3-EEF38DD9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6068-FFE6-40B4-BBB7-5BB7B8D9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C0F01-FE1A-4A0F-B408-B274C0C7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7FAC4-35D5-46C8-B477-32E1A9CD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8DB-4CE0-4E91-8FE2-2112777C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854-6372-4C52-B229-CD4B350E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743-707C-422B-A849-33B52FA6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C74-52DE-42F4-84B3-EB0A3DCC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5DA-6A93-4928-8B22-6AAA1851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A782-3C0E-4DD4-94FE-D894683A7F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7A7-35FF-4783-BCAE-42DCA2AC90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1848-0D13-40A5-8F48-45E948874B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7332-B2C7-4C32-9F23-80A5A446112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179280" y="166680"/>
            <a:ext cx="8280360" cy="64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 éléphant est grand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e baleine est gran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 poisson est petit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e abeille est petit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 lapin est timi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e souris est timid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 âne est doux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Comic Sans MS"/>
              </a:rPr>
              <a:t>Une tortue est douce.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11-01T19:31:40Z</dcterms:modified>
  <cp:revision>126</cp:revision>
  <dc:subject/>
  <dc:title>Slide 1</dc:title>
</cp:coreProperties>
</file>