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260-DAFD-4AD9-B488-C5E7C206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BC4-E610-4592-96C8-E8333A6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8BB-D22C-4ECB-9425-A05711F2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1EA-DD82-4B5E-BE2F-0C614BAC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E6F0-D049-40E8-B070-989FA63B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CA70-BBFD-4B5B-9F9F-75EE4877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D811-5A42-469A-B5A8-A9F458E1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194-3B7E-4602-82EF-B1E06AF9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9589-5BB1-4171-9263-5968626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6EB-F41D-4DBB-9DFD-E4A3E16B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B10A-9747-45C1-92B6-1D2E0D5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661-8A14-479A-9ECE-71F4332F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993C-363C-4B06-B1CA-F51DF77B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7239-9260-4DCC-B71D-FB787583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E637-92AF-4B3A-AE9B-EFC1E9A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EE9E-3F06-435B-BA3A-B34AD499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817F-E31D-41B3-A980-E07BD88F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D93C-12BA-45CB-BCF9-748B607C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C605-09AC-430A-A0D7-1A47613F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F09D-913A-4754-9A18-AE460A54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3D3D-35BF-40BF-9FD9-026A02BE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D50D-C060-46C3-8759-86614749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F3B-A916-43D8-A244-4F4CFC9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C1FE-9808-42E7-9CCC-4FAB0B87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165C-6E78-47D4-A3B4-FD89BCE0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4424-9DD9-40A7-AEFE-ACB0B779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51E8-C542-4435-A030-84B166F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5576-3499-4300-85D2-096C5E85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010E-C0BF-4582-ABEA-359CFB54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F6D2-367C-4197-955E-97141255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467D-F41D-4F96-85AE-BFBE72A8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92C34-FC65-4335-BA68-1E215130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586F-EA0F-45E2-8E28-A6A4EBF3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BE3-125A-4117-BE5A-18811BC6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03D23-FB9A-4A84-9C56-0449EC1B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9B69-E782-4D20-9B30-2EED3753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504A-1E74-4AB4-8BA7-92FE500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BBF8-D053-4594-BE1D-FBE0808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2A30-24FF-41FE-A8DC-84BCB5E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950F-5B0A-4AC7-B7E1-B46A5D9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4591-EE34-499F-A1B1-C4AAFCBD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F4BD-2308-479F-AA45-6FAA089A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E321-375A-4F01-AB23-C6435030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945-0837-4097-B6A8-D22B4E9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5E6-3D2B-4DCE-9B78-A3E6066D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286-5A12-4B8A-A826-42ED913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CAB-3DD5-4CF7-B2E4-4FFB4CD4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5D0-76DD-4C02-8C0D-5D56710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852-0516-405E-8EFC-0EF0EE23CF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2510-4E2D-42BF-9EAD-D5C92A7C80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B53-53D6-4B19-B0D8-587F719E68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1FFE-C36C-42FA-8A01-E1C8EE0A2E8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79280" y="166680"/>
            <a:ext cx="828036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 éléphant est grand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e baleine est gran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 poisson est petit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e abeille est petit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 lapin est timi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e souris est timi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 âne est doux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e tortue est douc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11-01T19:31:40Z</dcterms:modified>
  <cp:revision>126</cp:revision>
  <dc:subject/>
  <dc:title>Slide 1</dc:title>
</cp:coreProperties>
</file>