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541-135E-42A3-9C22-9B425360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ACE-B2F1-4C1C-BE71-176636B3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E98-2960-4CDB-A25B-160D92AE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FD7-1E07-4F68-95F4-7B2C4566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A565-C02F-4730-859C-0526CF4E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A61A-0BF3-47DA-8FE2-192F941B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E636-27F9-46E1-BA59-A8153094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2394-A79E-409F-AB21-AFC074F8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A99C-8553-455B-A9CB-BC9B1373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0974-59F0-4EAC-BA8E-F742B550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AD05-509B-4B7A-97AF-CED777A8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859-2009-44FC-B604-1DC14F05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2104-568D-4D36-8FA0-635B0A43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0FF6-D767-4A60-9F22-000DBF2A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4710-DEE9-4D8A-A444-1DC9B970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53D8-25B8-4961-9354-FEC239C4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2C80-8459-4C5F-910B-328E5F67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63D5-9B58-4ED5-AB3A-630564FD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A15B0-833D-4274-AC1C-7DC5612A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72FE-C758-441F-AFEF-317C5248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59FA-79FE-48F4-A8C2-0583177B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6A502-3D4C-4F34-8C5D-86C5BEC5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7DC-3515-44DF-ACA2-324A26EB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A7DCE-19E6-4CCE-8852-27FF5D0C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4EC6D-76F5-4FE2-A358-AA3ED70D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AE02F-DAE7-47C5-9E8F-86588226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A616E-890D-4A75-A1A6-735E97FF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6A8D-BA27-4E08-9208-D609E621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5F50-0610-4E9B-87FE-45876AAC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B5A3-1924-4F2A-9657-CFC2B597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5DA15-A267-46C7-B158-4B1D4BB4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D04EF-16D5-44AD-92E6-540830AD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E3C71-3FE2-4CBA-A753-CD29A09B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A62-5102-49A0-B3B8-89A70E11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34358-2A69-40CC-BF0D-C93F5796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8592E-CF58-4F1A-BD87-9C0E170F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4FB20-BCDA-403D-90C7-549D4884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50527-EBE2-4304-8535-D85FD8EE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EBC46-B397-46B3-88C5-5F823272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6AF87-0D83-4F1B-B439-A1445388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026DB-22F6-4FA7-A1FA-C88EA7AE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FD5D0-9B59-4711-8F32-A512FCD7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72B7C-7EF3-4DD0-91E0-E6C5D497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FA9-6ECD-4208-AEB9-BA017280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61A-72A0-437E-9BBB-58A1CEA2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104-B1EE-4A7E-8B55-53318ECD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3F9-EDB3-43BF-B038-20E43D63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22C-5513-4971-91DD-3622E720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EFAF-2B2B-4460-9C04-8C2B21BC70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AE70-D893-4480-9042-0FBAAFA962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2DC3-A363-4D6D-8121-06958D4165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6E69-1EDA-413E-A4E5-5DF10BDC9DF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324000" y="333360"/>
            <a:ext cx="52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le six janvier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324000" y="1628640"/>
            <a:ext cx="76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la Fête des Roi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324000" y="335772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elchior, Gaspard et Balthaza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e la myrrhe, de l’encens et de l’o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327640" cy="4206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5219640" y="4149720"/>
            <a:ext cx="3810240" cy="2543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http://dico-cuisine.fr/images/Feve_epluchee.jpg"/>
          <p:cNvPicPr/>
          <p:nvPr/>
        </p:nvPicPr>
        <p:blipFill>
          <a:blip r:embed="rId3"/>
          <a:stretch/>
        </p:blipFill>
        <p:spPr>
          <a:xfrm>
            <a:off x="5997600" y="270000"/>
            <a:ext cx="2119320" cy="1790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http://paroisse-leblanc-tournon.catholique.fr/wp-content/uploads/2014/01/F%C3%A8ves.jpg"/>
          <p:cNvPicPr/>
          <p:nvPr/>
        </p:nvPicPr>
        <p:blipFill>
          <a:blip r:embed="rId4"/>
          <a:stretch/>
        </p:blipFill>
        <p:spPr>
          <a:xfrm>
            <a:off x="5997600" y="2205000"/>
            <a:ext cx="21654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395280" y="260280"/>
            <a:ext cx="83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J’aime la galette,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avez-vous commen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Quand elle est bien faite,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Avec du beurre dedan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ra-la-la-la-la-la-la-la-lère,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ra-la-la-la-la-la-la-la-la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2" descr="C:\Users\Clare\AppData\Local\Microsoft\Windows\Temporary Internet Files\Content.IE5\Y1TTIEMX\Singing_Clip_Art[1].png"/>
          <p:cNvPicPr/>
          <p:nvPr/>
        </p:nvPicPr>
        <p:blipFill>
          <a:blip r:embed="rId1"/>
          <a:stretch/>
        </p:blipFill>
        <p:spPr>
          <a:xfrm>
            <a:off x="6948360" y="115920"/>
            <a:ext cx="20415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5-03-23T15:25:55Z</dcterms:modified>
  <cp:revision>61</cp:revision>
  <dc:subject/>
  <dc:title>Slide 1</dc:title>
</cp:coreProperties>
</file>