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C97-44F9-4A5E-88E0-517D9597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1D8-8B93-43BA-8EB9-29603DA2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680-B69A-446A-93B3-BBFF6836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996-2F65-47A4-94EB-18254772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535D-AFE9-4240-847F-50EF0109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3A9B-FC7A-425A-AF06-A4389DF7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CB78-7412-4C49-82FA-2349B3C4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A3F0-A80D-4938-9E4E-BC26BECA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D88F-3CDA-4C2E-9CBC-05DDE43A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533E-A481-4292-B7C2-7C30D4C3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31AF-CC04-46DA-8CE0-0C3DB7A9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0FC-1987-467E-AB5A-0241CCD5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A744-AFCF-407A-9E28-15F58CA1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9B12-4425-4EFC-AB71-C11700E3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8272-9EE4-424F-8A21-3B81F5FA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5568-6394-43EC-8068-8B72CDD0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3BD7-2959-4EA5-B633-0E036031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D3FF-5A45-42B8-9323-07890CAB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FA25-2B3A-4C57-B3A0-61B3650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4632-C226-47B2-B1F8-64160270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C56C-5718-4EBA-951B-87C73468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74428-58B3-4F87-A1A3-46E83D1B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B03-361C-46E8-B6F7-60DD71E6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B7B8-7F19-4ADF-A6D7-50EA165E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A295-5F8E-4066-A410-6DA70B4E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783E-6CCB-49DF-9057-CB50BDD9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CF9E-8AE5-40D5-AE5C-FFCB123C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4686-A895-4049-AEEA-5DC96258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BFF12-D91A-42D8-8C0C-C2ACC547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77E5-379C-4E76-A929-9992D90A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5AF80-B3AC-4D22-BE38-D676E038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5B84-98A5-4F55-80E1-359D9416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A37D6-5670-44C1-A0F2-30471881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EBB-DCF1-4F38-A1FA-2AC85B9D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E583-1C17-4F9C-A260-59CF6F38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661B3-921C-4F36-AABA-5162C3E8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5D1F-99D7-4CA7-A7E0-A1F33629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71DA-20A8-4C32-916D-26C7B7FD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F6853-F4D9-4B9A-A710-D63BD87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E1F6-BCEB-4461-B748-C5048C13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F7BF-4B30-4BCA-AE0C-731B8CED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CE38-770E-4A48-BFC2-73910BA0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32F03-DE7F-4BE5-87ED-6C61F7E2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E32-FCDF-4792-868B-D61B4A51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D38-BF24-4CFE-AB9E-944099AB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BC9-ED65-439F-BCEC-07DFB6D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F95-AA68-47D0-B333-11370811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B18-ECCF-4FEE-884A-824638B0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BCE9-1375-4358-BE46-303F1B58AB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DC0A-D767-44EF-99E4-1458C8B887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0586-F2E0-40B8-AEB1-48CDB90651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C106-E416-44DB-B0BE-30362C76091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324000" y="333360"/>
            <a:ext cx="52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</a:rPr>
              <a:t>le six janvier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324000" y="1628640"/>
            <a:ext cx="76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la Fête des Roi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324000" y="335772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elchior, Gaspard et Balthaz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e la myrrhe, de l’encens et de l’o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327640" cy="4206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3810240" cy="2543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dico-cuisine.fr/images/Feve_epluchee.jpg"/>
          <p:cNvPicPr/>
          <p:nvPr/>
        </p:nvPicPr>
        <p:blipFill>
          <a:blip r:embed="rId3"/>
          <a:stretch/>
        </p:blipFill>
        <p:spPr>
          <a:xfrm>
            <a:off x="5997600" y="270000"/>
            <a:ext cx="2119320" cy="1790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http://paroisse-leblanc-tournon.catholique.fr/wp-content/uploads/2014/01/F%C3%A8ves.jpg"/>
          <p:cNvPicPr/>
          <p:nvPr/>
        </p:nvPicPr>
        <p:blipFill>
          <a:blip r:embed="rId4"/>
          <a:stretch/>
        </p:blipFill>
        <p:spPr>
          <a:xfrm>
            <a:off x="5997600" y="2205000"/>
            <a:ext cx="2165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395280" y="260280"/>
            <a:ext cx="83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J’aime la galette,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avez-vous commen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Quand elle est bien faite,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Avec du beurre dedans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ra-la-la-la-la-la-la-la-lère,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ra-la-la-la-la-la-la-la-la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2" descr="C:\Users\Clare\AppData\Local\Microsoft\Windows\Temporary Internet Files\Content.IE5\Y1TTIEMX\Singing_Clip_Art[1].png"/>
          <p:cNvPicPr/>
          <p:nvPr/>
        </p:nvPicPr>
        <p:blipFill>
          <a:blip r:embed="rId1"/>
          <a:stretch/>
        </p:blipFill>
        <p:spPr>
          <a:xfrm>
            <a:off x="6948360" y="115920"/>
            <a:ext cx="20415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5-03-23T15:25:55Z</dcterms:modified>
  <cp:revision>61</cp:revision>
  <dc:subject/>
  <dc:title>Slide 1</dc:title>
</cp:coreProperties>
</file>