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EEEC-A761-411C-B465-E2E3115156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75B1-329B-4DC4-B53A-75942F1409B5}" type="slidenum">
              <a:rPr b="0" lang="es-UY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1C92-9B31-4D93-A953-4D3B78F043E8}" type="slidenum">
              <a:rPr b="0" lang="es-UY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2D62-9337-4193-AC2F-5C188BA4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5279-F2EF-4A3A-A3D9-2CA436F9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8A89-4EF9-49D4-8E9D-A38F53DAF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E0A4-2BC8-4694-B7ED-2A3FD179D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2421-BC8B-496F-80E2-2AFA1329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1CDE-F767-4FE7-95F4-E65EF034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4A26-2B3B-4F70-983B-D21D2187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E1C2-3A19-4C87-B5FD-1127B054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2053-52AD-4C69-97B1-AF639DB9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5484-90DB-4EE9-8C90-AA22C778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A623-F3EA-4067-B0FE-828F60AA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9EF9-0BBD-49B2-B017-DBFCE0DE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12A2-84E8-4DA3-B8EC-60776A35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D15B-1316-4040-950C-3343A84A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36C4-A90C-456B-B70B-DDFBFA4E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835D-E061-4058-BB3E-0BD062365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FF93-A0EA-4EEC-AE7B-FCEA0C2CE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D28F5-3508-419B-B9D0-7C8FF678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6B1F7-D8E5-4FEF-80ED-2F2F84FF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08E6A-08A4-46C3-BDB3-3122B877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2B424-5302-446B-B7B6-F1ADD6EB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03809-89B8-4507-A150-436E6333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D019-D726-42FC-BFB5-503D7E3B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50C3B-A8CD-47F4-B84B-BFE97BF0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8F002-2942-4363-8AAD-7CAAE8E1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7B8A3-0ECE-4D39-9B84-95C700E2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11C37-E278-48A6-BD14-55FB9A5F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D4FB4-B342-4963-BF99-5DAF65EA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0B99B-B45A-4AA1-B9B4-BFB954B5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34633-FABC-4FF5-86D4-379E8C5F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391ED-6E5F-4136-9411-EFC1F25B5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46611-E19B-4176-95CE-29B6BBCF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8F304-7DE0-4560-9C10-033A8650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88B0-9B2A-4576-B0C0-633109D9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2FBE8-38FD-431D-80B3-5CE38E1D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2B972-E20F-4A1B-BAA6-89BBE4BF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12DDC-0D3E-4C68-9A9F-E6D5C2FE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BDF51-8893-420E-8CAA-5ED131C2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2D474-4A2D-421A-B470-832CF03C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BE6FD-4429-408B-8027-2ED71B06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3318A-DFA8-4096-869F-009F68D5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1681E-DB04-478C-8ACC-7A848003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FE3D4-5573-4324-987C-98D4D10E4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322E-F028-4B81-954C-3A763A12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C034-D415-4A85-80E1-D9ED5589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1EA7-3FD4-4561-9BDC-6BF1B2D3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92AE-675C-4AF0-A894-4ED4429B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577F-4755-48AF-BB40-9047E040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A263-DA8D-490F-B7DD-269C7D14C7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BBE4-CEF0-43CA-9D53-76FBB89124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5AF6-A36C-4020-90E9-458142E105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54C4-0CE6-4D45-A51E-5E5BA53203A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2"/>
          <p:cNvSpPr/>
          <p:nvPr/>
        </p:nvSpPr>
        <p:spPr>
          <a:xfrm>
            <a:off x="324000" y="0"/>
            <a:ext cx="2016000" cy="1379520"/>
          </a:xfrm>
          <a:prstGeom prst="rect">
            <a:avLst/>
          </a:prstGeom>
          <a:solidFill>
            <a:srgbClr val="ffffff"/>
          </a:solidFill>
          <a:ln w="9360">
            <a:solidFill>
              <a:srgbClr val="9cc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4" name="Picture 3" descr="pronouns-I"/>
          <p:cNvPicPr/>
          <p:nvPr/>
        </p:nvPicPr>
        <p:blipFill>
          <a:blip r:embed="rId1"/>
          <a:stretch/>
        </p:blipFill>
        <p:spPr>
          <a:xfrm>
            <a:off x="395280" y="0"/>
            <a:ext cx="739800" cy="1368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pronouns-theymix"/>
          <p:cNvPicPr/>
          <p:nvPr/>
        </p:nvPicPr>
        <p:blipFill>
          <a:blip r:embed="rId2"/>
          <a:stretch/>
        </p:blipFill>
        <p:spPr>
          <a:xfrm>
            <a:off x="4427640" y="4076640"/>
            <a:ext cx="2376360" cy="1674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pronouns-we"/>
          <p:cNvPicPr/>
          <p:nvPr/>
        </p:nvPicPr>
        <p:blipFill>
          <a:blip r:embed="rId3"/>
          <a:stretch/>
        </p:blipFill>
        <p:spPr>
          <a:xfrm>
            <a:off x="4427640" y="620640"/>
            <a:ext cx="2376360" cy="1470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pronouns-youpl"/>
          <p:cNvPicPr/>
          <p:nvPr/>
        </p:nvPicPr>
        <p:blipFill>
          <a:blip r:embed="rId4"/>
          <a:stretch/>
        </p:blipFill>
        <p:spPr>
          <a:xfrm>
            <a:off x="4427640" y="2205000"/>
            <a:ext cx="2376360" cy="1736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pronouns-she"/>
          <p:cNvPicPr/>
          <p:nvPr/>
        </p:nvPicPr>
        <p:blipFill>
          <a:blip r:embed="rId5"/>
          <a:stretch/>
        </p:blipFill>
        <p:spPr>
          <a:xfrm>
            <a:off x="324000" y="5022720"/>
            <a:ext cx="1944360" cy="1835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pronouns-he"/>
          <p:cNvPicPr/>
          <p:nvPr/>
        </p:nvPicPr>
        <p:blipFill>
          <a:blip r:embed="rId6"/>
          <a:stretch/>
        </p:blipFill>
        <p:spPr>
          <a:xfrm>
            <a:off x="324000" y="3036960"/>
            <a:ext cx="1944360" cy="1876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pronouns-yousg"/>
          <p:cNvPicPr/>
          <p:nvPr/>
        </p:nvPicPr>
        <p:blipFill>
          <a:blip r:embed="rId7"/>
          <a:stretch/>
        </p:blipFill>
        <p:spPr>
          <a:xfrm>
            <a:off x="324000" y="1476360"/>
            <a:ext cx="1946160" cy="14526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3"/>
          <p:cNvSpPr/>
          <p:nvPr/>
        </p:nvSpPr>
        <p:spPr>
          <a:xfrm>
            <a:off x="2340000" y="21924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I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2340000" y="165888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you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2340000" y="338760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he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2340000" y="533232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she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6877080" y="76500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we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Text Box 18"/>
          <p:cNvSpPr/>
          <p:nvPr/>
        </p:nvSpPr>
        <p:spPr>
          <a:xfrm>
            <a:off x="6877080" y="245124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you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Text Box 19"/>
          <p:cNvSpPr/>
          <p:nvPr/>
        </p:nvSpPr>
        <p:spPr>
          <a:xfrm>
            <a:off x="6877080" y="4324320"/>
            <a:ext cx="201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they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324000" y="0"/>
            <a:ext cx="201600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9cc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9" name="Picture 4" descr="pronouns-I"/>
          <p:cNvPicPr/>
          <p:nvPr/>
        </p:nvPicPr>
        <p:blipFill>
          <a:blip r:embed="rId1"/>
          <a:stretch/>
        </p:blipFill>
        <p:spPr>
          <a:xfrm>
            <a:off x="395280" y="0"/>
            <a:ext cx="739800" cy="1368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pronouns-theymix"/>
          <p:cNvPicPr/>
          <p:nvPr/>
        </p:nvPicPr>
        <p:blipFill>
          <a:blip r:embed="rId2"/>
          <a:stretch/>
        </p:blipFill>
        <p:spPr>
          <a:xfrm>
            <a:off x="4356000" y="3465360"/>
            <a:ext cx="2376720" cy="1675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pronouns-we"/>
          <p:cNvPicPr/>
          <p:nvPr/>
        </p:nvPicPr>
        <p:blipFill>
          <a:blip r:embed="rId3"/>
          <a:stretch/>
        </p:blipFill>
        <p:spPr>
          <a:xfrm>
            <a:off x="4356000" y="9360"/>
            <a:ext cx="2376720" cy="1470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pronouns-youpl"/>
          <p:cNvPicPr/>
          <p:nvPr/>
        </p:nvPicPr>
        <p:blipFill>
          <a:blip r:embed="rId4"/>
          <a:stretch/>
        </p:blipFill>
        <p:spPr>
          <a:xfrm>
            <a:off x="4356000" y="1593720"/>
            <a:ext cx="2376720" cy="1737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pronouns-she"/>
          <p:cNvPicPr/>
          <p:nvPr/>
        </p:nvPicPr>
        <p:blipFill>
          <a:blip r:embed="rId5"/>
          <a:stretch/>
        </p:blipFill>
        <p:spPr>
          <a:xfrm>
            <a:off x="324000" y="5022720"/>
            <a:ext cx="1944360" cy="1835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pronouns-he"/>
          <p:cNvPicPr/>
          <p:nvPr/>
        </p:nvPicPr>
        <p:blipFill>
          <a:blip r:embed="rId6"/>
          <a:stretch/>
        </p:blipFill>
        <p:spPr>
          <a:xfrm>
            <a:off x="324000" y="3036960"/>
            <a:ext cx="1944360" cy="1876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pronouns-yousg"/>
          <p:cNvPicPr/>
          <p:nvPr/>
        </p:nvPicPr>
        <p:blipFill>
          <a:blip r:embed="rId7"/>
          <a:stretch/>
        </p:blipFill>
        <p:spPr>
          <a:xfrm>
            <a:off x="324000" y="1476360"/>
            <a:ext cx="1946160" cy="14526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11"/>
          <p:cNvSpPr/>
          <p:nvPr/>
        </p:nvSpPr>
        <p:spPr>
          <a:xfrm>
            <a:off x="2340000" y="26028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je sui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2340000" y="170028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tu 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2340000" y="35877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il es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2340000" y="539748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elle es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6800760" y="155520"/>
            <a:ext cx="23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nous somm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6804000" y="1763640"/>
            <a:ext cx="23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vous êt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6800760" y="3699000"/>
            <a:ext cx="252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ils sont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elles son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Oval 3"/>
          <p:cNvSpPr/>
          <p:nvPr/>
        </p:nvSpPr>
        <p:spPr>
          <a:xfrm>
            <a:off x="3944880" y="549360"/>
            <a:ext cx="1224000" cy="1439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Straight Connector 13"/>
          <p:cNvSpPr/>
          <p:nvPr/>
        </p:nvSpPr>
        <p:spPr>
          <a:xfrm flipH="1" flipV="1">
            <a:off x="4231800" y="404280"/>
            <a:ext cx="73080" cy="2876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Straight Connector 15"/>
          <p:cNvSpPr/>
          <p:nvPr/>
        </p:nvSpPr>
        <p:spPr>
          <a:xfrm flipH="1">
            <a:off x="4762080" y="404640"/>
            <a:ext cx="73080" cy="2876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06" name="Group 22"/>
          <p:cNvGrpSpPr/>
          <p:nvPr/>
        </p:nvGrpSpPr>
        <p:grpSpPr>
          <a:xfrm>
            <a:off x="1568880" y="1028160"/>
            <a:ext cx="3363480" cy="4525920"/>
            <a:chOff x="1568880" y="1028160"/>
            <a:chExt cx="3363480" cy="4525920"/>
          </a:xfrm>
        </p:grpSpPr>
        <p:sp>
          <p:nvSpPr>
            <p:cNvPr id="207" name="Bent Arrow 16"/>
            <p:cNvSpPr/>
            <p:nvPr/>
          </p:nvSpPr>
          <p:spPr>
            <a:xfrm rot="3466200">
              <a:off x="2351160" y="1309320"/>
              <a:ext cx="2016000" cy="2448000"/>
            </a:xfrm>
            <a:custGeom>
              <a:avLst/>
              <a:gdLst/>
              <a:ahLst/>
              <a:rect l="l" t="t" r="r" b="b"/>
              <a:pathLst>
                <a:path w="2015486" h="2448332">
                  <a:moveTo>
                    <a:pt x="0" y="2448332"/>
                  </a:moveTo>
                  <a:lnTo>
                    <a:pt x="0" y="1194810"/>
                  </a:lnTo>
                  <a:cubicBezTo>
                    <a:pt x="0" y="707819"/>
                    <a:pt x="394784" y="313035"/>
                    <a:pt x="881775" y="313035"/>
                  </a:cubicBezTo>
                  <a:lnTo>
                    <a:pt x="1511615" y="313035"/>
                  </a:lnTo>
                  <a:lnTo>
                    <a:pt x="1511615" y="0"/>
                  </a:lnTo>
                  <a:lnTo>
                    <a:pt x="2015486" y="503872"/>
                  </a:lnTo>
                  <a:lnTo>
                    <a:pt x="1511615" y="1007743"/>
                  </a:lnTo>
                  <a:lnTo>
                    <a:pt x="1511615" y="694708"/>
                  </a:lnTo>
                  <a:lnTo>
                    <a:pt x="881775" y="694708"/>
                  </a:lnTo>
                  <a:cubicBezTo>
                    <a:pt x="605576" y="694708"/>
                    <a:pt x="381672" y="918612"/>
                    <a:pt x="381672" y="1194811"/>
                  </a:cubicBezTo>
                  <a:cubicBezTo>
                    <a:pt x="381672" y="1612651"/>
                    <a:pt x="381673" y="2030492"/>
                    <a:pt x="381673" y="2448332"/>
                  </a:cubicBezTo>
                  <a:lnTo>
                    <a:pt x="0" y="2448332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8" name="Bent Arrow 18"/>
            <p:cNvSpPr/>
            <p:nvPr/>
          </p:nvSpPr>
          <p:spPr>
            <a:xfrm rot="3466200">
              <a:off x="2133720" y="2177640"/>
              <a:ext cx="2016000" cy="2448000"/>
            </a:xfrm>
            <a:custGeom>
              <a:avLst/>
              <a:gdLst/>
              <a:ahLst/>
              <a:rect l="l" t="t" r="r" b="b"/>
              <a:pathLst>
                <a:path w="2015486" h="2448332">
                  <a:moveTo>
                    <a:pt x="0" y="2448332"/>
                  </a:moveTo>
                  <a:lnTo>
                    <a:pt x="0" y="1194810"/>
                  </a:lnTo>
                  <a:cubicBezTo>
                    <a:pt x="0" y="707819"/>
                    <a:pt x="394784" y="313035"/>
                    <a:pt x="881775" y="313035"/>
                  </a:cubicBezTo>
                  <a:lnTo>
                    <a:pt x="1511615" y="313035"/>
                  </a:lnTo>
                  <a:lnTo>
                    <a:pt x="1511615" y="0"/>
                  </a:lnTo>
                  <a:lnTo>
                    <a:pt x="2015486" y="503872"/>
                  </a:lnTo>
                  <a:lnTo>
                    <a:pt x="1511615" y="1007743"/>
                  </a:lnTo>
                  <a:lnTo>
                    <a:pt x="1511615" y="694708"/>
                  </a:lnTo>
                  <a:lnTo>
                    <a:pt x="881775" y="694708"/>
                  </a:lnTo>
                  <a:cubicBezTo>
                    <a:pt x="605576" y="694708"/>
                    <a:pt x="381672" y="918612"/>
                    <a:pt x="381672" y="1194811"/>
                  </a:cubicBezTo>
                  <a:cubicBezTo>
                    <a:pt x="381672" y="1612651"/>
                    <a:pt x="381673" y="2030492"/>
                    <a:pt x="381673" y="2448332"/>
                  </a:cubicBezTo>
                  <a:lnTo>
                    <a:pt x="0" y="2448332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9" name="Rectangle 17"/>
            <p:cNvSpPr/>
            <p:nvPr/>
          </p:nvSpPr>
          <p:spPr>
            <a:xfrm rot="19211400">
              <a:off x="1777680" y="4264200"/>
              <a:ext cx="2928960" cy="3981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0" name="Rectangle 23"/>
            <p:cNvSpPr/>
            <p:nvPr/>
          </p:nvSpPr>
          <p:spPr>
            <a:xfrm rot="19211400">
              <a:off x="1468080" y="3529080"/>
              <a:ext cx="2928960" cy="3981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11" name="Bent Arrow 31"/>
          <p:cNvSpPr/>
          <p:nvPr/>
        </p:nvSpPr>
        <p:spPr>
          <a:xfrm flipH="1" rot="18133800">
            <a:off x="4924440" y="1140480"/>
            <a:ext cx="2016360" cy="2449440"/>
          </a:xfrm>
          <a:custGeom>
            <a:avLst/>
            <a:gdLst/>
            <a:ahLst/>
            <a:rect l="l" t="t" r="r" b="b"/>
            <a:pathLst>
              <a:path w="2016125" h="2449513">
                <a:moveTo>
                  <a:pt x="0" y="2449513"/>
                </a:moveTo>
                <a:lnTo>
                  <a:pt x="0" y="1195189"/>
                </a:lnTo>
                <a:cubicBezTo>
                  <a:pt x="0" y="708043"/>
                  <a:pt x="394909" y="313134"/>
                  <a:pt x="882055" y="313134"/>
                </a:cubicBezTo>
                <a:lnTo>
                  <a:pt x="1512094" y="313134"/>
                </a:lnTo>
                <a:lnTo>
                  <a:pt x="1512094" y="0"/>
                </a:lnTo>
                <a:lnTo>
                  <a:pt x="2016125" y="504031"/>
                </a:lnTo>
                <a:lnTo>
                  <a:pt x="1512094" y="1008063"/>
                </a:lnTo>
                <a:lnTo>
                  <a:pt x="1512094" y="694928"/>
                </a:lnTo>
                <a:lnTo>
                  <a:pt x="882055" y="694928"/>
                </a:lnTo>
                <a:cubicBezTo>
                  <a:pt x="605768" y="694928"/>
                  <a:pt x="381794" y="918902"/>
                  <a:pt x="381794" y="1195189"/>
                </a:cubicBezTo>
                <a:lnTo>
                  <a:pt x="381794" y="2449513"/>
                </a:lnTo>
                <a:lnTo>
                  <a:pt x="0" y="2449513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Bent Arrow 32"/>
          <p:cNvSpPr/>
          <p:nvPr/>
        </p:nvSpPr>
        <p:spPr>
          <a:xfrm flipH="1" rot="18133800">
            <a:off x="5141160" y="2007720"/>
            <a:ext cx="2017800" cy="2449800"/>
          </a:xfrm>
          <a:custGeom>
            <a:avLst/>
            <a:gdLst/>
            <a:ahLst/>
            <a:rect l="l" t="t" r="r" b="b"/>
            <a:pathLst>
              <a:path w="2017712" h="2449512">
                <a:moveTo>
                  <a:pt x="0" y="2449512"/>
                </a:moveTo>
                <a:lnTo>
                  <a:pt x="0" y="1196130"/>
                </a:lnTo>
                <a:cubicBezTo>
                  <a:pt x="0" y="708601"/>
                  <a:pt x="395220" y="313381"/>
                  <a:pt x="882749" y="313381"/>
                </a:cubicBezTo>
                <a:lnTo>
                  <a:pt x="1513284" y="313381"/>
                </a:lnTo>
                <a:lnTo>
                  <a:pt x="1513284" y="0"/>
                </a:lnTo>
                <a:lnTo>
                  <a:pt x="2017712" y="504428"/>
                </a:lnTo>
                <a:lnTo>
                  <a:pt x="1513284" y="1008856"/>
                </a:lnTo>
                <a:lnTo>
                  <a:pt x="1513284" y="695475"/>
                </a:lnTo>
                <a:lnTo>
                  <a:pt x="882749" y="695475"/>
                </a:lnTo>
                <a:cubicBezTo>
                  <a:pt x="606245" y="695475"/>
                  <a:pt x="382094" y="919626"/>
                  <a:pt x="382094" y="1196130"/>
                </a:cubicBezTo>
                <a:lnTo>
                  <a:pt x="382094" y="2449512"/>
                </a:lnTo>
                <a:lnTo>
                  <a:pt x="0" y="2449512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Rectangle 33"/>
          <p:cNvSpPr/>
          <p:nvPr/>
        </p:nvSpPr>
        <p:spPr>
          <a:xfrm flipH="1" rot="2388600">
            <a:off x="4421880" y="4511160"/>
            <a:ext cx="3119760" cy="3970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Rectangle 34"/>
          <p:cNvSpPr/>
          <p:nvPr/>
        </p:nvSpPr>
        <p:spPr>
          <a:xfrm flipH="1" rot="2388600">
            <a:off x="4753800" y="3714840"/>
            <a:ext cx="2928960" cy="3985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Oval 12"/>
          <p:cNvSpPr/>
          <p:nvPr/>
        </p:nvSpPr>
        <p:spPr>
          <a:xfrm>
            <a:off x="3359160" y="1916280"/>
            <a:ext cx="2395440" cy="24494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c00000"/>
                </a:solidFill>
                <a:latin typeface="Comic Sans MS"/>
              </a:rPr>
              <a:t>être</a:t>
            </a:r>
            <a:endParaRPr b="0" lang="en-US" sz="45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Comic Sans MS"/>
              </a:rPr>
              <a:t>to b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TextBox 24"/>
          <p:cNvSpPr/>
          <p:nvPr/>
        </p:nvSpPr>
        <p:spPr>
          <a:xfrm rot="19728600">
            <a:off x="1783800" y="19252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000"/>
                </a:solidFill>
                <a:latin typeface="Comic Sans MS"/>
              </a:rPr>
              <a:t>je sui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TextBox 36"/>
          <p:cNvSpPr/>
          <p:nvPr/>
        </p:nvSpPr>
        <p:spPr>
          <a:xfrm rot="723000">
            <a:off x="3117960" y="15796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mic Sans MS"/>
              </a:rPr>
              <a:t>I a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TextBox 37"/>
          <p:cNvSpPr/>
          <p:nvPr/>
        </p:nvSpPr>
        <p:spPr>
          <a:xfrm rot="19728600">
            <a:off x="1545840" y="28270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000"/>
                </a:solidFill>
                <a:latin typeface="Comic Sans MS"/>
              </a:rPr>
              <a:t>tu 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TextBox 38"/>
          <p:cNvSpPr/>
          <p:nvPr/>
        </p:nvSpPr>
        <p:spPr>
          <a:xfrm rot="723000">
            <a:off x="2587320" y="2402280"/>
            <a:ext cx="12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mic Sans MS"/>
              </a:rPr>
              <a:t>you a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TextBox 39"/>
          <p:cNvSpPr/>
          <p:nvPr/>
        </p:nvSpPr>
        <p:spPr>
          <a:xfrm rot="19326000">
            <a:off x="1647360" y="41022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000"/>
                </a:solidFill>
                <a:latin typeface="Comic Sans MS"/>
              </a:rPr>
              <a:t>il es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TextBox 40"/>
          <p:cNvSpPr/>
          <p:nvPr/>
        </p:nvSpPr>
        <p:spPr>
          <a:xfrm rot="19239000">
            <a:off x="2726640" y="32115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mic Sans MS"/>
              </a:rPr>
              <a:t>he i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TextBox 41"/>
          <p:cNvSpPr/>
          <p:nvPr/>
        </p:nvSpPr>
        <p:spPr>
          <a:xfrm rot="19326000">
            <a:off x="1961280" y="4724280"/>
            <a:ext cx="13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000"/>
                </a:solidFill>
                <a:latin typeface="Comic Sans MS"/>
              </a:rPr>
              <a:t>elle es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TextBox 42"/>
          <p:cNvSpPr/>
          <p:nvPr/>
        </p:nvSpPr>
        <p:spPr>
          <a:xfrm rot="19239000">
            <a:off x="3065040" y="39081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mic Sans MS"/>
              </a:rPr>
              <a:t>she i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TextBox 43"/>
          <p:cNvSpPr/>
          <p:nvPr/>
        </p:nvSpPr>
        <p:spPr>
          <a:xfrm rot="1863600">
            <a:off x="5562360" y="1626840"/>
            <a:ext cx="21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000"/>
                </a:solidFill>
                <a:latin typeface="Comic Sans MS"/>
              </a:rPr>
              <a:t>nous somm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TextBox 44"/>
          <p:cNvSpPr/>
          <p:nvPr/>
        </p:nvSpPr>
        <p:spPr>
          <a:xfrm rot="18855000">
            <a:off x="4826520" y="16120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mic Sans MS"/>
              </a:rPr>
              <a:t>we a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TextBox 45"/>
          <p:cNvSpPr/>
          <p:nvPr/>
        </p:nvSpPr>
        <p:spPr>
          <a:xfrm rot="1863600">
            <a:off x="6186960" y="26701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000"/>
                </a:solidFill>
                <a:latin typeface="Comic Sans MS"/>
              </a:rPr>
              <a:t>vous êt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TextBox 46"/>
          <p:cNvSpPr/>
          <p:nvPr/>
        </p:nvSpPr>
        <p:spPr>
          <a:xfrm rot="18855000">
            <a:off x="5314680" y="2308680"/>
            <a:ext cx="122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mic Sans MS"/>
              </a:rPr>
              <a:t>you a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TextBox 47"/>
          <p:cNvSpPr/>
          <p:nvPr/>
        </p:nvSpPr>
        <p:spPr>
          <a:xfrm rot="2393400">
            <a:off x="6148800" y="4457880"/>
            <a:ext cx="20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000"/>
                </a:solidFill>
                <a:latin typeface="Comic Sans MS"/>
              </a:rPr>
              <a:t>ils so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TextBox 48"/>
          <p:cNvSpPr/>
          <p:nvPr/>
        </p:nvSpPr>
        <p:spPr>
          <a:xfrm rot="2512200">
            <a:off x="5144040" y="339444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mic Sans MS"/>
              </a:rPr>
              <a:t>they a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TextBox 49"/>
          <p:cNvSpPr/>
          <p:nvPr/>
        </p:nvSpPr>
        <p:spPr>
          <a:xfrm rot="2393400">
            <a:off x="5799600" y="5172120"/>
            <a:ext cx="20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000"/>
                </a:solidFill>
                <a:latin typeface="Comic Sans MS"/>
              </a:rPr>
              <a:t>elles so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TextBox 50"/>
          <p:cNvSpPr/>
          <p:nvPr/>
        </p:nvSpPr>
        <p:spPr>
          <a:xfrm rot="2512200">
            <a:off x="4793400" y="40640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mic Sans MS"/>
              </a:rPr>
              <a:t>they a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5-03-23T15:26:37Z</dcterms:modified>
  <cp:revision>96</cp:revision>
  <dc:subject/>
  <dc:title>Slide 1</dc:title>
</cp:coreProperties>
</file>