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63DA-4CBE-4E73-90C6-0633E58B5E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489E-6A27-4649-98A7-248E8539DB8A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E4E2-DE62-4E5B-8B5F-7B2FC17CCC98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D17B-2EBB-4457-8B9C-21904920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5199-0D4B-4A39-A00D-8B02EEB1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0455-D313-4708-B024-2D975CD8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F853-2EDB-4E8A-9745-93BABE75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4B02-FEE2-47E1-8420-B2167041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9C6F-4B16-499B-B632-3EFFE711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414C-A584-40D9-850F-D858B4E0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8A82-610A-4B77-AAE0-933AA6B5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B516-9AC7-4CF7-9FE1-BE6DBC7E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D66C-BA72-4283-811B-C46BFCC9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F731-B504-4A3F-8C93-DAE1F547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DF24-6543-4A6B-9DB8-96F74BFB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5C93-84A6-45D4-B060-A6C0D2CF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83D6-2425-4B4A-B76F-91BC8523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11EC-FE3C-4553-A07A-4294BF0C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ABCF-4355-47F3-9AAC-2900BAF6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23CF-CF75-4D51-AEBC-82E37EB1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D556D-6EDD-4AEC-A0BE-96170074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542A6-1AB8-4E9F-BD42-4C63A903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FBC35-D6C0-4A9C-B735-C2BC64BC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3C7D5-77DC-47A4-ACE4-71941144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06E96-319C-450E-89AD-7DBF02F7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E18D-EDDA-41E1-89AF-DC27C47C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CD3F4-0E58-4696-B560-83D90F35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D612E-F8BE-4396-93FB-5C4ABF58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28369-EB2F-4829-A10A-50E6EDD8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6F9DC-ED14-44B6-96F6-31EB9A56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A4583-D90B-479D-9BEA-7B780F18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79826-C05E-4033-94E3-D37921C0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E805F-7017-48D5-A5C0-F9F40DFB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51ABC-C856-4758-B9C6-3562F769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F2DF8-3C63-4D05-988A-E278970D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7FA9F-7954-4F6D-AFA3-6DC4A834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4495-5FD6-4F35-8B7D-B17F1300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3464E-A28C-4D30-8F92-1C9609DB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02193-7420-4C53-B6AE-9A1CC532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BC46B-EC6F-41FF-BB30-A0105692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647E2-71AF-4EF2-9412-3AE0AA2D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8689E-6555-4C5F-87AA-2D9A76F6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62B2B-E876-451A-8791-C68AC824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77DDA-4563-4B29-A443-AEE07E7C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13110-C416-4E29-B4FF-FAC8EDDD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8D5AD-25B2-4BEB-B0D0-7665C439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82F9-EF8F-482C-A9D0-C66DBE3B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4BB-38F4-40FA-B257-FB16225C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4F91-E148-460D-BDE4-D95312E3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4D7D-96D2-448B-92DB-86370BD7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32B7-B218-45F1-BE9E-44A19E58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7CE2-4F5D-4AD5-ADCE-78A483B9EE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A1AA-5BD9-491B-A6C6-6E54A7F0DD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140A-2909-4FCD-9A32-6F1D4899AB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C831-602E-4515-90A8-74131800021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2"/>
          <p:cNvSpPr/>
          <p:nvPr/>
        </p:nvSpPr>
        <p:spPr>
          <a:xfrm>
            <a:off x="324000" y="0"/>
            <a:ext cx="2016000" cy="1379520"/>
          </a:xfrm>
          <a:prstGeom prst="rect">
            <a:avLst/>
          </a:prstGeom>
          <a:solidFill>
            <a:srgbClr val="ffffff"/>
          </a:solidFill>
          <a:ln w="9360">
            <a:solidFill>
              <a:srgbClr val="9cc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Picture 3" descr="pronouns-I"/>
          <p:cNvPicPr/>
          <p:nvPr/>
        </p:nvPicPr>
        <p:blipFill>
          <a:blip r:embed="rId1"/>
          <a:stretch/>
        </p:blipFill>
        <p:spPr>
          <a:xfrm>
            <a:off x="395280" y="0"/>
            <a:ext cx="739800" cy="1368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pronouns-theymix"/>
          <p:cNvPicPr/>
          <p:nvPr/>
        </p:nvPicPr>
        <p:blipFill>
          <a:blip r:embed="rId2"/>
          <a:stretch/>
        </p:blipFill>
        <p:spPr>
          <a:xfrm>
            <a:off x="4427640" y="4076640"/>
            <a:ext cx="2376360" cy="1674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pronouns-we"/>
          <p:cNvPicPr/>
          <p:nvPr/>
        </p:nvPicPr>
        <p:blipFill>
          <a:blip r:embed="rId3"/>
          <a:stretch/>
        </p:blipFill>
        <p:spPr>
          <a:xfrm>
            <a:off x="4427640" y="620640"/>
            <a:ext cx="2376360" cy="1470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pronouns-youpl"/>
          <p:cNvPicPr/>
          <p:nvPr/>
        </p:nvPicPr>
        <p:blipFill>
          <a:blip r:embed="rId4"/>
          <a:stretch/>
        </p:blipFill>
        <p:spPr>
          <a:xfrm>
            <a:off x="4427640" y="2205000"/>
            <a:ext cx="2376360" cy="1736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pronouns-she"/>
          <p:cNvPicPr/>
          <p:nvPr/>
        </p:nvPicPr>
        <p:blipFill>
          <a:blip r:embed="rId5"/>
          <a:stretch/>
        </p:blipFill>
        <p:spPr>
          <a:xfrm>
            <a:off x="324000" y="5022720"/>
            <a:ext cx="1944360" cy="1835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pronouns-he"/>
          <p:cNvPicPr/>
          <p:nvPr/>
        </p:nvPicPr>
        <p:blipFill>
          <a:blip r:embed="rId6"/>
          <a:stretch/>
        </p:blipFill>
        <p:spPr>
          <a:xfrm>
            <a:off x="324000" y="3036960"/>
            <a:ext cx="1944360" cy="1876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pronouns-yousg"/>
          <p:cNvPicPr/>
          <p:nvPr/>
        </p:nvPicPr>
        <p:blipFill>
          <a:blip r:embed="rId7"/>
          <a:stretch/>
        </p:blipFill>
        <p:spPr>
          <a:xfrm>
            <a:off x="324000" y="1476360"/>
            <a:ext cx="1946160" cy="1452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3"/>
          <p:cNvSpPr/>
          <p:nvPr/>
        </p:nvSpPr>
        <p:spPr>
          <a:xfrm>
            <a:off x="2340000" y="21924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2340000" y="165888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you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2340000" y="338760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he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2340000" y="533232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she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6877080" y="76500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we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6877080" y="245124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you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6877080" y="432432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they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324000" y="0"/>
            <a:ext cx="20160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9cc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9" name="Picture 4" descr="pronouns-I"/>
          <p:cNvPicPr/>
          <p:nvPr/>
        </p:nvPicPr>
        <p:blipFill>
          <a:blip r:embed="rId1"/>
          <a:stretch/>
        </p:blipFill>
        <p:spPr>
          <a:xfrm>
            <a:off x="395280" y="0"/>
            <a:ext cx="739800" cy="1368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pronouns-theymix"/>
          <p:cNvPicPr/>
          <p:nvPr/>
        </p:nvPicPr>
        <p:blipFill>
          <a:blip r:embed="rId2"/>
          <a:stretch/>
        </p:blipFill>
        <p:spPr>
          <a:xfrm>
            <a:off x="4356000" y="3465360"/>
            <a:ext cx="2376720" cy="1675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pronouns-we"/>
          <p:cNvPicPr/>
          <p:nvPr/>
        </p:nvPicPr>
        <p:blipFill>
          <a:blip r:embed="rId3"/>
          <a:stretch/>
        </p:blipFill>
        <p:spPr>
          <a:xfrm>
            <a:off x="4356000" y="9360"/>
            <a:ext cx="2376720" cy="1470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pronouns-youpl"/>
          <p:cNvPicPr/>
          <p:nvPr/>
        </p:nvPicPr>
        <p:blipFill>
          <a:blip r:embed="rId4"/>
          <a:stretch/>
        </p:blipFill>
        <p:spPr>
          <a:xfrm>
            <a:off x="4356000" y="1593720"/>
            <a:ext cx="2376720" cy="1737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pronouns-she"/>
          <p:cNvPicPr/>
          <p:nvPr/>
        </p:nvPicPr>
        <p:blipFill>
          <a:blip r:embed="rId5"/>
          <a:stretch/>
        </p:blipFill>
        <p:spPr>
          <a:xfrm>
            <a:off x="324000" y="5022720"/>
            <a:ext cx="1944360" cy="1835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pronouns-he"/>
          <p:cNvPicPr/>
          <p:nvPr/>
        </p:nvPicPr>
        <p:blipFill>
          <a:blip r:embed="rId6"/>
          <a:stretch/>
        </p:blipFill>
        <p:spPr>
          <a:xfrm>
            <a:off x="324000" y="3036960"/>
            <a:ext cx="1944360" cy="1876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pronouns-yousg"/>
          <p:cNvPicPr/>
          <p:nvPr/>
        </p:nvPicPr>
        <p:blipFill>
          <a:blip r:embed="rId7"/>
          <a:stretch/>
        </p:blipFill>
        <p:spPr>
          <a:xfrm>
            <a:off x="324000" y="1476360"/>
            <a:ext cx="1946160" cy="14526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1"/>
          <p:cNvSpPr/>
          <p:nvPr/>
        </p:nvSpPr>
        <p:spPr>
          <a:xfrm>
            <a:off x="2340000" y="2602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je sui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2340000" y="17002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tu 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2340000" y="35877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il es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2340000" y="53974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elle es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6800760" y="155520"/>
            <a:ext cx="23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nous somm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6804000" y="1763640"/>
            <a:ext cx="23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vous êt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6800760" y="3699000"/>
            <a:ext cx="252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ils sont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elles son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Oval 3"/>
          <p:cNvSpPr/>
          <p:nvPr/>
        </p:nvSpPr>
        <p:spPr>
          <a:xfrm>
            <a:off x="3944880" y="549360"/>
            <a:ext cx="1224000" cy="1439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Straight Connector 13"/>
          <p:cNvSpPr/>
          <p:nvPr/>
        </p:nvSpPr>
        <p:spPr>
          <a:xfrm flipH="1" flipV="1">
            <a:off x="4231800" y="404280"/>
            <a:ext cx="73080" cy="2876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Straight Connector 15"/>
          <p:cNvSpPr/>
          <p:nvPr/>
        </p:nvSpPr>
        <p:spPr>
          <a:xfrm flipH="1">
            <a:off x="4762080" y="404640"/>
            <a:ext cx="73080" cy="2876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06" name="Group 22"/>
          <p:cNvGrpSpPr/>
          <p:nvPr/>
        </p:nvGrpSpPr>
        <p:grpSpPr>
          <a:xfrm>
            <a:off x="1568880" y="1028160"/>
            <a:ext cx="3363480" cy="4525920"/>
            <a:chOff x="1568880" y="1028160"/>
            <a:chExt cx="3363480" cy="4525920"/>
          </a:xfrm>
        </p:grpSpPr>
        <p:sp>
          <p:nvSpPr>
            <p:cNvPr id="207" name="Bent Arrow 16"/>
            <p:cNvSpPr/>
            <p:nvPr/>
          </p:nvSpPr>
          <p:spPr>
            <a:xfrm rot="3466200">
              <a:off x="2351160" y="1309320"/>
              <a:ext cx="2016000" cy="2448000"/>
            </a:xfrm>
            <a:custGeom>
              <a:avLst/>
              <a:gdLst/>
              <a:ahLst/>
              <a:rect l="l" t="t" r="r" b="b"/>
              <a:pathLst>
                <a:path w="2015486" h="2448332">
                  <a:moveTo>
                    <a:pt x="0" y="2448332"/>
                  </a:moveTo>
                  <a:lnTo>
                    <a:pt x="0" y="1194810"/>
                  </a:lnTo>
                  <a:cubicBezTo>
                    <a:pt x="0" y="707819"/>
                    <a:pt x="394784" y="313035"/>
                    <a:pt x="881775" y="313035"/>
                  </a:cubicBezTo>
                  <a:lnTo>
                    <a:pt x="1511615" y="313035"/>
                  </a:lnTo>
                  <a:lnTo>
                    <a:pt x="1511615" y="0"/>
                  </a:lnTo>
                  <a:lnTo>
                    <a:pt x="2015486" y="503872"/>
                  </a:lnTo>
                  <a:lnTo>
                    <a:pt x="1511615" y="1007743"/>
                  </a:lnTo>
                  <a:lnTo>
                    <a:pt x="1511615" y="694708"/>
                  </a:lnTo>
                  <a:lnTo>
                    <a:pt x="881775" y="694708"/>
                  </a:lnTo>
                  <a:cubicBezTo>
                    <a:pt x="605576" y="694708"/>
                    <a:pt x="381672" y="918612"/>
                    <a:pt x="381672" y="1194811"/>
                  </a:cubicBezTo>
                  <a:cubicBezTo>
                    <a:pt x="381672" y="1612651"/>
                    <a:pt x="381673" y="2030492"/>
                    <a:pt x="381673" y="2448332"/>
                  </a:cubicBezTo>
                  <a:lnTo>
                    <a:pt x="0" y="2448332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8" name="Bent Arrow 18"/>
            <p:cNvSpPr/>
            <p:nvPr/>
          </p:nvSpPr>
          <p:spPr>
            <a:xfrm rot="3466200">
              <a:off x="2133720" y="2177640"/>
              <a:ext cx="2016000" cy="2448000"/>
            </a:xfrm>
            <a:custGeom>
              <a:avLst/>
              <a:gdLst/>
              <a:ahLst/>
              <a:rect l="l" t="t" r="r" b="b"/>
              <a:pathLst>
                <a:path w="2015486" h="2448332">
                  <a:moveTo>
                    <a:pt x="0" y="2448332"/>
                  </a:moveTo>
                  <a:lnTo>
                    <a:pt x="0" y="1194810"/>
                  </a:lnTo>
                  <a:cubicBezTo>
                    <a:pt x="0" y="707819"/>
                    <a:pt x="394784" y="313035"/>
                    <a:pt x="881775" y="313035"/>
                  </a:cubicBezTo>
                  <a:lnTo>
                    <a:pt x="1511615" y="313035"/>
                  </a:lnTo>
                  <a:lnTo>
                    <a:pt x="1511615" y="0"/>
                  </a:lnTo>
                  <a:lnTo>
                    <a:pt x="2015486" y="503872"/>
                  </a:lnTo>
                  <a:lnTo>
                    <a:pt x="1511615" y="1007743"/>
                  </a:lnTo>
                  <a:lnTo>
                    <a:pt x="1511615" y="694708"/>
                  </a:lnTo>
                  <a:lnTo>
                    <a:pt x="881775" y="694708"/>
                  </a:lnTo>
                  <a:cubicBezTo>
                    <a:pt x="605576" y="694708"/>
                    <a:pt x="381672" y="918612"/>
                    <a:pt x="381672" y="1194811"/>
                  </a:cubicBezTo>
                  <a:cubicBezTo>
                    <a:pt x="381672" y="1612651"/>
                    <a:pt x="381673" y="2030492"/>
                    <a:pt x="381673" y="2448332"/>
                  </a:cubicBezTo>
                  <a:lnTo>
                    <a:pt x="0" y="2448332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9" name="Rectangle 17"/>
            <p:cNvSpPr/>
            <p:nvPr/>
          </p:nvSpPr>
          <p:spPr>
            <a:xfrm rot="19211400">
              <a:off x="1777680" y="4264200"/>
              <a:ext cx="2928960" cy="398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0" name="Rectangle 23"/>
            <p:cNvSpPr/>
            <p:nvPr/>
          </p:nvSpPr>
          <p:spPr>
            <a:xfrm rot="19211400">
              <a:off x="1468080" y="3529080"/>
              <a:ext cx="2928960" cy="398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11" name="Bent Arrow 31"/>
          <p:cNvSpPr/>
          <p:nvPr/>
        </p:nvSpPr>
        <p:spPr>
          <a:xfrm flipH="1" rot="18133800">
            <a:off x="4924440" y="1140480"/>
            <a:ext cx="2016360" cy="2449440"/>
          </a:xfrm>
          <a:custGeom>
            <a:avLst/>
            <a:gdLst/>
            <a:ahLst/>
            <a:rect l="l" t="t" r="r" b="b"/>
            <a:pathLst>
              <a:path w="2016125" h="2449513">
                <a:moveTo>
                  <a:pt x="0" y="2449513"/>
                </a:moveTo>
                <a:lnTo>
                  <a:pt x="0" y="1195189"/>
                </a:lnTo>
                <a:cubicBezTo>
                  <a:pt x="0" y="708043"/>
                  <a:pt x="394909" y="313134"/>
                  <a:pt x="882055" y="313134"/>
                </a:cubicBezTo>
                <a:lnTo>
                  <a:pt x="1512094" y="313134"/>
                </a:lnTo>
                <a:lnTo>
                  <a:pt x="1512094" y="0"/>
                </a:lnTo>
                <a:lnTo>
                  <a:pt x="2016125" y="504031"/>
                </a:lnTo>
                <a:lnTo>
                  <a:pt x="1512094" y="1008063"/>
                </a:lnTo>
                <a:lnTo>
                  <a:pt x="1512094" y="694928"/>
                </a:lnTo>
                <a:lnTo>
                  <a:pt x="882055" y="694928"/>
                </a:lnTo>
                <a:cubicBezTo>
                  <a:pt x="605768" y="694928"/>
                  <a:pt x="381794" y="918902"/>
                  <a:pt x="381794" y="1195189"/>
                </a:cubicBezTo>
                <a:lnTo>
                  <a:pt x="381794" y="2449513"/>
                </a:lnTo>
                <a:lnTo>
                  <a:pt x="0" y="2449513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Bent Arrow 32"/>
          <p:cNvSpPr/>
          <p:nvPr/>
        </p:nvSpPr>
        <p:spPr>
          <a:xfrm flipH="1" rot="18133800">
            <a:off x="5141160" y="2007720"/>
            <a:ext cx="2017800" cy="2449800"/>
          </a:xfrm>
          <a:custGeom>
            <a:avLst/>
            <a:gdLst/>
            <a:ahLst/>
            <a:rect l="l" t="t" r="r" b="b"/>
            <a:pathLst>
              <a:path w="2017712" h="2449512">
                <a:moveTo>
                  <a:pt x="0" y="2449512"/>
                </a:moveTo>
                <a:lnTo>
                  <a:pt x="0" y="1196130"/>
                </a:lnTo>
                <a:cubicBezTo>
                  <a:pt x="0" y="708601"/>
                  <a:pt x="395220" y="313381"/>
                  <a:pt x="882749" y="313381"/>
                </a:cubicBezTo>
                <a:lnTo>
                  <a:pt x="1513284" y="313381"/>
                </a:lnTo>
                <a:lnTo>
                  <a:pt x="1513284" y="0"/>
                </a:lnTo>
                <a:lnTo>
                  <a:pt x="2017712" y="504428"/>
                </a:lnTo>
                <a:lnTo>
                  <a:pt x="1513284" y="1008856"/>
                </a:lnTo>
                <a:lnTo>
                  <a:pt x="1513284" y="695475"/>
                </a:lnTo>
                <a:lnTo>
                  <a:pt x="882749" y="695475"/>
                </a:lnTo>
                <a:cubicBezTo>
                  <a:pt x="606245" y="695475"/>
                  <a:pt x="382094" y="919626"/>
                  <a:pt x="382094" y="1196130"/>
                </a:cubicBezTo>
                <a:lnTo>
                  <a:pt x="382094" y="2449512"/>
                </a:lnTo>
                <a:lnTo>
                  <a:pt x="0" y="2449512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Rectangle 33"/>
          <p:cNvSpPr/>
          <p:nvPr/>
        </p:nvSpPr>
        <p:spPr>
          <a:xfrm flipH="1" rot="2388600">
            <a:off x="4421880" y="4511160"/>
            <a:ext cx="3119760" cy="3970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Rectangle 34"/>
          <p:cNvSpPr/>
          <p:nvPr/>
        </p:nvSpPr>
        <p:spPr>
          <a:xfrm flipH="1" rot="2388600">
            <a:off x="4753800" y="3714840"/>
            <a:ext cx="2928960" cy="3985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3359160" y="1916280"/>
            <a:ext cx="2395440" cy="24494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c00000"/>
                </a:solidFill>
                <a:latin typeface="Comic Sans MS"/>
              </a:rPr>
              <a:t>être</a:t>
            </a:r>
            <a:endParaRPr b="0" lang="en-US" sz="45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to b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Box 24"/>
          <p:cNvSpPr/>
          <p:nvPr/>
        </p:nvSpPr>
        <p:spPr>
          <a:xfrm rot="19728600">
            <a:off x="1783800" y="19252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Comic Sans MS"/>
              </a:rPr>
              <a:t>je su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Box 36"/>
          <p:cNvSpPr/>
          <p:nvPr/>
        </p:nvSpPr>
        <p:spPr>
          <a:xfrm rot="723000">
            <a:off x="3117960" y="15796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mic Sans MS"/>
              </a:rPr>
              <a:t>I a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Box 37"/>
          <p:cNvSpPr/>
          <p:nvPr/>
        </p:nvSpPr>
        <p:spPr>
          <a:xfrm rot="19728600">
            <a:off x="1545840" y="28270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Comic Sans MS"/>
              </a:rPr>
              <a:t>tu 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Box 38"/>
          <p:cNvSpPr/>
          <p:nvPr/>
        </p:nvSpPr>
        <p:spPr>
          <a:xfrm rot="723000">
            <a:off x="2587320" y="2402280"/>
            <a:ext cx="12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mic Sans MS"/>
              </a:rPr>
              <a:t>you a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TextBox 39"/>
          <p:cNvSpPr/>
          <p:nvPr/>
        </p:nvSpPr>
        <p:spPr>
          <a:xfrm rot="19326000">
            <a:off x="1647360" y="41022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Comic Sans MS"/>
              </a:rPr>
              <a:t>il es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Box 40"/>
          <p:cNvSpPr/>
          <p:nvPr/>
        </p:nvSpPr>
        <p:spPr>
          <a:xfrm rot="19239000">
            <a:off x="2726640" y="32115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mic Sans MS"/>
              </a:rPr>
              <a:t>he 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TextBox 41"/>
          <p:cNvSpPr/>
          <p:nvPr/>
        </p:nvSpPr>
        <p:spPr>
          <a:xfrm rot="19326000">
            <a:off x="1961280" y="4724280"/>
            <a:ext cx="13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Comic Sans MS"/>
              </a:rPr>
              <a:t>elle es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Box 42"/>
          <p:cNvSpPr/>
          <p:nvPr/>
        </p:nvSpPr>
        <p:spPr>
          <a:xfrm rot="19239000">
            <a:off x="3065040" y="39081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mic Sans MS"/>
              </a:rPr>
              <a:t>she 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Box 43"/>
          <p:cNvSpPr/>
          <p:nvPr/>
        </p:nvSpPr>
        <p:spPr>
          <a:xfrm rot="1863600">
            <a:off x="5562360" y="1626840"/>
            <a:ext cx="21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Comic Sans MS"/>
              </a:rPr>
              <a:t>nous somm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Box 44"/>
          <p:cNvSpPr/>
          <p:nvPr/>
        </p:nvSpPr>
        <p:spPr>
          <a:xfrm rot="18855000">
            <a:off x="4826520" y="16120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mic Sans MS"/>
              </a:rPr>
              <a:t>we a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TextBox 45"/>
          <p:cNvSpPr/>
          <p:nvPr/>
        </p:nvSpPr>
        <p:spPr>
          <a:xfrm rot="1863600">
            <a:off x="6186960" y="2670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Comic Sans MS"/>
              </a:rPr>
              <a:t>vous ê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TextBox 46"/>
          <p:cNvSpPr/>
          <p:nvPr/>
        </p:nvSpPr>
        <p:spPr>
          <a:xfrm rot="18855000">
            <a:off x="5314680" y="2308680"/>
            <a:ext cx="12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mic Sans MS"/>
              </a:rPr>
              <a:t>you a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TextBox 47"/>
          <p:cNvSpPr/>
          <p:nvPr/>
        </p:nvSpPr>
        <p:spPr>
          <a:xfrm rot="2393400">
            <a:off x="6148800" y="445788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Comic Sans MS"/>
              </a:rPr>
              <a:t>ils so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TextBox 48"/>
          <p:cNvSpPr/>
          <p:nvPr/>
        </p:nvSpPr>
        <p:spPr>
          <a:xfrm rot="2512200">
            <a:off x="5144040" y="339444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mic Sans MS"/>
              </a:rPr>
              <a:t>they a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TextBox 49"/>
          <p:cNvSpPr/>
          <p:nvPr/>
        </p:nvSpPr>
        <p:spPr>
          <a:xfrm rot="2393400">
            <a:off x="5799600" y="517212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Comic Sans MS"/>
              </a:rPr>
              <a:t>elles so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TextBox 50"/>
          <p:cNvSpPr/>
          <p:nvPr/>
        </p:nvSpPr>
        <p:spPr>
          <a:xfrm rot="2512200">
            <a:off x="4793400" y="40640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mic Sans MS"/>
              </a:rPr>
              <a:t>they a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5-03-23T15:26:37Z</dcterms:modified>
  <cp:revision>96</cp:revision>
  <dc:subject/>
  <dc:title>Slide 1</dc:title>
</cp:coreProperties>
</file>