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031-993D-4D10-8C05-A85BA84D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E88-2D9C-45D5-B0B3-5FFC90C0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964-AC32-4663-BA10-51BB8E27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F36-E746-484C-A3BF-01E202B2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4C63-F50D-46B8-8C06-0297ACAC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CAF-49F4-4921-803D-AE855911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5DF7-65B4-445D-AE84-E8CC35D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5CE9-5954-4B20-8E78-7026385A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D90A-115F-4BE0-9E36-1AD0317D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A6B2-6ABB-484A-A1C7-57CAD84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EF2-E453-4CDF-89B9-85B92CA8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242-B66A-43BD-9910-38279BB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473F-6CCA-4FC8-AD93-49763B3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101A-4230-463F-AD02-9B5E9CC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97D-BCDC-4A99-A1A0-1A82B966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FEAA-FB52-4EEA-B72D-A67C9B0C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3063-0AF4-4B05-946F-78CA52CA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CFFD-27DF-4973-B81F-ED2013C7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C3F0-35AB-4BF2-9033-364728F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9395-EC79-4F0D-B9D0-8FA3394D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4BC7-BCBB-409A-B622-31AF0FA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1543-7FDF-4D91-8C93-3EDFCA44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F36-B8DC-419F-9C39-87B04E8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8E29-C2C4-4A52-B739-96134E9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A2AE-1379-44AD-A34D-7A91C62E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2E8D-D245-441E-BEFA-DF2985A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68089-6C97-4646-845F-85EF9CF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C4D4-CBE3-4715-836A-E3791A4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D47F-A2E1-4803-BD7C-2BFB73ED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027F-1E81-46D3-94C2-4A04B242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DC9B-FB52-402A-A9D4-8770C6D7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5012-1B4E-4241-90EC-1A410C8F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6DF4-966D-416B-ABA7-AC3C5909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285-E2A3-463C-8D7C-5F27E7F0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38D7-DCC6-425D-B7FD-6068642B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4F9A-3135-4C8B-A4B4-24B4F8B5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1087-15D6-4C8E-B44D-2D2628E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B366-265B-4D89-AAC0-2B5285E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B34D-846B-41D7-B9C5-EEBF0B55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7CAF-4F4B-4F5B-AB02-2ECA234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5896-1868-41B7-AA7A-6D7D8B2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9AF6-7933-47FA-B5C5-4FC84361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4525-6D8F-45A2-8DCE-C1C11A79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55D-C423-483B-AE92-19A6CDB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B24-DFB0-41A7-A0A0-D1C251F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1D8-445E-47A7-8285-284B525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30C-7170-4F2C-8D40-93298BB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B76-A2D1-48F6-85C0-F6B7666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5B3-8E57-4E10-B7ED-DCE762204D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4D8-936E-442A-9C92-B77F2EADB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DB66-0091-46CA-B846-ECA8B49588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3A90-C1FA-4402-91AE-31515CA7301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85720" y="620640"/>
            <a:ext cx="396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tortu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giraf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vach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souris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abeill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balein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chèvr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e grenouil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4859280" y="620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be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cow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frog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giraff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goa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mous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tortois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a wha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539640" y="11736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baleine est fort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tortue est lent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souris est timid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girafe est rapid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Une vache est douce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0:57Z</dcterms:modified>
  <cp:revision>117</cp:revision>
  <dc:subject/>
  <dc:title>Slide 1</dc:title>
</cp:coreProperties>
</file>