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D9B-777F-4CEF-BC89-815F65F3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A5A-6143-4800-873B-1AF05992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85A-6266-408A-BC9E-658A5474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490-E4D5-4622-A200-17E9E142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8223-4ADD-42A5-A83D-C9ABADF8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8643-CC2A-43D1-96A4-B91287D2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92E4-919E-4D91-B5CE-41079505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21CA-B634-4C31-B9B6-886D1118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ED59-9F73-4DE6-A098-FAECE52F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C274-1BCF-4913-B165-8509F96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0766-765D-4F70-A0CA-D19665A4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A83-29DF-4FF7-BCD4-5C470BF9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179E-8C90-4C14-AC69-420B4858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E3EB-F2ED-4578-89CE-8215D8A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38EC-3F3E-4DE3-906F-2C3FFBC9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5916-ACD9-4A4D-8EC0-F8BDFDD0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966B-DE2F-4FE0-A2E1-79686941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F0FDF-0E63-496B-945B-169DA96E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DD3F-8D87-4F66-A2A9-D42FB534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39A67-5280-403B-96E7-B1540197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AA68-D118-47DC-A29D-9DED5C3C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A7A6-D26A-4601-BF8C-0B87FB6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99C-25EF-4247-84FD-5AA16D6D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B994-0BA6-47EE-A1EC-53552A3A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FA3B-1A14-4703-B4DC-2D1A058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DD63-F196-4E14-988D-7E203247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CBB6-97F4-443D-85CA-5CDE238D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85A7-F6D5-425E-8CF3-18B839E5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A1D0-E15F-4817-84F9-A8C2D344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A206-80A7-46B8-92A3-7E00459D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233C-1A18-4B55-813C-3DC506A9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C1B7-FFC3-4198-9AB8-51B85A46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5A8E1-EB98-45AE-8498-F5647A0D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EB5-E12D-41CC-A83A-D2522C2F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D5B9D-30A5-4F44-84AC-B208FA05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28B93-D355-4F20-8131-B45B48A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90AA-A6B6-40D9-A27D-A9D9C566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358A0-5C73-4B00-958B-4BB168E1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091E-18CD-48A0-A90D-5D879FA1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A8E6B-51FE-4059-AC8D-D4476F7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5EED1-0D50-4781-9DBE-7D6E4218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BB4E-C339-42BA-A750-8FCCA172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9BC2-B37A-4EE4-8AEE-B103F780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E4C-1372-4C2F-8AA5-7DEA2A4B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963-89A1-46E4-8C6E-69136FD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D57-2D1B-43AD-91F7-30BB1B88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8CC-A934-4012-8509-D3DAAF12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3FB-7B84-4F92-B503-ECFB75A3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103A-E1FF-4995-B8FA-905D63E795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6F4D-28D3-4E17-836B-AC939AEB27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5DB3-94D4-48B4-985F-67D64568E3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87EC-9C22-469C-A3BB-9A6AF86CD21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585720" y="620640"/>
            <a:ext cx="3960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tortu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giraf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vach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souris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abeill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balein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chèvr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grenouil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4859280" y="620640"/>
            <a:ext cx="395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be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cow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frog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giraff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goa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mous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tortois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a wha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539640" y="11736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Une baleine est forte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Une tortue est lente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Une souris est timide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Une girafe est rapide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Une vache est douce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40:57Z</dcterms:modified>
  <cp:revision>117</cp:revision>
  <dc:subject/>
  <dc:title>Slide 1</dc:title>
</cp:coreProperties>
</file>