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40AA-FCD6-4B09-BC73-50EC8CED30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0BC-2F55-448F-BD25-443058A049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60D4-0F1B-401E-9D5F-B148CA3E45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8C1-8976-4725-846C-7132C843F5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416-D3ED-4371-9DBE-E64BF3C7B9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FD9-5F9F-4890-95CE-887D2DF64E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10AA-13B5-4ABD-B77F-CD006E2552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3CE-3A80-4554-B995-E73BB259C7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247-6535-42BF-9995-C2BF3A5AD1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BD4-7DB7-4A6A-9784-C064FDB0B9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D077-CD39-418A-B0C0-682BBD87600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153-7F43-4BBA-A065-061B41BD43C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192-0616-4CC6-BC5C-496F00C8CBE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2E7-95EF-47BA-9854-F2A95DB9500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644-E93C-4FED-81B2-228A99DD8D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4493-1514-44EA-A8C7-4B9C57CAFE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89B3-3E06-4F87-9F46-B5B4DDFAFF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A14C-C9C7-4664-B08B-3E473C5E51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E9A1-C6C4-4AF4-9C4A-3A2D1248BB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3DF-D5AF-4016-AFDA-69ABEEA528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1BF-4F11-477B-A830-0C35379B39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A1CA-6F53-403A-8929-B987AAA002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014-3D2B-4E64-8463-5E54996614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2C2-A8F2-49EE-A75C-6E8944B1B0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B07-BCC3-42AA-865E-E37EF9BFEA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5412-283A-4EE6-B2FB-FB75C8F4A64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10C-015E-4A8F-847F-36D8E08C18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FA7-7FBD-4E3B-AAEA-8EE33CBA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2BA-6851-4724-8C3F-D17D31D0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C4B-77AD-4709-A408-65873149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5E3-B50F-455D-8488-78EB3D08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234-2A83-46A2-8161-13A2BBCF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B29-9D3C-4965-BF66-3874863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BF2-762E-434B-902C-1363213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EECA-3EDD-4037-8F09-1C1245A8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C8E0-B5F7-4046-8C10-46A480A0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A94-70C5-46C0-93E8-AF1BD9C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1B62-C766-4750-8535-1A9AE75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0C-2CE9-4932-8816-2445E2A0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CD28-2F22-4861-AFE9-542F22A5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3B5-23FB-407A-961F-94086E9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F2C-608D-463C-A618-410F8BC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ACAF-8F94-4CE4-8266-549980B9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A80-EFDC-4480-B07F-2B5ADF2D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A7CF-5F8B-4022-8447-896CCD4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C60F-BEF6-40A0-B704-6DA84AC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0031-9B7C-44AF-B4F0-E5B746D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375C-D267-47F1-A6B8-412DA229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D09E-A462-46BB-81FB-5D8C5777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5DB-1BEF-44E5-8356-D896F9B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22DF-302E-498A-B1A1-59B6EAC3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0C31-B96B-48C0-9709-8EC8900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72FC-4873-4A24-B1D4-41689A1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BC75-379D-4270-B16D-70789F0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0FDB-43CF-40F2-9B31-0483516C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E1FB-3281-40E3-A495-92A56074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A8AE-78AD-4EE2-BF7A-BDEF5BB9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C31-C563-4E70-91BF-99E77CA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E6B-69A6-43DC-AD74-36F83667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A98-D431-4F45-94AC-B300D3D5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8C0-E648-4580-B8E2-26E8D68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3BC-92DB-40E3-8AF1-CA52411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AFF-4B04-4BF0-935B-B442588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E72-7765-403A-AF81-946A6A4618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EB3-196A-49E0-A159-AE401DF4A5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EBD-DA4F-406F-9F10-1927C81EE4B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908000" y="76500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63"/>
                </a:solidFill>
                <a:latin typeface="Comic Sans MS"/>
              </a:rPr>
              <a:t>100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763640" y="3500280"/>
            <a:ext cx="565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63"/>
                </a:solidFill>
                <a:latin typeface="Comic Sans MS"/>
              </a:rPr>
              <a:t>POINT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336760" y="461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2330280" y="15732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5180040" y="465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2330280" y="236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5"/>
          <a:stretch/>
        </p:blipFill>
        <p:spPr>
          <a:xfrm>
            <a:off x="5162400" y="127080"/>
            <a:ext cx="1432080" cy="15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6"/>
          <a:stretch/>
        </p:blipFill>
        <p:spPr>
          <a:xfrm>
            <a:off x="5162400" y="2444760"/>
            <a:ext cx="1649520" cy="1397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9"/>
          <p:cNvSpPr/>
          <p:nvPr/>
        </p:nvSpPr>
        <p:spPr>
          <a:xfrm>
            <a:off x="0" y="1557360"/>
            <a:ext cx="429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grand-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1211400" y="38228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9619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4767120" y="155736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grand-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4767120" y="38228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4767120" y="6099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d9"/>
                </a:solidFill>
                <a:latin typeface="Comic Sans MS"/>
              </a:rPr>
              <a:t>ma soe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ction Button: Return 2">
            <a:hlinkClick r:id="rId7" action="ppaction://hlinksldjump"/>
          </p:cNvPr>
          <p:cNvSpPr/>
          <p:nvPr/>
        </p:nvSpPr>
        <p:spPr>
          <a:xfrm>
            <a:off x="8244000" y="6093000"/>
            <a:ext cx="720720" cy="64908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83" h="21600">
                <a:moveTo>
                  <a:pt x="0" y="0"/>
                </a:moveTo>
                <a:lnTo>
                  <a:pt x="23983" y="0"/>
                </a:lnTo>
                <a:lnTo>
                  <a:pt x="23983" y="21600"/>
                </a:lnTo>
                <a:lnTo>
                  <a:pt x="0" y="21600"/>
                </a:lnTo>
                <a:close/>
              </a:path>
              <a:path fill="lightenLess" w="23983" h="21600">
                <a:moveTo>
                  <a:pt x="0" y="0"/>
                </a:moveTo>
                <a:lnTo>
                  <a:pt x="23983" y="0"/>
                </a:lnTo>
                <a:lnTo>
                  <a:pt x="22583" y="1400"/>
                </a:lnTo>
                <a:lnTo>
                  <a:pt x="1400" y="1400"/>
                </a:lnTo>
                <a:close/>
              </a:path>
              <a:path fill="darken" w="23983" h="21600">
                <a:moveTo>
                  <a:pt x="23983" y="0"/>
                </a:moveTo>
                <a:lnTo>
                  <a:pt x="23983" y="21600"/>
                </a:lnTo>
                <a:lnTo>
                  <a:pt x="22583" y="20200"/>
                </a:lnTo>
                <a:lnTo>
                  <a:pt x="22583" y="1400"/>
                </a:lnTo>
                <a:close/>
              </a:path>
              <a:path fill="darkenLess" w="23983" h="21600">
                <a:moveTo>
                  <a:pt x="2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3" y="20200"/>
                </a:lnTo>
                <a:close/>
              </a:path>
              <a:path fill="lighten" w="2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3" h="21600">
                <a:moveTo>
                  <a:pt x="4985" y="7493"/>
                </a:moveTo>
                <a:lnTo>
                  <a:pt x="8492" y="7493"/>
                </a:lnTo>
                <a:lnTo>
                  <a:pt x="8492" y="12828"/>
                </a:lnTo>
                <a:cubicBezTo>
                  <a:pt x="8492" y="13751"/>
                  <a:pt x="9293" y="14482"/>
                  <a:pt x="10329" y="14482"/>
                </a:cubicBezTo>
                <a:lnTo>
                  <a:pt x="11991" y="14482"/>
                </a:lnTo>
                <a:cubicBezTo>
                  <a:pt x="13027" y="14482"/>
                  <a:pt x="13828" y="13751"/>
                  <a:pt x="13828" y="12828"/>
                </a:cubicBezTo>
                <a:lnTo>
                  <a:pt x="13828" y="7493"/>
                </a:lnTo>
                <a:lnTo>
                  <a:pt x="11991" y="7493"/>
                </a:lnTo>
                <a:lnTo>
                  <a:pt x="15499" y="3985"/>
                </a:lnTo>
                <a:lnTo>
                  <a:pt x="19172" y="7493"/>
                </a:lnTo>
                <a:lnTo>
                  <a:pt x="17335" y="7493"/>
                </a:lnTo>
                <a:lnTo>
                  <a:pt x="17335" y="12828"/>
                </a:lnTo>
                <a:cubicBezTo>
                  <a:pt x="17335" y="15596"/>
                  <a:pt x="14759" y="18155"/>
                  <a:pt x="11991" y="18155"/>
                </a:cubicBezTo>
                <a:lnTo>
                  <a:pt x="10329" y="18155"/>
                </a:lnTo>
                <a:cubicBezTo>
                  <a:pt x="7561" y="18155"/>
                  <a:pt x="4985" y="15596"/>
                  <a:pt x="4985" y="12828"/>
                </a:cubicBez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3"/>
          <p:cNvSpPr/>
          <p:nvPr/>
        </p:nvSpPr>
        <p:spPr>
          <a:xfrm>
            <a:off x="395280" y="620640"/>
            <a:ext cx="8137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OTES FOR THE TEACH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ents can work in groups or as a whole cl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aim of the game is to score 100 points or mo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Groups take it in turns to say one of the family me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eacher reveals the next slide showing the family memb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group scores the number of points shown next to the family member they have chos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f you get to slide 26 and nobody has reached 100 points, click on the return button. This will take you back to slide 3 and you can run through the slides ag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o make things more interesting you could give each team a wild card which will allow then to double their points on the next turn (see next slid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1187280" y="630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© Light Bulb Languages 2015 CS </a:t>
            </a:r>
            <a:r>
              <a:rPr b="0" lang="en-GB" sz="14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cbe4ff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440" y="0"/>
          <a:ext cx="914256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6320"/>
                <a:gridCol w="30481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c"/>
                    </a:solidFill>
                  </a:tcPr>
                </a:tc>
              </a:tr>
            </a:tbl>
          </a:graphicData>
        </a:graphic>
      </p:graphicFrame>
      <p:sp>
        <p:nvSpPr>
          <p:cNvPr id="319" name="TextBox 4"/>
          <p:cNvSpPr/>
          <p:nvPr/>
        </p:nvSpPr>
        <p:spPr>
          <a:xfrm>
            <a:off x="287280" y="1557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3311640" y="155736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346800" y="155736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287280" y="495468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3311640" y="495468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14"/>
          <p:cNvSpPr/>
          <p:nvPr/>
        </p:nvSpPr>
        <p:spPr>
          <a:xfrm>
            <a:off x="6346800" y="49546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5" name="Picture 15" descr=""/>
          <p:cNvPicPr/>
          <p:nvPr/>
        </p:nvPicPr>
        <p:blipFill>
          <a:blip r:embed="rId1"/>
          <a:stretch/>
        </p:blipFill>
        <p:spPr>
          <a:xfrm>
            <a:off x="431640" y="115920"/>
            <a:ext cx="2230560" cy="15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"/>
          <p:cNvPicPr/>
          <p:nvPr/>
        </p:nvPicPr>
        <p:blipFill>
          <a:blip r:embed="rId2"/>
          <a:stretch/>
        </p:blipFill>
        <p:spPr>
          <a:xfrm>
            <a:off x="3456000" y="125280"/>
            <a:ext cx="2232000" cy="1551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"/>
          <p:cNvPicPr/>
          <p:nvPr/>
        </p:nvPicPr>
        <p:blipFill>
          <a:blip r:embed="rId3"/>
          <a:stretch/>
        </p:blipFill>
        <p:spPr>
          <a:xfrm>
            <a:off x="6491160" y="125280"/>
            <a:ext cx="2230560" cy="155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8" descr=""/>
          <p:cNvPicPr/>
          <p:nvPr/>
        </p:nvPicPr>
        <p:blipFill>
          <a:blip r:embed="rId4"/>
          <a:stretch/>
        </p:blipFill>
        <p:spPr>
          <a:xfrm>
            <a:off x="431640" y="3503520"/>
            <a:ext cx="2230560" cy="1551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"/>
          <p:cNvPicPr/>
          <p:nvPr/>
        </p:nvPicPr>
        <p:blipFill>
          <a:blip r:embed="rId5"/>
          <a:stretch/>
        </p:blipFill>
        <p:spPr>
          <a:xfrm>
            <a:off x="3456000" y="3513240"/>
            <a:ext cx="2232000" cy="154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"/>
          <p:cNvPicPr/>
          <p:nvPr/>
        </p:nvPicPr>
        <p:blipFill>
          <a:blip r:embed="rId6"/>
          <a:stretch/>
        </p:blipFill>
        <p:spPr>
          <a:xfrm>
            <a:off x="6491160" y="3513240"/>
            <a:ext cx="22305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346480" y="4884840"/>
            <a:ext cx="1481040" cy="156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2340000" y="426960"/>
            <a:ext cx="1432080" cy="1325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5189400" y="4923000"/>
            <a:ext cx="1616040" cy="1535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2340000" y="2637000"/>
            <a:ext cx="1432080" cy="1396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5"/>
          <a:stretch/>
        </p:blipFill>
        <p:spPr>
          <a:xfrm>
            <a:off x="5172120" y="396720"/>
            <a:ext cx="1431720" cy="159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6"/>
          <a:stretch/>
        </p:blipFill>
        <p:spPr>
          <a:xfrm>
            <a:off x="5172120" y="2714760"/>
            <a:ext cx="1649520" cy="1396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39528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39528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39528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908760" y="5526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908760" y="28335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908760" y="51814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5-08-08T16:03:36Z</dcterms:modified>
  <cp:revision>126</cp:revision>
  <dc:subject/>
  <dc:title>TITLE</dc:title>
</cp:coreProperties>
</file>