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737-0E25-4587-9248-7EA3C8DA10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2E8-C08E-4D8E-8E17-43D1C6702F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0AF-9189-44AC-BFF7-1EB1AEB6DB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34C4-6ABD-43AD-B126-A598973012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B86A-6019-4EAE-ABEB-86E72CDCC0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039D-9FAB-4072-94F4-BA23A6B0D9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53A-1B36-42CE-AAE4-E00E88EF89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14E-F5E0-4E61-9BAF-206AFD7C3B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DE9-9E3E-4E8A-BD6B-29330159D2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72F1-F321-4495-9729-969AD7C64B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939F-B425-41DC-AD73-AEBAB4DD86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EF58-32E4-4078-B5AE-924332ABDA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F6D-CCAB-4DE7-A833-F3D9B67B22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515-5C49-4CA3-B065-D1722B4A88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D6A-C0E6-4859-A145-A17F336DD1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CB2-5B2E-4F5C-A35A-028B528446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90F-1169-46C7-9AEF-D3D241928C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3B70-8DA5-48CD-91F9-9D3AF20484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06E-60DC-4012-A1D3-021D9C5BD9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435-7D80-4B7E-84EC-6AB89F215B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0B4-70B5-4647-A69E-1BA850E258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B828-FAD0-4DC3-922A-452CD73E45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816-0CC5-4A79-A146-405969E5A1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68F-7A20-4A47-8E05-74BEC94EAC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7D9-DDE5-44ED-AF9E-40F9B20FA2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CE65-6ADC-4812-87DF-848C107AC1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3CD-22DD-4174-ACA6-4E2A37DB3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F90-79D2-4FC0-828D-8EFA9CB3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6BB-B5DD-4DB4-BD92-8D21BF4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4F2-873B-4DA0-B8A3-CB33B174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30D-0A33-4102-916B-5A87F6B3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7A6A-D216-417A-94F6-4CE52E6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6F0-9B67-454D-8EEA-09E0D73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654-B950-497F-BE0D-11A9AAA6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EBEE-17C8-4D00-8D30-1324D94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EED-33A6-4C56-9A31-CE7D00F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AA57-CC98-4854-B80C-5716FB60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ABFF-69B9-4FFC-B0AB-7CD3E68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F2D-ECE9-4640-A6F0-C8CB2D8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7F1-2C4D-421D-B6C4-A2AB933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EDE-0792-4F62-A5BA-0A3B61A8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52A8-48A5-4843-9AEE-6B0D3B7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E90-5A88-4BD6-AD07-B078A897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054B-CAD8-436F-8221-60E3C43E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4144-068C-4BE0-B3D2-65109A92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CEDB-82A6-447A-91BB-15B16EDE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6663-BDEA-49D8-AEF6-0A9F9417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3716-6AD5-4835-B80D-36C4598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AB74-A7E0-43FA-A9A2-D50F39B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671-AABE-4393-A54B-651E78F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6A56-467B-4D22-A6E7-24AAB382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7CC3-8B23-4E04-B6DC-795365B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B7D0-26D1-45F6-8600-AFEAB32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2EA2-8610-47DA-A2A6-2EA6753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3CBA-B4AB-4990-ADA8-E57F079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BFE7-855D-4D3B-8C22-F0645330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525E-381D-43C7-9E18-77478949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8D5-6EA7-4E5B-9AC1-1BBF933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860-F02D-4DA3-922B-3B7E486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0E7-C0C1-412A-B83D-DACFEB7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A2C-08AB-4BA3-9C6E-9DE47AE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07E-7108-4446-B8EE-14D36BC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B3B-8309-4883-81FB-C4DD154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0A6D-4568-4C10-A45C-641899C195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C14-DA32-4739-92FD-8E21E3045B5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C65-BD5F-4667-91C1-62979541D7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OINT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"/>
          <p:cNvSpPr/>
          <p:nvPr/>
        </p:nvSpPr>
        <p:spPr>
          <a:xfrm>
            <a:off x="0" y="1557360"/>
            <a:ext cx="42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grand-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9619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4767120" y="155736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grand-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4767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47671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soe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ction Button: Return 2">
            <a:hlinkClick r:id="rId7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3"/>
          <p:cNvSpPr/>
          <p:nvPr/>
        </p:nvSpPr>
        <p:spPr>
          <a:xfrm>
            <a:off x="395280" y="620640"/>
            <a:ext cx="8137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TES FOR THE TEACH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ups take it in turns to say one of the family me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acher reveals the next slide showing the family memb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group scores the number of points shown next to the family member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sp>
        <p:nvSpPr>
          <p:cNvPr id="31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5" name="Picture 15" descr=""/>
          <p:cNvPicPr/>
          <p:nvPr/>
        </p:nvPicPr>
        <p:blipFill>
          <a:blip r:embed="rId1"/>
          <a:stretch/>
        </p:blipFill>
        <p:spPr>
          <a:xfrm>
            <a:off x="431640" y="115920"/>
            <a:ext cx="2230560" cy="15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/>
          <p:cNvPicPr/>
          <p:nvPr/>
        </p:nvPicPr>
        <p:blipFill>
          <a:blip r:embed="rId2"/>
          <a:stretch/>
        </p:blipFill>
        <p:spPr>
          <a:xfrm>
            <a:off x="3456000" y="125280"/>
            <a:ext cx="2232000" cy="1551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"/>
          <p:cNvPicPr/>
          <p:nvPr/>
        </p:nvPicPr>
        <p:blipFill>
          <a:blip r:embed="rId3"/>
          <a:stretch/>
        </p:blipFill>
        <p:spPr>
          <a:xfrm>
            <a:off x="6491160" y="125280"/>
            <a:ext cx="2230560" cy="155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8" descr=""/>
          <p:cNvPicPr/>
          <p:nvPr/>
        </p:nvPicPr>
        <p:blipFill>
          <a:blip r:embed="rId4"/>
          <a:stretch/>
        </p:blipFill>
        <p:spPr>
          <a:xfrm>
            <a:off x="431640" y="3503520"/>
            <a:ext cx="2230560" cy="1551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"/>
          <p:cNvPicPr/>
          <p:nvPr/>
        </p:nvPicPr>
        <p:blipFill>
          <a:blip r:embed="rId5"/>
          <a:stretch/>
        </p:blipFill>
        <p:spPr>
          <a:xfrm>
            <a:off x="3456000" y="3513240"/>
            <a:ext cx="2232000" cy="154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"/>
          <p:cNvPicPr/>
          <p:nvPr/>
        </p:nvPicPr>
        <p:blipFill>
          <a:blip r:embed="rId6"/>
          <a:stretch/>
        </p:blipFill>
        <p:spPr>
          <a:xfrm>
            <a:off x="6491160" y="3513240"/>
            <a:ext cx="22305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6:03:36Z</dcterms:modified>
  <cp:revision>126</cp:revision>
  <dc:subject/>
  <dc:title>TITLE</dc:title>
</cp:coreProperties>
</file>