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3B3-1DB3-44BB-A46D-F6F7895183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BAEC-E199-4F1F-B4CC-CAD7444663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8E5-3A9C-4A54-A9C6-8AFAD48C1C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E278-D6DA-4A58-A95C-CDF6D318DF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F36C-8EE5-4C95-98E3-92749E7F0D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68D9-F6B7-4E87-807D-915BB7905A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285-13F5-4ABC-915F-6C2C2D3411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B94-67D0-468D-9E5F-38BDDF3077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EE4-C121-4D31-BDFB-291496BA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224-B4B1-4AA6-BB6F-51D49606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7CB-08C0-4850-BAC7-3E51D7D1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AB1-32B5-46E6-9292-1FA0EF38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B634-6FEC-4112-B058-2850DC8E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5DD1-795C-4690-9768-F5E1956A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1BC2-18D6-422B-8466-5CC1173C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73B0-88BD-4A4B-B588-DB1313D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F52-0F35-4261-82D5-902F775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0755-E296-4DB4-8777-F9052A91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F3B9-1A7D-46CC-B21B-EBBA3C5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E95-01C3-446F-B488-3E9BE7F6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D4A-3508-42B8-B57A-BB91F01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CD60-9B97-4429-9249-857D7D2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7251-F7D2-483F-B3C2-E9562369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6329-9DCF-4D34-BA45-1551F212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34F2-7B86-496A-ADA3-90E53581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8265-35C5-4A6F-BCA1-8C045742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1C1F-A095-4104-807B-6244686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1E72-1608-4C04-9D0F-F1C35DD9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3445-1F45-4864-995E-DDDDFF7A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6499-3B02-450D-BD80-A52FBB39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086-38DF-46D6-9A64-6EF7B3E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97D6-7B3C-4BF8-9B4F-7B21087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0957-45A3-472D-BC00-13D88A8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AD5D-EB99-47EC-A4C5-D2F4592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DCC1-AA85-4CA0-ACA1-B5C2475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E2AA-6365-49F9-880B-01FFAE2A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446E-594B-44CE-9C37-88FF3783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3858-D8D1-47B1-9064-565829B0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A61-5380-4D36-B420-D3F37816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3E5-FE8A-4E2B-BD6E-E0A8FE65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912-24E3-41BD-A2F6-19962AC1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2FE-A267-4030-A20B-B1AD417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63B-07B2-478D-ACC1-E80E0FA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A15-3261-4A6B-B960-27613EB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9B08-9790-4A78-9A7C-FBE2E9D82C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B5F7-C0B2-401F-8B86-35D5E0D3A04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A9A-2AF5-48CC-A7F1-5479B9F21A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9"/>
          <p:cNvSpPr/>
          <p:nvPr/>
        </p:nvSpPr>
        <p:spPr>
          <a:xfrm>
            <a:off x="0" y="1557360"/>
            <a:ext cx="42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grand-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9619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4767120" y="155736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grand-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4767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47671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soeu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4341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979640" y="1003320"/>
            <a:ext cx="4584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017800" y="1125360"/>
            <a:ext cx="5108400" cy="43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323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004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355840" y="1125360"/>
            <a:ext cx="4432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395280" y="620640"/>
            <a:ext cx="81374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ents work in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oups take it in turns to say a word or sentence about one of the family members.  It could be as simple as one of the family words, or a sentence such as “Je te présente ma mère” or “Ma mère s’appelle Marine.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acher then reveals the next slide showing a family me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the group chose the right generation of the family they score points.  They receive 3 points for a grandparent, 2 points for a parent and 1 for a sibl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You could duplicate some slides to make the game last longer or to make it more difficul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98eee3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5:18:41Z</dcterms:modified>
  <cp:revision>116</cp:revision>
  <dc:subject/>
  <dc:title>TITLE</dc:title>
</cp:coreProperties>
</file>