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202C-DDAA-4860-B46E-701AD8FD3D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396F-C4F5-4765-BE06-F29F7C77EC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000-742C-48EB-B515-8669269CF7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6D0-3EE3-4DAA-A043-0865DFBBB2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88E-3DC8-4577-99A9-595784FCB8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8AFD-69A8-4D34-9C85-3429F51043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87AA-765E-4E6B-B0D0-49A603F93A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CD88-05D1-4DB6-B49C-208706DFDE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181-18B2-4991-A655-D7835C1D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84B-F1EB-4611-8827-9E7E236A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837-1CCB-407F-93F5-6E5CE8D3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7DC-76C5-421B-8136-69870679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8D99-E9C3-45BC-AB0E-77E29EEA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2352-F57A-43B2-B818-3D12C9C9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F33A-054B-4DF3-B3E2-6AF13415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1BBD-0C26-4E49-B8DB-0F4F8E35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C175-DE78-494D-8A01-1A9FC7F0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BC2F-2855-42A3-A9CB-5F0AABD2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A66F-20BD-43EE-BEC6-BF6F2DC5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374-F072-4097-9C05-F185C800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0555-9D39-4C9C-85E9-78F5CCF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AA85-B75F-4765-96E5-A686FF1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DBC4-2C54-4EE9-8F1D-2C408506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DBE6-2D0E-4AEB-AB8C-CA91DE7E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2F62-1225-4543-9604-B39D772C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FDE0-9CDA-45CC-9F6E-492CB907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87A5-4BAF-4A78-B069-DCB8BFF4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D3FC-1692-43E6-B085-5786CEEE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A2C4-D34C-4599-ACAF-CC9835BF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387A-EE4B-4566-B3AE-A8A9AC6F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C19-9ADA-459A-BF93-C766F0BA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7CC2-5AD9-47A2-A42A-8B469611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192A-F44B-44B6-9F0B-ADF656DF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FB6D-5726-4571-8925-BDC607E4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DD96-E201-4367-A33E-512E00C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1B6B-93B4-4BC7-880A-B45BE34F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FBB0-6A5B-4629-A8B2-C088DE24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6DA2-859E-4EC7-972B-507C9005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D50-E7CE-46A4-B139-BC7818B1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11C-AB49-4BB2-88C8-2F14E69C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510-345E-4288-929E-D593FF35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79D-A1DC-49A3-9277-181B0DD0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134-DF2A-4306-B163-A074D223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B5C-E471-4E39-95E1-928BFB9D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20AD-ECF5-4C34-AF6E-A21C0BF926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F9A2-0E10-46FF-BA72-FE619D1C334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2531-9E4B-4674-8FF6-241F5598D0C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336760" y="461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2330280" y="15732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5180040" y="465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4"/>
          <a:stretch/>
        </p:blipFill>
        <p:spPr>
          <a:xfrm>
            <a:off x="2330280" y="236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5"/>
          <a:stretch/>
        </p:blipFill>
        <p:spPr>
          <a:xfrm>
            <a:off x="5162400" y="127080"/>
            <a:ext cx="1432080" cy="159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6"/>
          <a:stretch/>
        </p:blipFill>
        <p:spPr>
          <a:xfrm>
            <a:off x="5162400" y="2444760"/>
            <a:ext cx="1649520" cy="13971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9"/>
          <p:cNvSpPr/>
          <p:nvPr/>
        </p:nvSpPr>
        <p:spPr>
          <a:xfrm>
            <a:off x="0" y="1557360"/>
            <a:ext cx="42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grand-p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21140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p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961920" y="6099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fr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4767120" y="155736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grand-m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4767120" y="38228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m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4767120" y="6099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soeu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4341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979640" y="1003320"/>
            <a:ext cx="45846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017800" y="1125360"/>
            <a:ext cx="5108400" cy="43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323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004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355840" y="1125360"/>
            <a:ext cx="44323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395280" y="620640"/>
            <a:ext cx="81374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ents work in grou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oups take it in turns to say a word or sentence about one of the family members.  It could be as simple as one of the family words, or a sentence such as “Je te présente ma mère” or “Ma mère s’appelle Marine.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eacher then reveals the next slide showing a family memb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f the group chose the right generation of the family they score points.  They receive 3 points for a grandparent, 2 points for a parent and 1 for a sibl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You could duplicate some slides to make the game last longer or to make it more difficul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be4ff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98eee3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cbe4ff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8-08T15:18:41Z</dcterms:modified>
  <cp:revision>116</cp:revision>
  <dc:subject/>
  <dc:title>TITLE</dc:title>
</cp:coreProperties>
</file>