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626-8499-4180-A4DC-16992B03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BCF-DE9B-46DB-9C23-224FA549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BBB-DA7D-4E95-84B7-D5212344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02C-2B5E-4801-9C48-99D5455D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A80F-58CC-4888-BCFF-41DDB1F3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4A79-4718-4A2B-848B-0E8A5643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3DF6-2CC0-4EE3-AAFE-DFA3B108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C4DA-8537-42BC-A1F5-AD788F4E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9541-95B7-4FF4-81F7-6B5C27CD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2F31-D85C-46A2-B24C-876A538F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8DA0-5515-4AD7-8D91-633F7F5E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7DD-EC5B-488C-946A-EE47C60B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A91B-D0D5-4786-9163-A7A2B575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F9C1-820D-4624-80A8-C640771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5B30-5925-409C-B36F-273B7FFF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475D-F362-4F5A-834D-67EC5FC5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294E-4507-4B77-9797-01237E19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5A5A-CDA1-4A1A-B165-7F9E42FE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7B839-ED97-4BCB-A2CC-6B307F09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6C55-33DA-4DE9-AC98-DDD320DD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6243-76ED-41BC-AD16-DB3BB14D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DD08-4FF8-49B1-ACC7-DCE1AE8E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CBB-E01A-4278-A8B9-D890C398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CA4F-65CB-405C-AF7F-5F337015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7796-0B62-426E-BD9C-F3EE26B1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373F-B7CC-4C76-8A1C-AC490DA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AC6E-1FD2-4BF0-8CEB-66CDD21A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345C-F0BB-4FD8-BCA7-4E5E9DEC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8A99-77F9-414B-8D69-82A4C2A3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0AB7-6048-4E8A-80CB-07B5A3F6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A80C-36F6-454E-9FB6-B4D51504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D79B-E249-4AB0-AB23-172691F9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948B-50AC-420A-B5B4-8318B487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F70-06EC-4419-B439-E8FDE45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FC43-AFB9-4485-B72C-790C3780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2B6A-D61E-472E-9BFB-3E78BD54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F7F3E-A185-4B40-AC40-8C916E49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5958-5E8B-4602-8A6F-E1571BF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EDA4-2DF6-4AD5-BBFB-6AF5A4F4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E5E9A-F7AF-48A9-998B-F0EBADB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E00C-2854-46C6-909A-78807BBA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AB77-B2F6-41D7-9A15-3CBD4002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1D48C-5E9F-4570-8DAA-B70F8EF4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226-F0DA-4C59-8DB2-7B34F2FC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A1A-D53D-4DC4-A814-7BDB6CFA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72E-C0EA-4B4B-AF96-B10FD86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0C2-89CA-43ED-BFBB-9758A0AC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70A-23D0-4747-BD47-1660DD07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1513-C78B-4F15-B81C-A41E53E51C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CD72-C531-4A41-85E1-759133513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15BB-91D0-4A78-B03F-F330D84C43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C4BF-4ACC-46DE-B5AC-922CFB9CF28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acd"/>
          </a:solidFill>
          <a:ln w="12600">
            <a:solidFill>
              <a:srgbClr val="7198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79280" y="189000"/>
            <a:ext cx="8785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J’aime le fromage </a:t>
            </a:r>
            <a:r>
              <a:rPr b="0" lang="en-GB" sz="4600" spc="-1" strike="noStrike">
                <a:solidFill>
                  <a:srgbClr val="ffff00"/>
                </a:solidFill>
                <a:latin typeface="Comic Sans MS"/>
              </a:rPr>
              <a:t>et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les bananes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79280" y="2060640"/>
            <a:ext cx="8785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J’aime la glace </a:t>
            </a:r>
            <a:r>
              <a:rPr b="0" lang="en-GB" sz="4600" spc="-1" strike="noStrike">
                <a:solidFill>
                  <a:srgbClr val="ffff00"/>
                </a:solidFill>
                <a:latin typeface="Comic Sans MS"/>
              </a:rPr>
              <a:t>mais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je n’aime pas le poisson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79280" y="4005360"/>
            <a:ext cx="8785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J’aime le chocolat </a:t>
            </a:r>
            <a:r>
              <a:rPr b="0" lang="en-GB" sz="4600" spc="-1" strike="noStrike">
                <a:solidFill>
                  <a:srgbClr val="ffff00"/>
                </a:solidFill>
                <a:latin typeface="Comic Sans MS"/>
              </a:rPr>
              <a:t>mais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600" spc="-1" strike="noStrike">
                <a:solidFill>
                  <a:srgbClr val="99ff66"/>
                </a:solidFill>
                <a:latin typeface="Comic Sans MS"/>
              </a:rPr>
              <a:t>je préfère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les tomates </a:t>
            </a:r>
            <a:r>
              <a:rPr b="0" lang="en-GB" sz="4600" spc="-1" strike="noStrike">
                <a:solidFill>
                  <a:srgbClr val="ffff00"/>
                </a:solidFill>
                <a:latin typeface="Comic Sans MS"/>
              </a:rPr>
              <a:t>et</a:t>
            </a:r>
            <a:r>
              <a:rPr b="0" lang="en-GB" sz="4600" spc="-1" strike="noStrike">
                <a:solidFill>
                  <a:srgbClr val="ffffff"/>
                </a:solidFill>
                <a:latin typeface="Comic Sans MS"/>
              </a:rPr>
              <a:t> la limonade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</cp:lastModifiedBy>
  <dcterms:modified xsi:type="dcterms:W3CDTF">2016-05-23T11:18:02Z</dcterms:modified>
  <cp:revision>50</cp:revision>
  <dc:subject/>
  <dc:title>Slide 1</dc:title>
</cp:coreProperties>
</file>