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2F2-731B-4EE1-9866-2F7546DC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BD2-EA6B-4216-A93B-8E212AD9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923-AC14-4A45-89C3-18B164A3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F8C-E920-49BA-A307-C22F326E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66C5-4DCC-4351-B34F-7CBFD3DD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8D33-774B-437F-8F6D-1A89F3B8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8645-0326-4C69-A4F9-ED228C8B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1E5D-2EC9-4BF8-8891-C2F1491D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4E1B-8165-4054-9D66-5B54B0D6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8EC8-C190-4C90-AFB3-35237E34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C18B-7E8C-4E6C-B036-CCDEC358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353-A176-4F48-9F5F-A25F66AC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307B-7A63-4BE7-856B-6FD452D8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654D-2BAD-4AD2-BC2D-C8E93E22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3233-E593-472F-99ED-5A4C9513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E9A4-3A40-4646-92AF-30EE7780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04B8-A7EE-49AE-8952-4724F00D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3FE4D-7546-4E1A-BCF1-A28D2CA6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D4D4C-2F11-481A-800E-0F230B40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485A5-6A8A-480E-9837-BAE99163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72F0-46D1-49E6-944E-778B178E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44DF3-D4B3-4C94-A46E-F48C19BA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CD7-90B4-4B9C-832F-FB07ABC6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EA10-EA55-4C5F-9DAE-6E78042B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C2798-BE9B-4A08-8EA2-9FC7F210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90AD-643A-4189-8605-60C47C13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0DE27-C495-45B3-B856-9491F50F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F0AB4-AEDB-4861-A373-1C37B1B1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8768-E128-4242-85B9-88075999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1315D-973F-4470-A3A4-3061F306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1BA6B-9F79-4E1B-B627-31403B9C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3F624-E980-4C2C-A26A-71051EDC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CFCAA-CAEC-4E06-95B5-285D8857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31F2-2ACA-49AB-AB29-359B913D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0C18A-B638-4996-A92E-1F9504FB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D7D54-D30D-4449-962F-EE10AF08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34A53-27DC-4EEC-AA08-BFEC672D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BBBB7-74E9-47A0-A6EE-BE48FC7A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4FE60-B757-495E-B98E-3B14701C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07255-AFC5-493F-9030-36E4C15B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D1E66-B59C-4A59-B99E-DD266400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95253-F77A-44B3-BD5D-51881084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DAA9B-1DAF-4F09-82E8-664335F4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7654-489E-4D20-ACC8-39B46307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7EF-A023-454F-906D-77006FB5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EDD-CD03-43C9-8CB5-64EF6E44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5BF-00B9-475F-9876-1B2EE01C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F8B-CF01-44F5-948E-2D544015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F416-5E11-43FC-92F8-7FAF080A3C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0A27-8BE4-4684-B173-AA96C28C6E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D143-7936-4072-A6CB-E7D37F6D7D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49AC-D454-4EE9-B0ED-DE12B525566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acd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179280" y="189000"/>
            <a:ext cx="87854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J’aime le fromage </a:t>
            </a:r>
            <a:r>
              <a:rPr b="0" lang="en-GB" sz="4600" spc="-1" strike="noStrike">
                <a:solidFill>
                  <a:srgbClr val="ffff00"/>
                </a:solidFill>
                <a:latin typeface="Comic Sans MS"/>
              </a:rPr>
              <a:t>et</a:t>
            </a: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 les bananes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179280" y="2060640"/>
            <a:ext cx="87854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J’aime la glace </a:t>
            </a:r>
            <a:r>
              <a:rPr b="0" lang="en-GB" sz="4600" spc="-1" strike="noStrike">
                <a:solidFill>
                  <a:srgbClr val="ffff00"/>
                </a:solidFill>
                <a:latin typeface="Comic Sans MS"/>
              </a:rPr>
              <a:t>mais</a:t>
            </a: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 je n’aime pas le poisson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179280" y="4005360"/>
            <a:ext cx="8785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J’aime le chocolat </a:t>
            </a:r>
            <a:r>
              <a:rPr b="0" lang="en-GB" sz="4600" spc="-1" strike="noStrike">
                <a:solidFill>
                  <a:srgbClr val="ffff00"/>
                </a:solidFill>
                <a:latin typeface="Comic Sans MS"/>
              </a:rPr>
              <a:t>mais</a:t>
            </a: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600" spc="-1" strike="noStrike">
                <a:solidFill>
                  <a:srgbClr val="99ff66"/>
                </a:solidFill>
                <a:latin typeface="Comic Sans MS"/>
              </a:rPr>
              <a:t>je préfère</a:t>
            </a: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 les tomates </a:t>
            </a:r>
            <a:r>
              <a:rPr b="0" lang="en-GB" sz="4600" spc="-1" strike="noStrike">
                <a:solidFill>
                  <a:srgbClr val="ffff00"/>
                </a:solidFill>
                <a:latin typeface="Comic Sans MS"/>
              </a:rPr>
              <a:t>et</a:t>
            </a: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 la limonade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6-05-23T11:18:02Z</dcterms:modified>
  <cp:revision>50</cp:revision>
  <dc:subject/>
  <dc:title>Slide 1</dc:title>
</cp:coreProperties>
</file>