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B40F-4303-4F3B-8669-7C6FC2CBD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ADFC-8B8F-44BA-81B7-B34E4640CC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425-8EE1-4B38-A13E-9F03C18A85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37B7-72E8-4C47-A450-52517EC214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95C7-0D0F-4588-8FB1-F563BC53CF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1DD-246D-4D53-90D0-F3DE67CAB0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C67-D9F3-4DD4-BCCF-423FA04591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CC5-01F8-4BEA-B5ED-155131B779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C6A-0D16-4AA2-9CF2-87A106D1BC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5CFB-D5BD-4C6A-AA7C-CBFF37084B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D45-6F96-4C8D-9E2A-BDA14E3472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D66-009F-450A-9D6D-A43EC7C0C8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E9E-0C87-4AB4-8FF5-58F9F9B89D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7E12-895B-48BD-BA46-E7FF5F7DAA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D5DD-DB53-48E4-8D1D-01A08615F7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10C-5430-4635-B29E-3CFE19117B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746-6F6E-4D01-A415-2CBA236232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0DEB-F1C9-4ADA-B88E-E0CA0AAF05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3995-FF67-40DC-A2B8-2DF5CF2024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495A-7560-4D37-96DC-369FA10C94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1380-B417-41FB-9DE6-77F817D13C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2B2-3C7E-4B38-9651-C5D8F18C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46E-F196-466C-B469-D4D5329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BA5-24C2-4A19-8E26-464C4CF4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0F0-4C5A-45A2-A7AF-F99D1FD6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958A-92ED-410D-8354-A61BEC9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F91-B3D0-4EF3-A7F9-4056BF4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8606-36C8-46CE-806E-5F98E1B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C8D-4C8A-4EF0-ACD5-5ACFF95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521E-7181-4F57-9E11-3F68787F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581E-CAA4-4C2A-8E59-CED2C029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3681-040C-4030-864B-D345CF2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D92-A1FF-44EC-9EA7-0F314C93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22A-162B-463B-BA50-EFA3D42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1A45-E58D-4980-9697-2036280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6F45-8F9C-4DA5-9D44-0780FA8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6285-7ACC-43D1-A363-62D7008B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EE7A-50C4-4899-A8D8-CBCA4435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C769-79D9-4E98-B116-F10D6F63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4F7D-6163-4BAB-9F10-5544AA14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EF77-486A-4C3A-B232-868D4028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17D6-E908-4D3F-A1DB-3CCF1396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F40C-1851-4D85-971B-E598207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F78-89EF-4898-94DA-E0C8BF8E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C705-97F0-40D2-8C75-7AD7283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4BDE-2011-44F4-B5BB-C14F38B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B349-6B84-4E5E-A8D8-07E186A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47A3-E9E5-4184-9991-4261DDD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C1F7-A3DA-4307-9322-5878172C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2E78-76C9-4848-A5BD-4FDF541C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C97D-D690-4902-81B6-85550207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3380-BAAA-4ECA-AEA4-BD937CBE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1E49-B9BD-4978-AC36-E6D6414A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AEC3-6EDD-45EA-900B-E213B700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ACD-60F6-4C6F-8C3E-CF7FD573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92D5-24FF-49D4-A422-86F1526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22D5-511B-4693-AA7E-2314FB6E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94E3-85D6-432E-9818-DF0438D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67E8-BEC9-403D-8712-9C34989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55F7-523D-4408-87B5-34D9BA4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FD26-F966-4CFD-B4BA-CAC4333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2E0A-1F25-4464-B59A-9BD7060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9DEE-43DB-4621-A3A0-F0C12A0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091A-C84B-46AE-B95C-DDAEF6E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457-9A7B-4903-8284-4895F8CA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1E5-5EEA-4265-8020-6B4AB72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A63-7956-4C86-BCB1-99BB836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960-1C37-4C7A-A019-79F6EF8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726-4D4C-4D2C-82EB-369F488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F7B9-932E-461F-B06E-4A5A93EA22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96E-06ED-4CD8-BD61-B7ED7355B1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E8E-5BDE-4B0F-951A-38F26C7288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BF1-8FD1-4310-B094-F3AA42CB62C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6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7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9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0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1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2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3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0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1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2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43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44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5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6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7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8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1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2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3" name="Picture 7" descr="Pizza-Capricciosa[1]"/>
          <p:cNvPicPr/>
          <p:nvPr/>
        </p:nvPicPr>
        <p:blipFill>
          <a:blip r:embed="rId4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54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5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6" name="Picture 10" descr="NCI_clove_ham[1]"/>
          <p:cNvPicPr/>
          <p:nvPr/>
        </p:nvPicPr>
        <p:blipFill>
          <a:blip r:embed="rId7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7" name="Picture 11" descr="j0405246"/>
          <p:cNvPicPr/>
          <p:nvPr/>
        </p:nvPicPr>
        <p:blipFill>
          <a:blip r:embed="rId8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8" name="Picture 14" descr="http://www.healthline.com/hlcmsresource/images/diabetesmine/wp-content/uploads/2012/07/Vanilla-Ice-Cream-Cone.jpg"/>
          <p:cNvPicPr/>
          <p:nvPr/>
        </p:nvPicPr>
        <p:blipFill>
          <a:blip r:embed="rId9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1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2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3" name="Picture 7" descr="Pizza-Capricciosa[1]"/>
          <p:cNvPicPr/>
          <p:nvPr/>
        </p:nvPicPr>
        <p:blipFill>
          <a:blip r:embed="rId4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64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5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6" name="Picture 11" descr="j0405246"/>
          <p:cNvPicPr/>
          <p:nvPr/>
        </p:nvPicPr>
        <p:blipFill>
          <a:blip r:embed="rId7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7" name="Picture 14" descr="http://www.healthline.com/hlcmsresource/images/diabetesmine/wp-content/uploads/2012/07/Vanilla-Ice-Cream-Cone.jpg"/>
          <p:cNvPicPr/>
          <p:nvPr/>
        </p:nvPicPr>
        <p:blipFill>
          <a:blip r:embed="rId8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2" descr="PH02763J"/>
          <p:cNvPicPr/>
          <p:nvPr/>
        </p:nvPicPr>
        <p:blipFill>
          <a:blip r:embed="rId1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0" name="Picture 23" descr="oranges[1]"/>
          <p:cNvPicPr/>
          <p:nvPr/>
        </p:nvPicPr>
        <p:blipFill>
          <a:blip r:embed="rId2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1" name="Picture 7" descr="Pizza-Capricciosa[1]"/>
          <p:cNvPicPr/>
          <p:nvPr/>
        </p:nvPicPr>
        <p:blipFill>
          <a:blip r:embed="rId3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2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3" name="Picture 9" descr="nanos_cheese_product2[1]"/>
          <p:cNvPicPr/>
          <p:nvPr/>
        </p:nvPicPr>
        <p:blipFill>
          <a:blip r:embed="rId5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4" name="Picture 11" descr="j0405246"/>
          <p:cNvPicPr/>
          <p:nvPr/>
        </p:nvPicPr>
        <p:blipFill>
          <a:blip r:embed="rId6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5" name="Picture 14" descr="http://www.healthline.com/hlcmsresource/images/diabetesmine/wp-content/uploads/2012/07/Vanilla-Ice-Cream-Cone.jpg"/>
          <p:cNvPicPr/>
          <p:nvPr/>
        </p:nvPicPr>
        <p:blipFill>
          <a:blip r:embed="rId7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8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9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0" name="Picture 9" descr="nanos_cheese_product2[1]"/>
          <p:cNvPicPr/>
          <p:nvPr/>
        </p:nvPicPr>
        <p:blipFill>
          <a:blip r:embed="rId4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1" name="Picture 11" descr="j0405246"/>
          <p:cNvPicPr/>
          <p:nvPr/>
        </p:nvPicPr>
        <p:blipFill>
          <a:blip r:embed="rId5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2" name="Picture 14" descr="http://www.healthline.com/hlcmsresource/images/diabetesmine/wp-content/uploads/2012/07/Vanilla-Ice-Cream-Cone.jpg"/>
          <p:cNvPicPr/>
          <p:nvPr/>
        </p:nvPicPr>
        <p:blipFill>
          <a:blip r:embed="rId6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85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86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7" name="Picture 9" descr="nanos_cheese_product2[1]"/>
          <p:cNvPicPr/>
          <p:nvPr/>
        </p:nvPicPr>
        <p:blipFill>
          <a:blip r:embed="rId4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8" name="Picture 14" descr="http://www.healthline.com/hlcmsresource/images/diabetesmine/wp-content/uploads/2012/07/Vanilla-Ice-Cream-Cone.jpg"/>
          <p:cNvPicPr/>
          <p:nvPr/>
        </p:nvPicPr>
        <p:blipFill>
          <a:blip r:embed="rId5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91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92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93" name="Picture 14" descr="http://www.healthline.com/hlcmsresource/images/diabetesmine/wp-content/uploads/2012/07/Vanilla-Ice-Cream-Cone.jpg"/>
          <p:cNvPicPr/>
          <p:nvPr/>
        </p:nvPicPr>
        <p:blipFill>
          <a:blip r:embed="rId4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96" name="Picture 8" descr="Chocolate[1]"/>
          <p:cNvPicPr/>
          <p:nvPr/>
        </p:nvPicPr>
        <p:blipFill>
          <a:blip r:embed="rId2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97" name="Picture 14" descr="http://www.healthline.com/hlcmsresource/images/diabetesmine/wp-content/uploads/2012/07/Vanilla-Ice-Cream-Cone.jpg"/>
          <p:cNvPicPr/>
          <p:nvPr/>
        </p:nvPicPr>
        <p:blipFill>
          <a:blip r:embed="rId3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300" name="Picture 8" descr="Chocolate[1]"/>
          <p:cNvPicPr/>
          <p:nvPr/>
        </p:nvPicPr>
        <p:blipFill>
          <a:blip r:embed="rId2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6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7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8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89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0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1" name="Picture 10" descr="NCI_clove_ham[1]"/>
          <p:cNvPicPr/>
          <p:nvPr/>
        </p:nvPicPr>
        <p:blipFill>
          <a:blip r:embed="rId7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2" name="Picture 11" descr="j0405246"/>
          <p:cNvPicPr/>
          <p:nvPr/>
        </p:nvPicPr>
        <p:blipFill>
          <a:blip r:embed="rId8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3" name="Picture 14" descr="http://www.healthline.com/hlcmsresource/images/diabetesmine/wp-content/uploads/2012/07/Vanilla-Ice-Cream-Cone.jpg"/>
          <p:cNvPicPr/>
          <p:nvPr/>
        </p:nvPicPr>
        <p:blipFill>
          <a:blip r:embed="rId9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96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97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98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9" name="Picture 9" descr="nanos_cheese_product2[1]"/>
          <p:cNvPicPr/>
          <p:nvPr/>
        </p:nvPicPr>
        <p:blipFill>
          <a:blip r:embed="rId5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0" name="Picture 10" descr="NCI_clove_ham[1]"/>
          <p:cNvPicPr/>
          <p:nvPr/>
        </p:nvPicPr>
        <p:blipFill>
          <a:blip r:embed="rId6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1" name="Picture 11" descr="j0405246"/>
          <p:cNvPicPr/>
          <p:nvPr/>
        </p:nvPicPr>
        <p:blipFill>
          <a:blip r:embed="rId7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2" name="Picture 14" descr="http://www.healthline.com/hlcmsresource/images/diabetesmine/wp-content/uploads/2012/07/Vanilla-Ice-Cream-Cone.jpg"/>
          <p:cNvPicPr/>
          <p:nvPr/>
        </p:nvPicPr>
        <p:blipFill>
          <a:blip r:embed="rId8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0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06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7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8" name="Picture 10" descr="NCI_clove_ham[1]"/>
          <p:cNvPicPr/>
          <p:nvPr/>
        </p:nvPicPr>
        <p:blipFill>
          <a:blip r:embed="rId5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9" name="Picture 11" descr="j0405246"/>
          <p:cNvPicPr/>
          <p:nvPr/>
        </p:nvPicPr>
        <p:blipFill>
          <a:blip r:embed="rId6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0" name="Picture 14" descr="http://www.healthline.com/hlcmsresource/images/diabetesmine/wp-content/uploads/2012/07/Vanilla-Ice-Cream-Cone.jpg"/>
          <p:cNvPicPr/>
          <p:nvPr/>
        </p:nvPicPr>
        <p:blipFill>
          <a:blip r:embed="rId7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13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14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15" name="Picture 10" descr="NCI_clove_ham[1]"/>
          <p:cNvPicPr/>
          <p:nvPr/>
        </p:nvPicPr>
        <p:blipFill>
          <a:blip r:embed="rId4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6" name="Picture 11" descr="j0405246"/>
          <p:cNvPicPr/>
          <p:nvPr/>
        </p:nvPicPr>
        <p:blipFill>
          <a:blip r:embed="rId5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7" name="Picture 14" descr="http://www.healthline.com/hlcmsresource/images/diabetesmine/wp-content/uploads/2012/07/Vanilla-Ice-Cream-Cone.jpg"/>
          <p:cNvPicPr/>
          <p:nvPr/>
        </p:nvPicPr>
        <p:blipFill>
          <a:blip r:embed="rId6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20" name="Picture 6" descr="lemonade_glass[1]"/>
          <p:cNvPicPr/>
          <p:nvPr/>
        </p:nvPicPr>
        <p:blipFill>
          <a:blip r:embed="rId2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21" name="Picture 10" descr="NCI_clove_ham[1]"/>
          <p:cNvPicPr/>
          <p:nvPr/>
        </p:nvPicPr>
        <p:blipFill>
          <a:blip r:embed="rId3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2" name="Picture 11" descr="j0405246"/>
          <p:cNvPicPr/>
          <p:nvPr/>
        </p:nvPicPr>
        <p:blipFill>
          <a:blip r:embed="rId4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3" name="Picture 14" descr="http://www.healthline.com/hlcmsresource/images/diabetesmine/wp-content/uploads/2012/07/Vanilla-Ice-Cream-Cone.jpg"/>
          <p:cNvPicPr/>
          <p:nvPr/>
        </p:nvPicPr>
        <p:blipFill>
          <a:blip r:embed="rId5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26" name="Picture 6" descr="lemonade_glass[1]"/>
          <p:cNvPicPr/>
          <p:nvPr/>
        </p:nvPicPr>
        <p:blipFill>
          <a:blip r:embed="rId2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27" name="Picture 10" descr="NCI_clove_ham[1]"/>
          <p:cNvPicPr/>
          <p:nvPr/>
        </p:nvPicPr>
        <p:blipFill>
          <a:blip r:embed="rId3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8" name="Picture 14" descr="http://www.healthline.com/hlcmsresource/images/diabetesmine/wp-content/uploads/2012/07/Vanilla-Ice-Cream-Cone.jpg"/>
          <p:cNvPicPr/>
          <p:nvPr/>
        </p:nvPicPr>
        <p:blipFill>
          <a:blip r:embed="rId4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1" name="Picture 10" descr="NCI_clove_ham[1]"/>
          <p:cNvPicPr/>
          <p:nvPr/>
        </p:nvPicPr>
        <p:blipFill>
          <a:blip r:embed="rId2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32" name="Picture 14" descr="http://www.healthline.com/hlcmsresource/images/diabetesmine/wp-content/uploads/2012/07/Vanilla-Ice-Cream-Cone.jpg"/>
          <p:cNvPicPr/>
          <p:nvPr/>
        </p:nvPicPr>
        <p:blipFill>
          <a:blip r:embed="rId3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10" descr="NCI_clove_ham[1]"/>
          <p:cNvPicPr/>
          <p:nvPr/>
        </p:nvPicPr>
        <p:blipFill>
          <a:blip r:embed="rId2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5:41Z</dcterms:modified>
  <cp:revision>40</cp:revision>
  <dc:subject/>
  <dc:title>Slide 1</dc:title>
</cp:coreProperties>
</file>