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D03-9B58-4F86-B8BF-F45C0976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26F-7F00-4542-937A-B2465A47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C2F-7004-43C4-BB9F-4C2D4D38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58A-1378-4BEE-907F-569BBE6A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8D6-5B91-47A7-A41A-1BAFC7DD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5EE-AB58-45DC-80B8-5585CE4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5CE-DE76-474B-8653-0DCFE2F3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4AA-9DF3-4968-A876-B828B5E4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1546-2A86-44A8-B321-C98C7406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7838-E3E7-4A85-BDB3-19D23FC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67DA-4256-4D6B-BAE6-29CB2A2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2E5-F3CB-4DF1-B30D-0C1452A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628A-DDD9-4BB7-9C23-AF5F7B4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6DB-42FB-4F93-AA8A-CF3F74F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9C5B-5AD5-48EB-89A1-38AAC97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4F0B-16E4-490D-8644-CF0F07FF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B037-5B14-4CDE-A111-E93907C0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AA7B-F2A3-4D0D-BE56-D4B1CDC6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25CE-2540-4DC0-ABD1-966BF93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6222-6CFD-4523-BA41-794A9A4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1ED4-439F-4B60-BE22-9600EDC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1A5E-31ED-4B7F-B1CC-98640B9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3B0-24D7-4FAF-A1B7-64D52642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0575-9210-43CA-B779-38114FE4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4FE5-048D-43E1-A478-B567ACE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D4A1-A8B8-46CD-9A33-F2BEABD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1F96-93EB-429C-B402-AB81E98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85F9-78B7-4567-83EB-61991EC4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7373-A1F9-4B1E-A766-31CE092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C7EC-8573-4C96-A161-B9449C02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2F34-22C5-4806-BB6E-94358B21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E23E9-553E-47EE-9AD2-3C69D72B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3833-6A15-4097-8502-C50249D4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FBA-5C9A-4843-B0CF-247CE638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BD00-296A-41FD-A3C0-AEA327B3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E3EF-F1EE-4A3B-A56D-5AB82A1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7FE7-B282-401E-858C-6A8EFCA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9D6B-7AB8-403B-8A92-9D4EB6F7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119F-70CC-4116-BC94-AE7A995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44C4-CAD8-4393-916A-B1D17AD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9841-581B-448E-99E1-FE1EC06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8D7A-3510-4055-9529-466E9C46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4CA1-41D7-4B9E-AF35-768BE2E2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E2E-3271-489B-9633-00EA4A08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16F-62EE-4A36-B196-7EE0DA80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961-B380-49BF-9253-7738AB5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91B-5B4F-4875-8E3C-745214D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C16-14A1-41ED-9A17-82F5D29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BB5B-16A8-4DAE-821D-BB13F59DC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ECB8-3F23-4BB4-A5BE-5E63ABAFA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CAF-B8E8-481F-9DE9-3AE017B03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9CA-5B41-42BB-8C97-82A55B2874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0"/>
          <p:cNvSpPr/>
          <p:nvPr/>
        </p:nvSpPr>
        <p:spPr>
          <a:xfrm>
            <a:off x="0" y="-2700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Wingdings"/>
                <a:ea typeface="Wingdings"/>
              </a:rPr>
              <a:t></a:t>
            </a:r>
            <a:endParaRPr b="0" lang="en-US" sz="3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684360" y="388296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390920" y="388296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0" descr="NCI_clove_ham[1]"/>
          <p:cNvPicPr/>
          <p:nvPr/>
        </p:nvPicPr>
        <p:blipFill>
          <a:blip r:embed="rId1"/>
          <a:stretch/>
        </p:blipFill>
        <p:spPr>
          <a:xfrm>
            <a:off x="2627280" y="2781360"/>
            <a:ext cx="4089600" cy="3647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2" descr="PH02763J"/>
          <p:cNvPicPr/>
          <p:nvPr/>
        </p:nvPicPr>
        <p:blipFill>
          <a:blip r:embed="rId1"/>
          <a:stretch/>
        </p:blipFill>
        <p:spPr>
          <a:xfrm>
            <a:off x="2143080" y="2852640"/>
            <a:ext cx="4857840" cy="375624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4" descr="http://www.healthline.com/hlcmsresource/images/diabetesmine/wp-content/uploads/2012/07/Vanilla-Ice-Cream-Cone.jpg"/>
          <p:cNvPicPr/>
          <p:nvPr/>
        </p:nvPicPr>
        <p:blipFill>
          <a:blip r:embed="rId1"/>
          <a:srcRect l="8941" t="4339" r="7237" b="3685"/>
          <a:stretch/>
        </p:blipFill>
        <p:spPr>
          <a:xfrm>
            <a:off x="3419640" y="2924280"/>
            <a:ext cx="2520720" cy="3473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1" descr="j0405246"/>
          <p:cNvPicPr/>
          <p:nvPr/>
        </p:nvPicPr>
        <p:blipFill>
          <a:blip r:embed="rId1"/>
          <a:srcRect l="11905" t="3928" r="24028" b="6304"/>
          <a:stretch/>
        </p:blipFill>
        <p:spPr>
          <a:xfrm>
            <a:off x="3132000" y="2997360"/>
            <a:ext cx="3240360" cy="32400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3" descr="oranges[1]"/>
          <p:cNvPicPr/>
          <p:nvPr/>
        </p:nvPicPr>
        <p:blipFill>
          <a:blip r:embed="rId1"/>
          <a:srcRect l="0" t="0" r="0" b="5712"/>
          <a:stretch/>
        </p:blipFill>
        <p:spPr>
          <a:xfrm>
            <a:off x="2843280" y="2997360"/>
            <a:ext cx="3673440" cy="337176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Pizza-Capricciosa[1]"/>
          <p:cNvPicPr/>
          <p:nvPr/>
        </p:nvPicPr>
        <p:blipFill>
          <a:blip r:embed="rId1"/>
          <a:srcRect l="5885" t="0" r="2940" b="0"/>
          <a:stretch/>
        </p:blipFill>
        <p:spPr>
          <a:xfrm>
            <a:off x="2120760" y="2924280"/>
            <a:ext cx="4902480" cy="3495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lemonade_glass[1]"/>
          <p:cNvPicPr/>
          <p:nvPr/>
        </p:nvPicPr>
        <p:blipFill>
          <a:blip r:embed="rId1"/>
          <a:stretch/>
        </p:blipFill>
        <p:spPr>
          <a:xfrm>
            <a:off x="3254400" y="2781360"/>
            <a:ext cx="2635200" cy="3797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2700360" y="2997360"/>
            <a:ext cx="4032360" cy="3125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9" descr="nanos_cheese_product2[1]"/>
          <p:cNvPicPr/>
          <p:nvPr/>
        </p:nvPicPr>
        <p:blipFill>
          <a:blip r:embed="rId1"/>
          <a:stretch/>
        </p:blipFill>
        <p:spPr>
          <a:xfrm>
            <a:off x="2163600" y="2827440"/>
            <a:ext cx="4712040" cy="36972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0"/>
          <p:cNvSpPr/>
          <p:nvPr/>
        </p:nvSpPr>
        <p:spPr>
          <a:xfrm>
            <a:off x="0" y="-2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Chocolate[1]"/>
          <p:cNvPicPr/>
          <p:nvPr/>
        </p:nvPicPr>
        <p:blipFill>
          <a:blip r:embed="rId1"/>
          <a:stretch/>
        </p:blipFill>
        <p:spPr>
          <a:xfrm>
            <a:off x="2484360" y="2852640"/>
            <a:ext cx="4608720" cy="36864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6:17Z</dcterms:modified>
  <cp:revision>43</cp:revision>
  <dc:subject/>
  <dc:title>Slide 1</dc:title>
</cp:coreProperties>
</file>