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FDC-6BFA-413C-9C7E-DF202F71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A1C-A695-47E3-845C-68FDEEA3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301-C7EE-4085-BEFA-66B78822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6A8-170A-4073-B2AB-E2AC24B3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6E0C-42DD-4B06-96F9-A5E57495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1F93-3828-4786-BA5C-604A8172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9306-F734-433B-8DE5-85BD1F75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E52F-D747-49C7-85E3-8AD6C61D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FE55-CF11-4F08-9CD6-92A0B64A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B7A3-90B7-4D0C-A72E-50A5F129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68EE-A89C-4E71-92FC-F654D3C4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1AC-77E4-4508-8369-407454C2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7048-3B22-4B12-9CC8-82EA8B9B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A15F-31EB-475B-B53F-0AA621F1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FAFC-C41F-492E-841B-62E59A8C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7F9E-6754-46CC-8B3F-6D6932E9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E9B3-59D4-477E-8BCC-DD730DAA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0877-2899-4926-89D1-3EB27BED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870FA-5002-4E00-8461-1E340F46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CC8F4-4F1C-4012-9901-150A274A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FD6E-67DB-4869-8A56-5EFF2BD1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224C-7817-4625-A526-EB2DB3AD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7A6-8D96-4E2D-BA4C-2688899A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3CD5A-55BD-400F-9557-AECA3C9A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284F-1AA4-4CAA-8D1C-6FF7317C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99C1-7B29-46BB-ACDA-402F9459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E690-F7B3-4447-9019-44385712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292B-A506-4C4A-8C97-81732B12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E747-E9B1-4B36-9B19-F68619DA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41E49-B7C7-43BF-99E4-AB27EDF0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20F75-BE7C-404E-8080-68E71BAB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24E2-2A22-4B85-AE56-931BD83A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A3B5B-6D71-4B48-8251-14908F64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FBA-9FCF-471B-91D1-DAE32476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5F11B-C866-4B32-A5AA-2D13395E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BDBC5-CC7C-4496-93A1-01CD5446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27412-C0DB-4968-88B9-59143E2A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C1F5F-6307-45E9-BF72-F168FB98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828AE-9F1B-4974-89DB-644CD0D9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94AB9-BB53-42D4-A5F9-63563873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F8F49-7585-4C4E-8E88-0ED2233A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B3472-9DFA-40A8-80C4-EA05BF92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5019-63E7-44ED-A9F1-FCCF5F57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465-93F9-4489-BC90-61AFF8F2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053-45B5-4526-B943-EC942C7E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45C-7ED9-4825-AE68-28CFE0DC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54A-7C7D-4797-A15B-F28DE183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414-DA57-4593-B2F6-E6A457B5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7468-A4FC-455A-8628-2B7F0EF8B3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1D19-43BB-4FC1-9AAA-DFE2336C17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2CE9-F589-42E6-8921-D868DF68F9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A8DF-D4AE-4C50-ABAB-52EF0642FFB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0"/>
          <p:cNvSpPr/>
          <p:nvPr/>
        </p:nvSpPr>
        <p:spPr>
          <a:xfrm>
            <a:off x="0" y="-27000"/>
            <a:ext cx="9144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Wingdings"/>
                <a:ea typeface="Wingdings"/>
              </a:rPr>
              <a:t></a:t>
            </a:r>
            <a:endParaRPr b="0" lang="en-US" sz="3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684360" y="388296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4390920" y="388296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0" descr="NCI_clove_ham[1]"/>
          <p:cNvPicPr/>
          <p:nvPr/>
        </p:nvPicPr>
        <p:blipFill>
          <a:blip r:embed="rId1"/>
          <a:stretch/>
        </p:blipFill>
        <p:spPr>
          <a:xfrm>
            <a:off x="2627280" y="2781360"/>
            <a:ext cx="4089600" cy="3647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2" descr="PH02763J"/>
          <p:cNvPicPr/>
          <p:nvPr/>
        </p:nvPicPr>
        <p:blipFill>
          <a:blip r:embed="rId1"/>
          <a:stretch/>
        </p:blipFill>
        <p:spPr>
          <a:xfrm>
            <a:off x="2143080" y="2852640"/>
            <a:ext cx="4857840" cy="375624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4" descr="http://www.healthline.com/hlcmsresource/images/diabetesmine/wp-content/uploads/2012/07/Vanilla-Ice-Cream-Cone.jpg"/>
          <p:cNvPicPr/>
          <p:nvPr/>
        </p:nvPicPr>
        <p:blipFill>
          <a:blip r:embed="rId1"/>
          <a:srcRect l="8941" t="4339" r="7237" b="3685"/>
          <a:stretch/>
        </p:blipFill>
        <p:spPr>
          <a:xfrm>
            <a:off x="3419640" y="2924280"/>
            <a:ext cx="2520720" cy="3473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1" descr="j0405246"/>
          <p:cNvPicPr/>
          <p:nvPr/>
        </p:nvPicPr>
        <p:blipFill>
          <a:blip r:embed="rId1"/>
          <a:srcRect l="11905" t="3928" r="24028" b="6304"/>
          <a:stretch/>
        </p:blipFill>
        <p:spPr>
          <a:xfrm>
            <a:off x="3132000" y="2997360"/>
            <a:ext cx="3240360" cy="32400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2843280" y="2997360"/>
            <a:ext cx="3673440" cy="337176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Pizza-Capricciosa[1]"/>
          <p:cNvPicPr/>
          <p:nvPr/>
        </p:nvPicPr>
        <p:blipFill>
          <a:blip r:embed="rId1"/>
          <a:srcRect l="5885" t="0" r="2940" b="0"/>
          <a:stretch/>
        </p:blipFill>
        <p:spPr>
          <a:xfrm>
            <a:off x="2120760" y="2924280"/>
            <a:ext cx="4902480" cy="3495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lemonade_glass[1]"/>
          <p:cNvPicPr/>
          <p:nvPr/>
        </p:nvPicPr>
        <p:blipFill>
          <a:blip r:embed="rId1"/>
          <a:stretch/>
        </p:blipFill>
        <p:spPr>
          <a:xfrm>
            <a:off x="3254400" y="2781360"/>
            <a:ext cx="2635200" cy="3797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2700360" y="2997360"/>
            <a:ext cx="4032360" cy="3125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9" descr="nanos_cheese_product2[1]"/>
          <p:cNvPicPr/>
          <p:nvPr/>
        </p:nvPicPr>
        <p:blipFill>
          <a:blip r:embed="rId1"/>
          <a:stretch/>
        </p:blipFill>
        <p:spPr>
          <a:xfrm>
            <a:off x="2163600" y="2827440"/>
            <a:ext cx="4712040" cy="36972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Chocolate[1]"/>
          <p:cNvPicPr/>
          <p:nvPr/>
        </p:nvPicPr>
        <p:blipFill>
          <a:blip r:embed="rId1"/>
          <a:stretch/>
        </p:blipFill>
        <p:spPr>
          <a:xfrm>
            <a:off x="2484360" y="2852640"/>
            <a:ext cx="4608720" cy="36864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5-23T11:16:17Z</dcterms:modified>
  <cp:revision>43</cp:revision>
  <dc:subject/>
  <dc:title>Slide 1</dc:title>
</cp:coreProperties>
</file>