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A60-7F0D-4124-B8B7-FB8DDA41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104-9D36-4612-A45D-2D97AD2F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8F5-0399-44E7-AB3D-1CE65DCD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4E5-487B-44D1-90A7-0BC71253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AA8-A5D6-408D-915F-1BD31943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6581-7558-4C20-8654-31968320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A8AC-0B11-462C-B559-A68BAA65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3114-6D63-4A22-9050-EE3AF73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CDEF-1E6C-4EF1-9683-F42E1C58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B4AE-F836-41C6-B48C-B66EC235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EBF-4C1C-4B36-AEC2-F3054CF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E59-1589-499D-845F-46014479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B54-ED1D-4B34-AE6C-3D96800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5C01-A7DE-4705-935B-2429C67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F553-D7FE-42EE-8F3D-B322CE46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5C7-2353-4C0B-9227-CC1E9251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A456-9C75-49BA-8F92-58C00111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552B-DFC8-4A9E-A6AE-AF22AE7F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BE50-7D48-481B-80D1-BCC3CCA0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6640-1767-4EBE-BA50-760DABF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90E5-EE7B-4324-9F21-4FD87436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4FE0-246D-46BA-9C87-31F8A2C2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4C1-BC8D-403F-BAF6-23055784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96B9-04E2-4D67-91D2-80623DB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B5EA-0761-4343-8BEC-2A021A9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CEAC-8D9E-4B45-ACB3-256F5824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28FF-5B3D-429F-BEA6-D70422E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2D8B-C0E8-4AE2-AB30-E5B55AC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B219-2986-43BC-9499-FAE79790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4FD7-76EE-4B46-AC8B-7B300E8C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A272-C7A3-48A2-B67C-14847AE3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1914-207A-404E-A011-8A398D2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4289-8010-44B9-BC6E-914A8EF3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74C-0D6C-4CB0-8166-0DE4847B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D281-EE64-4AAC-A6E8-43307C4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64B4-D81D-4911-BD63-71593F79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C452-806D-4806-852A-6783995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57A3-9494-4003-A77A-64E860DE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EA93-0927-46D9-971A-12C3C08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F343-5CE9-4F64-AE58-B589B49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7217-7776-4C7A-B8BD-03A25EF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B26D-A85D-4C19-AA32-1D5A0077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C25A0-5D51-45FF-AD05-5C80D012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CCA-ABD4-437C-AA92-461A1E8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CBA-F868-4CD6-8B65-01A9B112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222-1C33-4882-90DA-7CFCE694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CDA-E9D8-4C88-B7AE-97F146A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3F7-FFC9-4E28-992A-14182AB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CA0-BDDF-4622-A958-4FA7B547F9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837C-7361-48AD-81E7-3988C85A9D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91D-56A9-477E-BFB7-F4443F6CE0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DD8D-60C0-4A76-9BC0-7698E17F0A9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1125360"/>
            <a:ext cx="3635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 fr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broth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95280" y="3716280"/>
            <a:ext cx="287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 p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da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292720" y="1125360"/>
            <a:ext cx="4067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e cous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(girl) cous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50920" y="5373720"/>
            <a:ext cx="4645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e grand-m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 grandmoth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292720" y="4076640"/>
            <a:ext cx="3419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 onc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an un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132000" y="2492280"/>
            <a:ext cx="331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entury Gothic"/>
              </a:rPr>
              <a:t>un copai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Gothic"/>
              </a:rPr>
              <a:t>a (boy) frie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-252360" y="90792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5364000" y="105264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700360" y="234936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-252360" y="350028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4859280" y="3860640"/>
            <a:ext cx="4032360" cy="1584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34920" y="5208480"/>
            <a:ext cx="5040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219640" y="5661000"/>
            <a:ext cx="3745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entury Gothic"/>
              </a:rPr>
              <a:t>une soeu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entury Gothic"/>
              </a:rPr>
              <a:t>my sis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5111640" y="5445000"/>
            <a:ext cx="4032360" cy="15843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19"/>
          <p:cNvSpPr/>
          <p:nvPr/>
        </p:nvSpPr>
        <p:spPr>
          <a:xfrm>
            <a:off x="684360" y="1197000"/>
            <a:ext cx="863280" cy="7192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274920" y="2550960"/>
            <a:ext cx="865440" cy="7192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21"/>
          <p:cNvSpPr/>
          <p:nvPr/>
        </p:nvSpPr>
        <p:spPr>
          <a:xfrm>
            <a:off x="5724360" y="4148280"/>
            <a:ext cx="863640" cy="71892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22"/>
          <p:cNvSpPr/>
          <p:nvPr/>
        </p:nvSpPr>
        <p:spPr>
          <a:xfrm>
            <a:off x="5541840" y="1233360"/>
            <a:ext cx="1262160" cy="720720"/>
          </a:xfrm>
          <a:prstGeom prst="ellipse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Oval 23"/>
          <p:cNvSpPr/>
          <p:nvPr/>
        </p:nvSpPr>
        <p:spPr>
          <a:xfrm>
            <a:off x="5670720" y="5732640"/>
            <a:ext cx="1277640" cy="718920"/>
          </a:xfrm>
          <a:prstGeom prst="ellipse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214200" y="5425920"/>
            <a:ext cx="1262160" cy="719280"/>
          </a:xfrm>
          <a:prstGeom prst="ellipse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684360" y="3754440"/>
            <a:ext cx="863280" cy="7192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apiz"/>
          <p:cNvPicPr/>
          <p:nvPr/>
        </p:nvPicPr>
        <p:blipFill>
          <a:blip r:embed="rId1"/>
          <a:stretch/>
        </p:blipFill>
        <p:spPr>
          <a:xfrm>
            <a:off x="225360" y="1833480"/>
            <a:ext cx="1590840" cy="974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boligrafo"/>
          <p:cNvPicPr/>
          <p:nvPr/>
        </p:nvPicPr>
        <p:blipFill>
          <a:blip r:embed="rId2"/>
          <a:stretch/>
        </p:blipFill>
        <p:spPr>
          <a:xfrm>
            <a:off x="225360" y="1116000"/>
            <a:ext cx="1590840" cy="50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goma"/>
          <p:cNvPicPr/>
          <p:nvPr/>
        </p:nvPicPr>
        <p:blipFill>
          <a:blip r:embed="rId3"/>
          <a:stretch/>
        </p:blipFill>
        <p:spPr>
          <a:xfrm>
            <a:off x="225360" y="2995560"/>
            <a:ext cx="1590840" cy="9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sacapuntas"/>
          <p:cNvPicPr/>
          <p:nvPr/>
        </p:nvPicPr>
        <p:blipFill>
          <a:blip r:embed="rId4"/>
          <a:stretch/>
        </p:blipFill>
        <p:spPr>
          <a:xfrm>
            <a:off x="225360" y="4138560"/>
            <a:ext cx="1295640" cy="12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estuche"/>
          <p:cNvPicPr/>
          <p:nvPr/>
        </p:nvPicPr>
        <p:blipFill>
          <a:blip r:embed="rId5"/>
          <a:stretch/>
        </p:blipFill>
        <p:spPr>
          <a:xfrm>
            <a:off x="225360" y="5594400"/>
            <a:ext cx="1306440" cy="847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uaderno"/>
          <p:cNvPicPr/>
          <p:nvPr/>
        </p:nvPicPr>
        <p:blipFill>
          <a:blip r:embed="rId6"/>
          <a:stretch/>
        </p:blipFill>
        <p:spPr>
          <a:xfrm>
            <a:off x="4427640" y="2187720"/>
            <a:ext cx="1887480" cy="127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papel"/>
          <p:cNvPicPr/>
          <p:nvPr/>
        </p:nvPicPr>
        <p:blipFill>
          <a:blip r:embed="rId7"/>
          <a:stretch/>
        </p:blipFill>
        <p:spPr>
          <a:xfrm>
            <a:off x="4427640" y="4862520"/>
            <a:ext cx="1912680" cy="1041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libro"/>
          <p:cNvPicPr/>
          <p:nvPr/>
        </p:nvPicPr>
        <p:blipFill>
          <a:blip r:embed="rId8"/>
          <a:stretch/>
        </p:blipFill>
        <p:spPr>
          <a:xfrm>
            <a:off x="4430880" y="3638520"/>
            <a:ext cx="1909440" cy="105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rotulador"/>
          <p:cNvPicPr/>
          <p:nvPr/>
        </p:nvPicPr>
        <p:blipFill>
          <a:blip r:embed="rId9"/>
          <a:stretch/>
        </p:blipFill>
        <p:spPr>
          <a:xfrm>
            <a:off x="4427640" y="6105600"/>
            <a:ext cx="1912680" cy="493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regla"/>
          <p:cNvPicPr/>
          <p:nvPr/>
        </p:nvPicPr>
        <p:blipFill>
          <a:blip r:embed="rId10"/>
          <a:stretch/>
        </p:blipFill>
        <p:spPr>
          <a:xfrm>
            <a:off x="4427640" y="1052640"/>
            <a:ext cx="1873080" cy="9363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6d6f5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d6d6f5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1793880" y="10018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styl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1793880" y="1952640"/>
            <a:ext cx="24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ray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785960" y="3052800"/>
            <a:ext cx="276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gom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521000" y="4176720"/>
            <a:ext cx="290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taille-cray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1454040" y="563256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trous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6315120" y="1130400"/>
            <a:ext cx="24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règ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6340320" y="2349360"/>
            <a:ext cx="24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ahi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6362640" y="3760920"/>
            <a:ext cx="24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liv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6342120" y="4935600"/>
            <a:ext cx="24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papi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6362640" y="5973840"/>
            <a:ext cx="24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feut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1614600" y="907920"/>
            <a:ext cx="238104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1646280" y="1852560"/>
            <a:ext cx="260352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1739880" y="2954160"/>
            <a:ext cx="298620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454040" y="4148280"/>
            <a:ext cx="2379600" cy="149544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1370160" y="5632560"/>
            <a:ext cx="3125520" cy="9126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6156360" y="1085760"/>
            <a:ext cx="2616120" cy="9144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6156360" y="2301840"/>
            <a:ext cx="264168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6240600" y="3681360"/>
            <a:ext cx="238104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156360" y="4842000"/>
            <a:ext cx="2641680" cy="91260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202440" y="5894280"/>
            <a:ext cx="2833560" cy="912960"/>
          </a:xfrm>
          <a:prstGeom prst="ellipse">
            <a:avLst/>
          </a:prstGeom>
          <a:noFill/>
          <a:ln w="57240">
            <a:solidFill>
              <a:srgbClr val="ada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9:52Z</dcterms:modified>
  <cp:revision>50</cp:revision>
  <dc:subject/>
  <dc:title>Slide 1</dc:title>
</cp:coreProperties>
</file>