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AE7-6EED-440D-8F4A-DBB1C542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909-FF0F-4E97-8277-47711141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27D-CB0C-4B83-BB6E-FE19A5E9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C69-C88F-4E71-9D30-F415CB20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B9F0-3AEA-433B-9C0F-B7FB1598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F5E3-7FD6-4B8F-935B-E9B6F0FE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9964-64F7-4669-80B5-E0F4308E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94D3-EDD0-4A4A-A6C2-45C2215A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9507-92C8-49C6-B061-5AEF9CA0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30C5-E0A4-420D-B254-E93A0925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D64A-3398-4404-9DD8-955583F9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92E-8E87-4CE0-8C1B-3965B82D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5FA7-63E5-45C9-B906-A73DB5D9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825D-C06F-4BC9-877E-9A6EDFED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CF19-D63C-439C-A30A-2DEE0BB8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B783-2717-4151-A772-6E99F179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252D-E74A-4FFD-B22C-6E032829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B40CF-FF93-43FD-BEA5-A25E5414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5738F-DE02-4144-8037-785A16D1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30D78-A7FE-4951-8625-8ADC742F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D3A68-651F-4DE9-9136-59824440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A99B0-750B-4125-A849-4953F77D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33D-1480-4E9D-B48B-024B68F7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C9C2C-F069-47BE-BFBE-EB46FA8B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20DCC-0FF1-4C9E-80F1-D679F24B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479C-3826-41C3-AF92-9CD8A2A5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AC5C8-1159-44F3-95B4-4B80B3BA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C4B1-FE54-4299-B04E-F9381059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A8576-8C2D-4090-AFD4-E2C27DB5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6FCD-E42C-47B2-BBF1-EAFE8C52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AEBC9-5BF8-4F56-9E99-C1A695EA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552D-B870-4860-9551-7B25702D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22FE8-5754-469B-9841-122359C9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D8B-F468-4610-9C16-EADC00CA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2EA40-DA1E-415E-A433-35ED2A06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1B3D1-F7D6-4784-AC0F-F552C9B3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7989F-A804-49F7-85E5-2E29747E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16266-2789-4774-B360-131F056A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3C9A1-A10C-4FA5-ACE2-1FA53638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60A8B-DBB9-45A1-A776-D3DD3A70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80A7E-6B59-400B-9CC4-EE555928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E0FCC-2148-42DE-AEB8-A620EC3C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9DB28-59A9-479C-90C0-13A8ECF6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7E3-EE71-4924-AB6F-FA0A6A24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77A-0AD6-4127-8CD9-7BE8F42D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5A89-9AFE-47D3-BF5B-DC881E26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55B-028E-45EE-B77E-4CDC9669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578-3E56-42DE-9C6F-72A3CC36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B51A-62C4-43D7-A46E-348045103B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33FC-D811-4775-9547-4EC5E21D71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9FED-E608-4B39-A68D-D8B3C33FDA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6F09-0A3D-4435-A25B-6D39C805463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cc"/>
                </a:solidFill>
                <a:latin typeface="Comic Sans MS"/>
              </a:rPr>
              <a:t>masculine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or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f0066"/>
                </a:solidFill>
                <a:latin typeface="Comic Sans MS"/>
              </a:rPr>
              <a:t>feminine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1125360"/>
            <a:ext cx="3635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entury Gothic"/>
              </a:rPr>
              <a:t>un frè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entury Gothic"/>
              </a:rPr>
              <a:t>a broth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95280" y="3716280"/>
            <a:ext cx="2879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entury Gothic"/>
              </a:rPr>
              <a:t>un pè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entury Gothic"/>
              </a:rPr>
              <a:t>a da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292720" y="1125360"/>
            <a:ext cx="4067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entury Gothic"/>
              </a:rPr>
              <a:t>une cousin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entury Gothic"/>
              </a:rPr>
              <a:t>a (girl) cousi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50920" y="5373720"/>
            <a:ext cx="4645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entury Gothic"/>
              </a:rPr>
              <a:t>une grand-mè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entury Gothic"/>
              </a:rPr>
              <a:t>a grandmoth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292720" y="4076640"/>
            <a:ext cx="3419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entury Gothic"/>
              </a:rPr>
              <a:t>un oncl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entury Gothic"/>
              </a:rPr>
              <a:t>an unc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3132000" y="2492280"/>
            <a:ext cx="3311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entury Gothic"/>
              </a:rPr>
              <a:t>un copai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entury Gothic"/>
              </a:rPr>
              <a:t>a (boy) frien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-252360" y="907920"/>
            <a:ext cx="4032360" cy="1584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5364000" y="1052640"/>
            <a:ext cx="4032360" cy="15843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700360" y="2349360"/>
            <a:ext cx="4032360" cy="1584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-252360" y="3500280"/>
            <a:ext cx="4032360" cy="1584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4859280" y="3860640"/>
            <a:ext cx="4032360" cy="1584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34920" y="5208480"/>
            <a:ext cx="5040360" cy="15843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219640" y="5661000"/>
            <a:ext cx="3745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entury Gothic"/>
              </a:rPr>
              <a:t>une soeu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entury Gothic"/>
              </a:rPr>
              <a:t>my sist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Oval 18"/>
          <p:cNvSpPr/>
          <p:nvPr/>
        </p:nvSpPr>
        <p:spPr>
          <a:xfrm>
            <a:off x="5111640" y="5445000"/>
            <a:ext cx="4032360" cy="15843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Oval 19"/>
          <p:cNvSpPr/>
          <p:nvPr/>
        </p:nvSpPr>
        <p:spPr>
          <a:xfrm>
            <a:off x="684360" y="1197000"/>
            <a:ext cx="863280" cy="719280"/>
          </a:xfrm>
          <a:prstGeom prst="ellipse">
            <a:avLst/>
          </a:prstGeom>
          <a:noFill/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Oval 20"/>
          <p:cNvSpPr/>
          <p:nvPr/>
        </p:nvSpPr>
        <p:spPr>
          <a:xfrm>
            <a:off x="3274920" y="2550960"/>
            <a:ext cx="865440" cy="719280"/>
          </a:xfrm>
          <a:prstGeom prst="ellipse">
            <a:avLst/>
          </a:prstGeom>
          <a:noFill/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Oval 21"/>
          <p:cNvSpPr/>
          <p:nvPr/>
        </p:nvSpPr>
        <p:spPr>
          <a:xfrm>
            <a:off x="5724360" y="4148280"/>
            <a:ext cx="863640" cy="718920"/>
          </a:xfrm>
          <a:prstGeom prst="ellipse">
            <a:avLst/>
          </a:prstGeom>
          <a:noFill/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Oval 22"/>
          <p:cNvSpPr/>
          <p:nvPr/>
        </p:nvSpPr>
        <p:spPr>
          <a:xfrm>
            <a:off x="5541840" y="1233360"/>
            <a:ext cx="1262160" cy="720720"/>
          </a:xfrm>
          <a:prstGeom prst="ellipse">
            <a:avLst/>
          </a:prstGeom>
          <a:noFill/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Oval 23"/>
          <p:cNvSpPr/>
          <p:nvPr/>
        </p:nvSpPr>
        <p:spPr>
          <a:xfrm>
            <a:off x="5670720" y="5732640"/>
            <a:ext cx="1277640" cy="718920"/>
          </a:xfrm>
          <a:prstGeom prst="ellipse">
            <a:avLst/>
          </a:prstGeom>
          <a:noFill/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Oval 24"/>
          <p:cNvSpPr/>
          <p:nvPr/>
        </p:nvSpPr>
        <p:spPr>
          <a:xfrm>
            <a:off x="214200" y="5425920"/>
            <a:ext cx="1262160" cy="719280"/>
          </a:xfrm>
          <a:prstGeom prst="ellipse">
            <a:avLst/>
          </a:prstGeom>
          <a:noFill/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Oval 26"/>
          <p:cNvSpPr/>
          <p:nvPr/>
        </p:nvSpPr>
        <p:spPr>
          <a:xfrm>
            <a:off x="684360" y="3754440"/>
            <a:ext cx="863280" cy="719280"/>
          </a:xfrm>
          <a:prstGeom prst="ellipse">
            <a:avLst/>
          </a:prstGeom>
          <a:noFill/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apiz"/>
          <p:cNvPicPr/>
          <p:nvPr/>
        </p:nvPicPr>
        <p:blipFill>
          <a:blip r:embed="rId1"/>
          <a:stretch/>
        </p:blipFill>
        <p:spPr>
          <a:xfrm>
            <a:off x="225360" y="1833480"/>
            <a:ext cx="1590840" cy="974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boligrafo"/>
          <p:cNvPicPr/>
          <p:nvPr/>
        </p:nvPicPr>
        <p:blipFill>
          <a:blip r:embed="rId2"/>
          <a:stretch/>
        </p:blipFill>
        <p:spPr>
          <a:xfrm>
            <a:off x="225360" y="1116000"/>
            <a:ext cx="1590840" cy="503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goma"/>
          <p:cNvPicPr/>
          <p:nvPr/>
        </p:nvPicPr>
        <p:blipFill>
          <a:blip r:embed="rId3"/>
          <a:stretch/>
        </p:blipFill>
        <p:spPr>
          <a:xfrm>
            <a:off x="225360" y="2995560"/>
            <a:ext cx="1590840" cy="947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sacapuntas"/>
          <p:cNvPicPr/>
          <p:nvPr/>
        </p:nvPicPr>
        <p:blipFill>
          <a:blip r:embed="rId4"/>
          <a:stretch/>
        </p:blipFill>
        <p:spPr>
          <a:xfrm>
            <a:off x="225360" y="4138560"/>
            <a:ext cx="1295640" cy="126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estuche"/>
          <p:cNvPicPr/>
          <p:nvPr/>
        </p:nvPicPr>
        <p:blipFill>
          <a:blip r:embed="rId5"/>
          <a:stretch/>
        </p:blipFill>
        <p:spPr>
          <a:xfrm>
            <a:off x="225360" y="5594400"/>
            <a:ext cx="1306440" cy="847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cuaderno"/>
          <p:cNvPicPr/>
          <p:nvPr/>
        </p:nvPicPr>
        <p:blipFill>
          <a:blip r:embed="rId6"/>
          <a:stretch/>
        </p:blipFill>
        <p:spPr>
          <a:xfrm>
            <a:off x="4427640" y="2187720"/>
            <a:ext cx="1887480" cy="1277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papel"/>
          <p:cNvPicPr/>
          <p:nvPr/>
        </p:nvPicPr>
        <p:blipFill>
          <a:blip r:embed="rId7"/>
          <a:stretch/>
        </p:blipFill>
        <p:spPr>
          <a:xfrm>
            <a:off x="4427640" y="4862520"/>
            <a:ext cx="1912680" cy="1041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libro"/>
          <p:cNvPicPr/>
          <p:nvPr/>
        </p:nvPicPr>
        <p:blipFill>
          <a:blip r:embed="rId8"/>
          <a:stretch/>
        </p:blipFill>
        <p:spPr>
          <a:xfrm>
            <a:off x="4430880" y="3638520"/>
            <a:ext cx="1909440" cy="1050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rotulador"/>
          <p:cNvPicPr/>
          <p:nvPr/>
        </p:nvPicPr>
        <p:blipFill>
          <a:blip r:embed="rId9"/>
          <a:stretch/>
        </p:blipFill>
        <p:spPr>
          <a:xfrm>
            <a:off x="4427640" y="6105600"/>
            <a:ext cx="1912680" cy="493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regla"/>
          <p:cNvPicPr/>
          <p:nvPr/>
        </p:nvPicPr>
        <p:blipFill>
          <a:blip r:embed="rId10"/>
          <a:stretch/>
        </p:blipFill>
        <p:spPr>
          <a:xfrm>
            <a:off x="4427640" y="1052640"/>
            <a:ext cx="1873080" cy="9363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6d6f5"/>
                </a:solidFill>
                <a:latin typeface="Comic Sans MS"/>
              </a:rPr>
              <a:t>masculine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or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f0066"/>
                </a:solidFill>
                <a:latin typeface="Comic Sans MS"/>
              </a:rPr>
              <a:t>feminine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d6d6f5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1793880" y="10018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styl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1793880" y="1952640"/>
            <a:ext cx="245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cray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785960" y="3052800"/>
            <a:ext cx="276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gomm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521000" y="4176720"/>
            <a:ext cx="290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taille-cray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1454040" y="5632560"/>
            <a:ext cx="30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trouss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6315120" y="1130400"/>
            <a:ext cx="24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règ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TextBox 18"/>
          <p:cNvSpPr/>
          <p:nvPr/>
        </p:nvSpPr>
        <p:spPr>
          <a:xfrm>
            <a:off x="6340320" y="2349360"/>
            <a:ext cx="24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cahi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Box 19"/>
          <p:cNvSpPr/>
          <p:nvPr/>
        </p:nvSpPr>
        <p:spPr>
          <a:xfrm>
            <a:off x="6362640" y="3760920"/>
            <a:ext cx="24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liv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TextBox 20"/>
          <p:cNvSpPr/>
          <p:nvPr/>
        </p:nvSpPr>
        <p:spPr>
          <a:xfrm>
            <a:off x="6342120" y="4935600"/>
            <a:ext cx="245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papi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TextBox 21"/>
          <p:cNvSpPr/>
          <p:nvPr/>
        </p:nvSpPr>
        <p:spPr>
          <a:xfrm>
            <a:off x="6362640" y="5973840"/>
            <a:ext cx="24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feut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Oval 10"/>
          <p:cNvSpPr/>
          <p:nvPr/>
        </p:nvSpPr>
        <p:spPr>
          <a:xfrm>
            <a:off x="1614600" y="907920"/>
            <a:ext cx="2381040" cy="912960"/>
          </a:xfrm>
          <a:prstGeom prst="ellipse">
            <a:avLst/>
          </a:prstGeom>
          <a:noFill/>
          <a:ln w="57240">
            <a:solidFill>
              <a:srgbClr val="ad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Oval 10"/>
          <p:cNvSpPr/>
          <p:nvPr/>
        </p:nvSpPr>
        <p:spPr>
          <a:xfrm>
            <a:off x="1646280" y="1852560"/>
            <a:ext cx="2603520" cy="912960"/>
          </a:xfrm>
          <a:prstGeom prst="ellipse">
            <a:avLst/>
          </a:prstGeom>
          <a:noFill/>
          <a:ln w="57240">
            <a:solidFill>
              <a:srgbClr val="ad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1739880" y="2954160"/>
            <a:ext cx="2986200" cy="9129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1454040" y="4148280"/>
            <a:ext cx="2379600" cy="1495440"/>
          </a:xfrm>
          <a:prstGeom prst="ellipse">
            <a:avLst/>
          </a:prstGeom>
          <a:noFill/>
          <a:ln w="57240">
            <a:solidFill>
              <a:srgbClr val="ad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Oval 10"/>
          <p:cNvSpPr/>
          <p:nvPr/>
        </p:nvSpPr>
        <p:spPr>
          <a:xfrm>
            <a:off x="1370160" y="5632560"/>
            <a:ext cx="3125520" cy="9126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6156360" y="1085760"/>
            <a:ext cx="2616120" cy="9144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6156360" y="2301840"/>
            <a:ext cx="2641680" cy="912960"/>
          </a:xfrm>
          <a:prstGeom prst="ellipse">
            <a:avLst/>
          </a:prstGeom>
          <a:noFill/>
          <a:ln w="57240">
            <a:solidFill>
              <a:srgbClr val="ad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6240600" y="3681360"/>
            <a:ext cx="2381040" cy="912960"/>
          </a:xfrm>
          <a:prstGeom prst="ellipse">
            <a:avLst/>
          </a:prstGeom>
          <a:noFill/>
          <a:ln w="57240">
            <a:solidFill>
              <a:srgbClr val="ad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156360" y="4842000"/>
            <a:ext cx="2641680" cy="912600"/>
          </a:xfrm>
          <a:prstGeom prst="ellipse">
            <a:avLst/>
          </a:prstGeom>
          <a:noFill/>
          <a:ln w="57240">
            <a:solidFill>
              <a:srgbClr val="ad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6202440" y="5894280"/>
            <a:ext cx="2833560" cy="912960"/>
          </a:xfrm>
          <a:prstGeom prst="ellipse">
            <a:avLst/>
          </a:prstGeom>
          <a:noFill/>
          <a:ln w="57240">
            <a:solidFill>
              <a:srgbClr val="ad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9-21T13:49:52Z</dcterms:modified>
  <cp:revision>50</cp:revision>
  <dc:subject/>
  <dc:title>Slide 1</dc:title>
</cp:coreProperties>
</file>