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4EA-4E2D-40C8-BB1B-C4628E04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1C8-41DB-4371-97E9-26862E57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C0F-D895-4ACB-951F-A8A67B8F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A83-067B-4910-8956-3D95B1BE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2629-8DC5-48B7-BB5F-1C056DFB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DD71-727A-4338-8859-7527F9F6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D15-A69B-42E7-B692-82E2334C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E3BE-0523-4276-96F1-DC3AB140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71B2-3113-4164-97BC-22EC7C62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6304-BBC5-4296-818A-146FB1B4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5F05-C49F-476D-8317-29E5F794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FA2-9205-4697-B941-F05F9DF9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D690-80E4-479F-9E4C-092AFF6E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36F3-B0C9-41BD-AD5C-88E9FA0F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D688-8C41-469E-BB04-B535A7B6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31CC-1EC3-4AF9-BCC1-57C46C68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3D14-865B-47CE-A58E-12ECE918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7C41-E358-48BD-BC4E-E2DC52F5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D82F-79D6-49E9-BD04-7BC233B1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80B36-E55E-421C-88F0-8EE6722C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5EF6-299E-41B2-849A-3F997252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0ED8-FCD4-477B-A624-1F069221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2E5-0C46-4F9E-9BB9-35608B87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B92F-FADA-4E11-A322-63AD6D68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B25AD-3EAB-4E0B-B623-41ED5729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5287-6876-49CF-881E-32DA417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9A67-2626-4A2C-8FC4-07917ED2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ECDF-A17C-4D05-930E-4636DD00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6E44-057A-4A36-A682-BC45BED5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DF923-52CE-4A14-AF97-563F0E51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18492-9BD1-423A-9803-DDAB1E1A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0B71-955E-4338-B0ED-267A992F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3DDA0-5AD4-4B3C-BD53-E343FC36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418-66EF-4BC2-B2CE-C965C334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C7390-C764-4E8D-80FB-6FF2BF4C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79A92-F0DE-4EC9-BB07-7F217CBE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453F1-5293-4D71-8BA5-D91DB2F8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17C8-6835-414E-BF74-D8C589C1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830EC-60DB-4613-9755-0EBDC4A5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0C9A6-A570-41C5-95C9-FF47F7C6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56F10-B0E5-49A3-AD50-C705758B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C7556-D00A-4AB8-8461-72C467BC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40A42-A3A4-4009-BF56-BFD6E83A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2ED-D06C-4828-B217-8ADE3030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584-85BF-43DD-9B08-B2247403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238-4C87-478C-9F1C-6A443E26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BF6-67F6-4487-91D6-AEE10F39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079-79BD-43D0-B32B-9178A9CE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20A9-8005-45C9-893A-DA0F5B7303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A87D-8DF2-4668-998E-8C71C4A91F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5C56-B373-43B8-BFB9-78B24E3CA6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E5FF-CC15-48C9-A0FF-6C56912EE52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3bbff"/>
                </a:solidFill>
                <a:latin typeface="Comic Sans MS"/>
              </a:rPr>
              <a:t>mascul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or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f0066"/>
                </a:solidFill>
                <a:latin typeface="Comic Sans MS"/>
              </a:rPr>
              <a:t>femin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d6d6f5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839960" y="89208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croix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1793880" y="195264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abeil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1785960" y="3052800"/>
            <a:ext cx="27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blas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1521000" y="4408560"/>
            <a:ext cx="290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papill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1481040" y="5384880"/>
            <a:ext cx="304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sauterel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17"/>
          <p:cNvSpPr/>
          <p:nvPr/>
        </p:nvSpPr>
        <p:spPr>
          <a:xfrm>
            <a:off x="6315120" y="905040"/>
            <a:ext cx="23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coeu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6229440" y="2352600"/>
            <a:ext cx="30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carott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6362640" y="3760920"/>
            <a:ext cx="267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poiss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6342120" y="4935600"/>
            <a:ext cx="26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étoi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1749600" y="822240"/>
            <a:ext cx="263520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1646280" y="1852560"/>
            <a:ext cx="278136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1739880" y="2954160"/>
            <a:ext cx="2482920" cy="912960"/>
          </a:xfrm>
          <a:prstGeom prst="ellipse">
            <a:avLst/>
          </a:prstGeom>
          <a:noFill/>
          <a:ln w="57240">
            <a:solidFill>
              <a:srgbClr val="73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1454040" y="4148280"/>
            <a:ext cx="2775240" cy="1081080"/>
          </a:xfrm>
          <a:prstGeom prst="ellipse">
            <a:avLst/>
          </a:prstGeom>
          <a:noFill/>
          <a:ln w="57240">
            <a:solidFill>
              <a:srgbClr val="73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1370160" y="5375160"/>
            <a:ext cx="3125520" cy="14828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6156360" y="860400"/>
            <a:ext cx="2465280" cy="914400"/>
          </a:xfrm>
          <a:prstGeom prst="ellipse">
            <a:avLst/>
          </a:prstGeom>
          <a:noFill/>
          <a:ln w="57240">
            <a:solidFill>
              <a:srgbClr val="73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6156360" y="2301840"/>
            <a:ext cx="298764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6240600" y="3681360"/>
            <a:ext cx="2762280" cy="912960"/>
          </a:xfrm>
          <a:prstGeom prst="ellipse">
            <a:avLst/>
          </a:prstGeom>
          <a:noFill/>
          <a:ln w="57240">
            <a:solidFill>
              <a:srgbClr val="73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6156360" y="4842000"/>
            <a:ext cx="2641680" cy="9126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6202440" y="5924520"/>
            <a:ext cx="2833560" cy="912960"/>
          </a:xfrm>
          <a:prstGeom prst="ellipse">
            <a:avLst/>
          </a:prstGeom>
          <a:noFill/>
          <a:ln w="57240">
            <a:solidFill>
              <a:srgbClr val="73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6375240" y="5985000"/>
            <a:ext cx="26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cerc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Cross 2"/>
          <p:cNvSpPr/>
          <p:nvPr/>
        </p:nvSpPr>
        <p:spPr>
          <a:xfrm>
            <a:off x="501480" y="719280"/>
            <a:ext cx="1011240" cy="1015920"/>
          </a:xfrm>
          <a:prstGeom prst="plus">
            <a:avLst>
              <a:gd name="adj" fmla="val 34440"/>
            </a:avLst>
          </a:prstGeom>
          <a:solidFill>
            <a:srgbClr val="ffc000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530280" y="173520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189" name="Flowchart: Delay 4"/>
          <p:cNvSpPr/>
          <p:nvPr/>
        </p:nvSpPr>
        <p:spPr>
          <a:xfrm rot="5400000">
            <a:off x="603720" y="2993040"/>
            <a:ext cx="900360" cy="822240"/>
          </a:xfrm>
          <a:prstGeom prst="flowChartDelay">
            <a:avLst/>
          </a:prstGeom>
          <a:solidFill>
            <a:srgbClr val="ffcccc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-142920" y="4000680"/>
            <a:ext cx="1789200" cy="1341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-73080" y="5405400"/>
            <a:ext cx="1443240" cy="1082880"/>
          </a:xfrm>
          <a:prstGeom prst="rect">
            <a:avLst/>
          </a:prstGeom>
          <a:ln w="0">
            <a:noFill/>
          </a:ln>
        </p:spPr>
      </p:pic>
      <p:sp>
        <p:nvSpPr>
          <p:cNvPr id="192" name="Heart 7"/>
          <p:cNvSpPr/>
          <p:nvPr/>
        </p:nvSpPr>
        <p:spPr>
          <a:xfrm>
            <a:off x="5346720" y="954000"/>
            <a:ext cx="720720" cy="722520"/>
          </a:xfrm>
          <a:custGeom>
            <a:avLst/>
            <a:gdLst/>
            <a:ahLst/>
            <a:rect l="l" t="t" r="r" b="b"/>
            <a:pathLst>
              <a:path w="720725" h="722312">
                <a:moveTo>
                  <a:pt x="360363" y="180578"/>
                </a:moveTo>
                <a:cubicBezTo>
                  <a:pt x="510514" y="-240771"/>
                  <a:pt x="1096103" y="180578"/>
                  <a:pt x="360363" y="722312"/>
                </a:cubicBezTo>
                <a:cubicBezTo>
                  <a:pt x="-375378" y="180578"/>
                  <a:pt x="210211" y="-240771"/>
                  <a:pt x="360363" y="180578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4"/>
          <a:stretch/>
        </p:blipFill>
        <p:spPr>
          <a:xfrm>
            <a:off x="5089680" y="2011320"/>
            <a:ext cx="1187280" cy="107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5"/>
          <a:stretch/>
        </p:blipFill>
        <p:spPr>
          <a:xfrm>
            <a:off x="4494240" y="3637080"/>
            <a:ext cx="1660320" cy="996840"/>
          </a:xfrm>
          <a:prstGeom prst="rect">
            <a:avLst/>
          </a:prstGeom>
          <a:ln w="0">
            <a:noFill/>
          </a:ln>
        </p:spPr>
      </p:pic>
      <p:sp>
        <p:nvSpPr>
          <p:cNvPr id="195" name="5-Point Star 12"/>
          <p:cNvSpPr/>
          <p:nvPr/>
        </p:nvSpPr>
        <p:spPr>
          <a:xfrm>
            <a:off x="4842000" y="4599000"/>
            <a:ext cx="1127160" cy="1049400"/>
          </a:xfrm>
          <a:custGeom>
            <a:avLst/>
            <a:gdLst/>
            <a:ahLst/>
            <a:rect l="l" t="t" r="r" b="b"/>
            <a:pathLst>
              <a:path w="1127125" h="1049337">
                <a:moveTo>
                  <a:pt x="1" y="400810"/>
                </a:moveTo>
                <a:lnTo>
                  <a:pt x="430526" y="400813"/>
                </a:lnTo>
                <a:lnTo>
                  <a:pt x="563563" y="0"/>
                </a:lnTo>
                <a:lnTo>
                  <a:pt x="696599" y="400813"/>
                </a:lnTo>
                <a:lnTo>
                  <a:pt x="1127124" y="400810"/>
                </a:lnTo>
                <a:lnTo>
                  <a:pt x="778820" y="648523"/>
                </a:lnTo>
                <a:lnTo>
                  <a:pt x="911863" y="1049334"/>
                </a:lnTo>
                <a:lnTo>
                  <a:pt x="563563" y="801617"/>
                </a:lnTo>
                <a:lnTo>
                  <a:pt x="215262" y="1049334"/>
                </a:lnTo>
                <a:lnTo>
                  <a:pt x="348305" y="648523"/>
                </a:lnTo>
                <a:lnTo>
                  <a:pt x="1" y="40081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5137200" y="5946840"/>
            <a:ext cx="749160" cy="74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 rot="16599600">
            <a:off x="5449680" y="1163160"/>
            <a:ext cx="1971720" cy="2943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 rot="16045200">
            <a:off x="1568160" y="1069560"/>
            <a:ext cx="20005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 rot="21327000">
            <a:off x="604800" y="617040"/>
            <a:ext cx="3832200" cy="5435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 rot="210000">
            <a:off x="4940280" y="584280"/>
            <a:ext cx="3790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21T13:51:18Z</dcterms:modified>
  <cp:revision>54</cp:revision>
  <dc:subject/>
  <dc:title>Slide 1</dc:title>
</cp:coreProperties>
</file>