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FA7-E2AF-47A4-B636-7B815BE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EF9-80A0-4843-903E-9DD8603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DB2-C78A-409C-9F6C-4F77BBDF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65A-BF11-4E47-9C6C-EDAA58A0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6D1D-BCCE-46D5-B099-12522B4C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A5DD-6446-4018-94B1-4351FC1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C974-958B-4387-8CB2-82E4559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AA6A-5BB2-4576-9569-F67137A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0CC-D4D6-4711-96BC-8C1BC73C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F585-5ED0-4912-AE4B-533AA9AD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11F6-6FAB-4ECE-94DB-C3D641E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D18-C883-4FEC-85A2-38116B6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0413-EA33-4CD8-B6D9-585B331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122-9569-4DAB-9822-86EF5DF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2793-539A-4625-B699-DA35C22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59B-B69D-48E5-B480-155014B0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C191-33E1-460A-ADB7-68F53B17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D340-9AD6-47C2-A791-82FCD85B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6620-C00F-471D-8388-5D96960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10B3-B0FF-48C1-883B-68673B08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D199B-F023-41B6-B934-80A0106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46A9-8807-4726-AB90-548EF7F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CB5-CD8E-46A5-AD37-4645CD3B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E2F5-00CD-4FF6-A404-E324321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35C0-7F6F-4A05-B333-27A5A95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A640-568A-4507-B853-78240C7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1450-0A0D-4030-AE18-BEE9491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38B2-441B-4342-B3B9-0F48773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BD9F-1138-41AE-BA6D-AEBFA34C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85C1-39A9-4C90-84BF-2F0DDC51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43F3-1F4A-43E5-98C0-C1848AC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39C6-FC06-49E7-8C12-5ED0A7C2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21EE-04DE-4499-947C-532C64D8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601-B32C-457D-AD60-ABB981A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AA1B-69F6-4410-8F30-F12572B7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F4CC-3F87-49FF-B062-8A2A8A9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EF1A-A101-46FB-AB7D-E3CCC24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7198-0DE6-4AC2-914A-6232104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2252-A41C-46A4-9000-3DA62DC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636E-ED87-473B-A9FF-5FABFD1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229B-1D51-4157-9242-C8C0D105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2F56-56B2-4496-9FC5-A4197D26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AB09-D5D3-4DA2-948D-56BA43BC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FB8-1795-4376-A7F1-7A406C4A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CC8-E13C-424F-A052-9A62B59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BBA-E471-4576-B11B-F7CFD8FD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11C-5CC2-4FA3-8714-78CE451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4E5-B6CA-4525-8CC6-04FF28D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2FA-24A3-4419-AA68-B716CEAD03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DC12-9E45-47B4-999F-AD39E74699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E05B-F933-4F93-B050-92EE9D34B5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7E2-517F-46C8-9A83-F5D3AE5DE7F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3bbff"/>
                </a:solidFill>
                <a:latin typeface="Comic Sans MS"/>
              </a:rPr>
              <a:t>mascul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o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f0066"/>
                </a:solidFill>
                <a:latin typeface="Comic Sans MS"/>
              </a:rPr>
              <a:t>feminine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d6d6f5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839960" y="89208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croix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1793880" y="195264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bei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1785960" y="305280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blas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1521000" y="4408560"/>
            <a:ext cx="29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apill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481040" y="5384880"/>
            <a:ext cx="304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sautere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6315120" y="905040"/>
            <a:ext cx="23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oeu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6229440" y="2352600"/>
            <a:ext cx="30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carot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6362640" y="3760920"/>
            <a:ext cx="267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poiss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342120" y="49356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1749600" y="822240"/>
            <a:ext cx="263520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1646280" y="1852560"/>
            <a:ext cx="278136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1739880" y="2954160"/>
            <a:ext cx="248292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454040" y="4148280"/>
            <a:ext cx="2775240" cy="108108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1370160" y="5375160"/>
            <a:ext cx="3125520" cy="148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6156360" y="860400"/>
            <a:ext cx="2465280" cy="91440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6156360" y="2301840"/>
            <a:ext cx="2987640" cy="91296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240600" y="3681360"/>
            <a:ext cx="276228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156360" y="4842000"/>
            <a:ext cx="2641680" cy="9126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6202440" y="5924520"/>
            <a:ext cx="2833560" cy="912960"/>
          </a:xfrm>
          <a:prstGeom prst="ellipse">
            <a:avLst/>
          </a:prstGeom>
          <a:noFill/>
          <a:ln w="57240">
            <a:solidFill>
              <a:srgbClr val="73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6375240" y="5985000"/>
            <a:ext cx="26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erc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Cross 2"/>
          <p:cNvSpPr/>
          <p:nvPr/>
        </p:nvSpPr>
        <p:spPr>
          <a:xfrm>
            <a:off x="501480" y="719280"/>
            <a:ext cx="1011240" cy="1015920"/>
          </a:xfrm>
          <a:prstGeom prst="plus">
            <a:avLst>
              <a:gd name="adj" fmla="val 34440"/>
            </a:avLst>
          </a:prstGeom>
          <a:solidFill>
            <a:srgbClr val="ffc0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30280" y="173520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189" name="Flowchart: Delay 4"/>
          <p:cNvSpPr/>
          <p:nvPr/>
        </p:nvSpPr>
        <p:spPr>
          <a:xfrm rot="5400000">
            <a:off x="603720" y="2993040"/>
            <a:ext cx="900360" cy="822240"/>
          </a:xfrm>
          <a:prstGeom prst="flowChartDelay">
            <a:avLst/>
          </a:prstGeom>
          <a:solidFill>
            <a:srgbClr val="ffcccc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-142920" y="4000680"/>
            <a:ext cx="1789200" cy="134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-73080" y="5405400"/>
            <a:ext cx="1443240" cy="1082880"/>
          </a:xfrm>
          <a:prstGeom prst="rect">
            <a:avLst/>
          </a:prstGeom>
          <a:ln w="0">
            <a:noFill/>
          </a:ln>
        </p:spPr>
      </p:pic>
      <p:sp>
        <p:nvSpPr>
          <p:cNvPr id="192" name="Heart 7"/>
          <p:cNvSpPr/>
          <p:nvPr/>
        </p:nvSpPr>
        <p:spPr>
          <a:xfrm>
            <a:off x="5346720" y="954000"/>
            <a:ext cx="720720" cy="722520"/>
          </a:xfrm>
          <a:custGeom>
            <a:avLst/>
            <a:gdLst/>
            <a:ahLst/>
            <a:rect l="l" t="t" r="r" b="b"/>
            <a:pathLst>
              <a:path w="720725" h="722312">
                <a:moveTo>
                  <a:pt x="360363" y="180578"/>
                </a:moveTo>
                <a:cubicBezTo>
                  <a:pt x="510514" y="-240771"/>
                  <a:pt x="1096103" y="180578"/>
                  <a:pt x="360363" y="722312"/>
                </a:cubicBezTo>
                <a:cubicBezTo>
                  <a:pt x="-375378" y="180578"/>
                  <a:pt x="210211" y="-240771"/>
                  <a:pt x="360363" y="180578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4"/>
          <a:stretch/>
        </p:blipFill>
        <p:spPr>
          <a:xfrm>
            <a:off x="5089680" y="2011320"/>
            <a:ext cx="118728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5"/>
          <a:stretch/>
        </p:blipFill>
        <p:spPr>
          <a:xfrm>
            <a:off x="4494240" y="3637080"/>
            <a:ext cx="1660320" cy="996840"/>
          </a:xfrm>
          <a:prstGeom prst="rect">
            <a:avLst/>
          </a:prstGeom>
          <a:ln w="0">
            <a:noFill/>
          </a:ln>
        </p:spPr>
      </p:pic>
      <p:sp>
        <p:nvSpPr>
          <p:cNvPr id="195" name="5-Point Star 12"/>
          <p:cNvSpPr/>
          <p:nvPr/>
        </p:nvSpPr>
        <p:spPr>
          <a:xfrm>
            <a:off x="4842000" y="4599000"/>
            <a:ext cx="1127160" cy="1049400"/>
          </a:xfrm>
          <a:custGeom>
            <a:avLst/>
            <a:gdLst/>
            <a:ahLst/>
            <a:rect l="l" t="t" r="r" b="b"/>
            <a:pathLst>
              <a:path w="1127125" h="1049337">
                <a:moveTo>
                  <a:pt x="1" y="400810"/>
                </a:moveTo>
                <a:lnTo>
                  <a:pt x="430526" y="400813"/>
                </a:lnTo>
                <a:lnTo>
                  <a:pt x="563563" y="0"/>
                </a:lnTo>
                <a:lnTo>
                  <a:pt x="696599" y="400813"/>
                </a:lnTo>
                <a:lnTo>
                  <a:pt x="1127124" y="400810"/>
                </a:lnTo>
                <a:lnTo>
                  <a:pt x="778820" y="648523"/>
                </a:lnTo>
                <a:lnTo>
                  <a:pt x="911863" y="1049334"/>
                </a:lnTo>
                <a:lnTo>
                  <a:pt x="563563" y="801617"/>
                </a:lnTo>
                <a:lnTo>
                  <a:pt x="215262" y="1049334"/>
                </a:lnTo>
                <a:lnTo>
                  <a:pt x="348305" y="648523"/>
                </a:lnTo>
                <a:lnTo>
                  <a:pt x="1" y="40081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5137200" y="5946840"/>
            <a:ext cx="749160" cy="74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 rot="16599600">
            <a:off x="5449680" y="1163160"/>
            <a:ext cx="1971720" cy="2943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 rot="16045200">
            <a:off x="1568160" y="1069560"/>
            <a:ext cx="20005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 rot="21327000">
            <a:off x="604800" y="617040"/>
            <a:ext cx="3832200" cy="543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 rot="210000">
            <a:off x="4940280" y="584280"/>
            <a:ext cx="3790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51:18Z</dcterms:modified>
  <cp:revision>54</cp:revision>
  <dc:subject/>
  <dc:title>Slide 1</dc:title>
</cp:coreProperties>
</file>