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C102-F5E0-4366-A9FA-32BE6571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94D-1C11-4281-87BF-19CCF53D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7FC-824E-4C7F-A9FD-E62BF306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C60-F850-45EA-8933-935593B5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12C0-7288-423B-B0E8-E1C30A61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C09A-FFC9-4A4B-989F-DD353B03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BD30-0730-48DB-9B68-819C6A20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ED3C-704A-4B9C-90F3-A6BFB7E5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A8A6-B8AC-423B-B7AA-5D8FB1B1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FBAA-E543-4B0F-BCA1-E00E1012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7071-D8DC-4CB6-BCA5-410A8BA7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363-CE6C-4C3C-BBAC-E6178CC3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F6D6-ED33-449C-AA00-56759E60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6DF7-7DEB-4EAD-858E-CB064677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4FBE-5CC1-4BEA-9D95-226B154A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30C6-86B4-47D9-94AA-09FF07EA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F6E3-74F7-4D3D-88E5-B2B7B8FE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F01A3-65DA-4F06-AF85-739339B7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5DC6-5AE0-4B54-BE4C-5B448EF7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C8AA-BA47-4112-96EE-BA25CA62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0D47-E315-4205-ADBF-913C4009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A0A8-596E-41D1-9D24-B9FF7137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D81-80D3-43BC-8AAF-C78172C1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3A47A-85AE-42B8-BED1-3A6EAC95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EE415-F5BF-4A10-BC54-4AD55BBA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2F393-EFD7-4E75-941A-A84396AA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A65E-8AC7-4DFA-883E-792FBFF6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9159F-6739-4334-8BF7-9A366150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C2FD7-DF3E-4000-B855-EC1F98EE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2D275-882F-4418-B00F-8A1089B7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A582B-6FB5-464C-ADA6-3E0B3552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8C9A5-BF00-47ED-B05A-A56CA621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A915B-0C3A-4F2E-9FCB-D5E9CBE7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053-C228-4D28-A427-4100589F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67828-2DE7-4DD3-8D75-0C24B3D5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4ADA9-5190-4820-91BD-F434F147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78DE1-FFD1-48F1-A3FE-F4CA0560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CD6D0-2987-4EFB-AE4C-16490C50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683D-2A39-47EC-9913-96EAEE06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48007-E4AA-4AE6-BB76-2E4ABA3D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5191-F265-4E09-A170-91478D7B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E8095-C6CD-4581-A027-F4CC3A36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BA4BF-CE6A-4218-815F-EC8DE381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70F-A8E9-4425-B527-A27B732E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2CEC-2B93-4864-8492-6BE55D20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FF7-3CFA-485B-A32F-688E264F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FA3-64C8-42FB-A2C9-791AF6ED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DAD-E981-4F96-AD5D-CD06C9E3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FD97-E368-44A8-B525-326EA5AB9D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77CB-BA96-4D6D-9DE3-E42ED04503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A2B0-942B-4C63-9652-2619154B65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26A1-6C98-43EC-852A-892DBA31DD9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203640" y="350028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5" descr="MC900013240[1]"/>
          <p:cNvPicPr/>
          <p:nvPr/>
        </p:nvPicPr>
        <p:blipFill>
          <a:blip r:embed="rId1"/>
          <a:stretch/>
        </p:blipFill>
        <p:spPr>
          <a:xfrm>
            <a:off x="3203640" y="1125360"/>
            <a:ext cx="2952720" cy="2378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MC900129223[1]"/>
          <p:cNvPicPr/>
          <p:nvPr/>
        </p:nvPicPr>
        <p:blipFill>
          <a:blip r:embed="rId2"/>
          <a:stretch/>
        </p:blipFill>
        <p:spPr>
          <a:xfrm>
            <a:off x="684360" y="620640"/>
            <a:ext cx="2017440" cy="1379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MC900015916[1]"/>
          <p:cNvPicPr/>
          <p:nvPr/>
        </p:nvPicPr>
        <p:blipFill>
          <a:blip r:embed="rId3"/>
          <a:stretch/>
        </p:blipFill>
        <p:spPr>
          <a:xfrm>
            <a:off x="6877080" y="620640"/>
            <a:ext cx="1728720" cy="1357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11280" y="227664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i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659640" y="227664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ee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2" name="Group 15"/>
          <p:cNvGrpSpPr/>
          <p:nvPr/>
        </p:nvGrpSpPr>
        <p:grpSpPr>
          <a:xfrm>
            <a:off x="179280" y="4581360"/>
            <a:ext cx="2880000" cy="2120760"/>
            <a:chOff x="179280" y="4581360"/>
            <a:chExt cx="2880000" cy="2120760"/>
          </a:xfrm>
        </p:grpSpPr>
        <p:sp>
          <p:nvSpPr>
            <p:cNvPr id="173" name="Text Box 12"/>
            <p:cNvSpPr/>
            <p:nvPr/>
          </p:nvSpPr>
          <p:spPr>
            <a:xfrm>
              <a:off x="179280" y="5877000"/>
              <a:ext cx="28800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Arial Black"/>
                </a:rPr>
                <a:t>l</a:t>
              </a:r>
              <a:r>
                <a:rPr b="0" lang="en-GB" sz="4800" spc="-1" strike="noStrike">
                  <a:solidFill>
                    <a:srgbClr val="ff0000"/>
                  </a:solidFill>
                  <a:latin typeface="Arial Black"/>
                </a:rPr>
                <a:t>i</a:t>
              </a:r>
              <a:r>
                <a:rPr b="0" lang="en-GB" sz="4800" spc="-1" strike="noStrike">
                  <a:solidFill>
                    <a:srgbClr val="000000"/>
                  </a:solidFill>
                  <a:latin typeface="Arial Black"/>
                </a:rPr>
                <a:t>vre</a:t>
              </a:r>
              <a:endParaRPr b="0" lang="en-US" sz="4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pic>
          <p:nvPicPr>
            <p:cNvPr id="174" name="Picture 14" descr="libro"/>
            <p:cNvPicPr/>
            <p:nvPr/>
          </p:nvPicPr>
          <p:blipFill>
            <a:blip r:embed="rId4"/>
            <a:stretch/>
          </p:blipFill>
          <p:spPr>
            <a:xfrm>
              <a:off x="395280" y="4581360"/>
              <a:ext cx="2376720" cy="130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19"/>
          <p:cNvGrpSpPr/>
          <p:nvPr/>
        </p:nvGrpSpPr>
        <p:grpSpPr>
          <a:xfrm>
            <a:off x="6084720" y="5157720"/>
            <a:ext cx="2880000" cy="1544400"/>
            <a:chOff x="6084720" y="5157720"/>
            <a:chExt cx="2880000" cy="1544400"/>
          </a:xfrm>
        </p:grpSpPr>
        <p:pic>
          <p:nvPicPr>
            <p:cNvPr id="176" name="Picture 13" descr="boligrafo"/>
            <p:cNvPicPr/>
            <p:nvPr/>
          </p:nvPicPr>
          <p:blipFill>
            <a:blip r:embed="rId5"/>
            <a:stretch/>
          </p:blipFill>
          <p:spPr>
            <a:xfrm>
              <a:off x="6300720" y="5157720"/>
              <a:ext cx="237636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7"/>
            <p:cNvSpPr/>
            <p:nvPr/>
          </p:nvSpPr>
          <p:spPr>
            <a:xfrm>
              <a:off x="6084720" y="5877000"/>
              <a:ext cx="28800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Arial Black"/>
                </a:rPr>
                <a:t>st</a:t>
              </a:r>
              <a:r>
                <a:rPr b="0" lang="en-GB" sz="4800" spc="-1" strike="noStrike">
                  <a:solidFill>
                    <a:srgbClr val="ff0000"/>
                  </a:solidFill>
                  <a:latin typeface="Arial Black"/>
                </a:rPr>
                <a:t>y</a:t>
              </a:r>
              <a:r>
                <a:rPr b="0" lang="en-GB" sz="4800" spc="-1" strike="noStrike">
                  <a:solidFill>
                    <a:srgbClr val="000000"/>
                  </a:solidFill>
                  <a:latin typeface="Arial Black"/>
                </a:rPr>
                <a:t>lo</a:t>
              </a:r>
              <a:endParaRPr b="0" lang="en-US" sz="4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9-21T13:48:06Z</dcterms:modified>
  <cp:revision>43</cp:revision>
  <dc:subject/>
  <dc:title>Slide 1</dc:title>
</cp:coreProperties>
</file>