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46E-CD68-4C8B-9C4F-ECA9972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BBB-77FA-4EDE-948E-AE265145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877-CEE7-408C-953D-B0AB5767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2BD-C77C-4633-883F-87D22A4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907-31DE-4A1F-9E05-9BD36B6C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5FD0-4057-49AC-86E2-A3FAD9D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3641-10BC-4803-8D25-CBEE3AC5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93C1-A6EF-457D-B350-F60A6FD7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F03-58CD-41F0-B683-A55761B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DC0-5534-4C0D-8A59-C4170312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19E-3F31-44FF-A3F2-E1B6076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DBE-EB71-4940-AC4C-90B13AE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FFE1-A614-437A-971F-C4C6EB1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57E5-41D2-45E5-A20D-B4341C7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BE1-67E9-4192-A304-ED1BF4E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63D-8F80-47C1-8BD4-F1A93B40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698-2ADD-4E66-B93B-42BBA427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C853-E7B5-4CFC-819B-DDC0C3D2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EDFE-B1AA-4A8B-B676-693CD104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6818-B000-46A8-BA91-AD8958D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79D7-1CA4-4C7F-9F56-4033703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A151-52DD-43FF-8F80-B8E6094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C52-0130-4D17-A8EA-40877BFA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7059-4461-4327-9EBE-13FBEA9C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E90E-D634-4481-9DE5-C8FC547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64C1-5FB6-4D5E-BB70-459675D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6DC4-FEDF-42B6-8DCB-EC58F8B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0243-168A-4F98-873E-54062D9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3544-45AE-4EBF-94A0-4BB4786D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35AB-6E8D-49AC-ACC4-DF62108A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23AA-40FC-45FF-A8DD-80598D55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7F75-FD50-47D4-8C0F-5B3F813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6A75-0C69-48B3-8D53-72818FF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AB8-B7BE-4AE3-A632-807DBE55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7E03-4EB2-48A6-94ED-669E6F6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01CE-626A-4204-8784-36622C6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7C11-2803-4D9F-9E54-E283F76A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0246-C1EE-40A3-82A0-9E6FE5D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65E1-CBE0-4191-97E1-8991C3D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610E-41EF-48AA-9182-63D5480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DB69-F8C2-4AEC-A11B-BED60B9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C083-CF9C-4DE3-B281-A9F1A6E3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DD14-0F66-4A0B-A806-C68FD662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157-7AD5-4546-AA16-313803DA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BF9-9C27-4816-820E-80BED829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5B6-70EE-4D28-8C33-5D0187B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5AB-BF3E-4FA4-A3F7-52C956A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26E-C0D5-42FF-ADC2-EAA9600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C78-55F9-41FB-B0B5-7114D05C17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F1E-B3AE-4675-89EE-6292A819F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DE5-5AC5-4051-9D1E-037094D147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72B8-0DF6-45BF-AD19-25F08048FF4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5" descr="MC900013240[1]"/>
          <p:cNvPicPr/>
          <p:nvPr/>
        </p:nvPicPr>
        <p:blipFill>
          <a:blip r:embed="rId1"/>
          <a:stretch/>
        </p:blipFill>
        <p:spPr>
          <a:xfrm>
            <a:off x="3203640" y="1125360"/>
            <a:ext cx="2952720" cy="237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129223[1]"/>
          <p:cNvPicPr/>
          <p:nvPr/>
        </p:nvPicPr>
        <p:blipFill>
          <a:blip r:embed="rId2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MC900015916[1]"/>
          <p:cNvPicPr/>
          <p:nvPr/>
        </p:nvPicPr>
        <p:blipFill>
          <a:blip r:embed="rId3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i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65964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e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179280" y="4581360"/>
            <a:ext cx="2880000" cy="2120760"/>
            <a:chOff x="179280" y="4581360"/>
            <a:chExt cx="2880000" cy="2120760"/>
          </a:xfrm>
        </p:grpSpPr>
        <p:sp>
          <p:nvSpPr>
            <p:cNvPr id="173" name="Text Box 12"/>
            <p:cNvSpPr/>
            <p:nvPr/>
          </p:nvSpPr>
          <p:spPr>
            <a:xfrm>
              <a:off x="179280" y="5877000"/>
              <a:ext cx="2880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l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i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vre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174" name="Picture 14" descr="libro"/>
            <p:cNvPicPr/>
            <p:nvPr/>
          </p:nvPicPr>
          <p:blipFill>
            <a:blip r:embed="rId4"/>
            <a:stretch/>
          </p:blipFill>
          <p:spPr>
            <a:xfrm>
              <a:off x="395280" y="4581360"/>
              <a:ext cx="2376720" cy="130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6084720" y="5157720"/>
            <a:ext cx="2880000" cy="1544400"/>
            <a:chOff x="6084720" y="5157720"/>
            <a:chExt cx="2880000" cy="1544400"/>
          </a:xfrm>
        </p:grpSpPr>
        <p:pic>
          <p:nvPicPr>
            <p:cNvPr id="176" name="Picture 13" descr="boligrafo"/>
            <p:cNvPicPr/>
            <p:nvPr/>
          </p:nvPicPr>
          <p:blipFill>
            <a:blip r:embed="rId5"/>
            <a:stretch/>
          </p:blipFill>
          <p:spPr>
            <a:xfrm>
              <a:off x="6300720" y="5157720"/>
              <a:ext cx="23763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7"/>
            <p:cNvSpPr/>
            <p:nvPr/>
          </p:nvSpPr>
          <p:spPr>
            <a:xfrm>
              <a:off x="6084720" y="5877000"/>
              <a:ext cx="2880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y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lo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8:06Z</dcterms:modified>
  <cp:revision>43</cp:revision>
  <dc:subject/>
  <dc:title>Slide 1</dc:title>
</cp:coreProperties>
</file>