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1C7-D768-4D93-9635-CCE06F4C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B76-BD24-4E7F-A050-6E8C853F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1A69-2EEB-441A-A722-1137D06D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6628-342F-4696-A5A2-4E543E21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AA55-544A-44C4-B249-D6EFA0A6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9F6B-B53A-4FDF-9E2A-84A902C8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E35C-B46B-4B99-921C-FD5BDD76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AE30-6EAF-454F-92BF-E064EA8D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3FB7-066E-4DA8-B99B-C02C6BD6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F58F-0BC6-43B4-8BC0-9C541E5A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A426-B583-4084-8D4B-2ADC40A6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AA9-A14E-46A2-9E1F-B24D3AA6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3EEE-A521-433A-9D61-37DFAE05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B722-0F52-42D4-A966-236BA363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85F7-3E12-413F-AC7C-C983D50A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F197-5DF1-4038-8711-2BDFE82C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BFFD-9A61-4C98-BF7D-331636A6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3DC29-83DF-4C67-AF20-67E0C3E0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A29EF-FA4D-488F-8B78-4EB88A5F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100CC-BFA6-4370-A438-2322B403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30569-10A6-4347-A71C-EA8CA5F2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E65CA-9300-4ED1-9739-67593485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AB7-CC93-452E-B72E-DB4C1A22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34EA2-A73C-464E-863B-E716DACB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8B725-37A9-4AA2-888D-81BD5C40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FA657-D4E8-4A8B-BCCC-A8E98C12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A38B5-A2AA-4D1B-B986-44472633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37DC-22CE-4EEB-87D7-B6D0AEC5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DCD54-8A30-4F18-8C66-2EDA7691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653B8-C7B7-45CB-B025-4ABD7385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B2A0A-174A-4B0B-BF3E-002830FE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3B7A4-F225-4FE6-8792-6AA0254C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F17FA-F8E7-4B2A-A1A6-8703A8B1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8AC5-4611-4016-B268-B4C422E2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569AA-8D14-4195-A4DD-19DB2443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751AC-6ABF-4B88-A44B-EB34A654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F6F05-D123-4680-BBBB-F6A8DE45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91A56-C04E-4AE5-B52A-15650A77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F59E7-FF2F-4F5E-A230-8E6377D2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EE0DA-3376-4C86-8B61-A4704B6D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63EA7-B0F0-47FB-8304-BE44B976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24216-A2B3-45A7-BCA9-AEAB726B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8E6ED-1B00-4267-B2F1-C7294321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3F4-28F8-4BB5-A79D-B5BE1B8F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CB2C-542E-43DF-ACAA-6F587354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190B-1851-4153-9D77-75A3B34D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636-444D-4C37-8F43-67A7FEFC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E02-AEC1-4222-B366-3B0EBBB4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2FD1-E000-4861-8DF4-6C1DCED1BA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B96E-0C28-4B4E-9111-21CB4E6AB7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8F76-D3BD-4237-A4EB-BF04956DA0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F659-51AB-4D2D-B113-AC5D621160D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54000" y="120600"/>
            <a:ext cx="8964720" cy="194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1" descr="farmer"/>
          <p:cNvPicPr/>
          <p:nvPr/>
        </p:nvPicPr>
        <p:blipFill>
          <a:blip r:embed="rId1"/>
          <a:stretch/>
        </p:blipFill>
        <p:spPr>
          <a:xfrm>
            <a:off x="395280" y="260280"/>
            <a:ext cx="882720" cy="1524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nurse-4[1]"/>
          <p:cNvPicPr/>
          <p:nvPr/>
        </p:nvPicPr>
        <p:blipFill>
          <a:blip r:embed="rId2"/>
          <a:stretch/>
        </p:blipFill>
        <p:spPr>
          <a:xfrm>
            <a:off x="3059280" y="252360"/>
            <a:ext cx="412560" cy="167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3"/>
          <a:stretch/>
        </p:blipFill>
        <p:spPr>
          <a:xfrm>
            <a:off x="5076720" y="187200"/>
            <a:ext cx="839880" cy="1803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http://images.clipartpanda.com/actor-clipart-Actor_01.png"/>
          <p:cNvPicPr/>
          <p:nvPr/>
        </p:nvPicPr>
        <p:blipFill>
          <a:blip r:embed="rId4"/>
          <a:stretch/>
        </p:blipFill>
        <p:spPr>
          <a:xfrm>
            <a:off x="7093080" y="2523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54000" y="2063880"/>
            <a:ext cx="89647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fermier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infirmier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usicien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comédi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fermière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infirmière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usicienne    comédienn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Rounded Rectangular Callout 5"/>
          <p:cNvSpPr/>
          <p:nvPr/>
        </p:nvSpPr>
        <p:spPr>
          <a:xfrm>
            <a:off x="2484360" y="3284640"/>
            <a:ext cx="4608720" cy="2881080"/>
          </a:xfrm>
          <a:prstGeom prst="wedgeRoundRectCallout">
            <a:avLst>
              <a:gd name="adj1" fmla="val -39194"/>
              <a:gd name="adj2" fmla="val 67712"/>
              <a:gd name="adj3" fmla="val 16667"/>
            </a:avLst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33"/>
                </a:solidFill>
                <a:latin typeface="Comic Sans MS"/>
              </a:rPr>
              <a:t>Je sui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54000" y="120600"/>
            <a:ext cx="8964720" cy="194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1" descr="farmer"/>
          <p:cNvPicPr/>
          <p:nvPr/>
        </p:nvPicPr>
        <p:blipFill>
          <a:blip r:embed="rId1"/>
          <a:stretch/>
        </p:blipFill>
        <p:spPr>
          <a:xfrm>
            <a:off x="395280" y="260280"/>
            <a:ext cx="882720" cy="1524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nurse-4[1]"/>
          <p:cNvPicPr/>
          <p:nvPr/>
        </p:nvPicPr>
        <p:blipFill>
          <a:blip r:embed="rId2"/>
          <a:stretch/>
        </p:blipFill>
        <p:spPr>
          <a:xfrm>
            <a:off x="3059280" y="252360"/>
            <a:ext cx="412560" cy="1671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3"/>
          <a:stretch/>
        </p:blipFill>
        <p:spPr>
          <a:xfrm>
            <a:off x="5076720" y="187200"/>
            <a:ext cx="839880" cy="1803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http://images.clipartpanda.com/actor-clipart-Actor_01.png"/>
          <p:cNvPicPr/>
          <p:nvPr/>
        </p:nvPicPr>
        <p:blipFill>
          <a:blip r:embed="rId4"/>
          <a:stretch/>
        </p:blipFill>
        <p:spPr>
          <a:xfrm>
            <a:off x="7093080" y="2523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54000" y="2063880"/>
            <a:ext cx="89647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fermier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infirmier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usicien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comédi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fermière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infirmière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usicienne    comédienn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Rounded Rectangular Callout 5"/>
          <p:cNvSpPr/>
          <p:nvPr/>
        </p:nvSpPr>
        <p:spPr>
          <a:xfrm>
            <a:off x="2484360" y="3284640"/>
            <a:ext cx="4608720" cy="2881080"/>
          </a:xfrm>
          <a:prstGeom prst="wedgeRoundRectCallout">
            <a:avLst>
              <a:gd name="adj1" fmla="val -39194"/>
              <a:gd name="adj2" fmla="val 67712"/>
              <a:gd name="adj3" fmla="val 16667"/>
            </a:avLst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33"/>
                </a:solidFill>
                <a:latin typeface="Comic Sans MS"/>
              </a:rPr>
              <a:t>Je sui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3" descr="nurse-4[1]"/>
          <p:cNvPicPr/>
          <p:nvPr/>
        </p:nvPicPr>
        <p:blipFill>
          <a:blip r:embed="rId5"/>
          <a:stretch/>
        </p:blipFill>
        <p:spPr>
          <a:xfrm>
            <a:off x="4624560" y="4292640"/>
            <a:ext cx="41256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54000" y="120600"/>
            <a:ext cx="8964720" cy="194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2" name="Picture 1" descr="farmer"/>
          <p:cNvPicPr/>
          <p:nvPr/>
        </p:nvPicPr>
        <p:blipFill>
          <a:blip r:embed="rId1"/>
          <a:stretch/>
        </p:blipFill>
        <p:spPr>
          <a:xfrm>
            <a:off x="395280" y="260280"/>
            <a:ext cx="882720" cy="1524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nurse-4[1]"/>
          <p:cNvPicPr/>
          <p:nvPr/>
        </p:nvPicPr>
        <p:blipFill>
          <a:blip r:embed="rId2"/>
          <a:stretch/>
        </p:blipFill>
        <p:spPr>
          <a:xfrm>
            <a:off x="3059280" y="252360"/>
            <a:ext cx="412560" cy="1671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3"/>
          <a:stretch/>
        </p:blipFill>
        <p:spPr>
          <a:xfrm>
            <a:off x="5076720" y="187200"/>
            <a:ext cx="839880" cy="1803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http://images.clipartpanda.com/actor-clipart-Actor_01.png"/>
          <p:cNvPicPr/>
          <p:nvPr/>
        </p:nvPicPr>
        <p:blipFill>
          <a:blip r:embed="rId4"/>
          <a:stretch/>
        </p:blipFill>
        <p:spPr>
          <a:xfrm>
            <a:off x="7093080" y="2523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54000" y="2063880"/>
            <a:ext cx="89647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fermier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infirmier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usicien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comédi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fermière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infirmière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usicienne    comédienn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Rounded Rectangular Callout 5"/>
          <p:cNvSpPr/>
          <p:nvPr/>
        </p:nvSpPr>
        <p:spPr>
          <a:xfrm>
            <a:off x="2484360" y="3284640"/>
            <a:ext cx="4608720" cy="2881080"/>
          </a:xfrm>
          <a:prstGeom prst="wedgeRoundRectCallout">
            <a:avLst>
              <a:gd name="adj1" fmla="val -39194"/>
              <a:gd name="adj2" fmla="val 67712"/>
              <a:gd name="adj3" fmla="val 16667"/>
            </a:avLst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33"/>
                </a:solidFill>
                <a:latin typeface="Comic Sans MS"/>
              </a:rPr>
              <a:t>Je sui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8" name="Picture 1" descr="farmer"/>
          <p:cNvPicPr/>
          <p:nvPr/>
        </p:nvPicPr>
        <p:blipFill>
          <a:blip r:embed="rId5"/>
          <a:stretch/>
        </p:blipFill>
        <p:spPr>
          <a:xfrm>
            <a:off x="4529160" y="4292640"/>
            <a:ext cx="882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54000" y="120600"/>
            <a:ext cx="8964720" cy="194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Picture 1" descr="farmer"/>
          <p:cNvPicPr/>
          <p:nvPr/>
        </p:nvPicPr>
        <p:blipFill>
          <a:blip r:embed="rId1"/>
          <a:stretch/>
        </p:blipFill>
        <p:spPr>
          <a:xfrm>
            <a:off x="395280" y="260280"/>
            <a:ext cx="882720" cy="1524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nurse-4[1]"/>
          <p:cNvPicPr/>
          <p:nvPr/>
        </p:nvPicPr>
        <p:blipFill>
          <a:blip r:embed="rId2"/>
          <a:stretch/>
        </p:blipFill>
        <p:spPr>
          <a:xfrm>
            <a:off x="3059280" y="252360"/>
            <a:ext cx="412560" cy="1671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3"/>
          <a:stretch/>
        </p:blipFill>
        <p:spPr>
          <a:xfrm>
            <a:off x="5076720" y="187200"/>
            <a:ext cx="839880" cy="1803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http://images.clipartpanda.com/actor-clipart-Actor_01.png"/>
          <p:cNvPicPr/>
          <p:nvPr/>
        </p:nvPicPr>
        <p:blipFill>
          <a:blip r:embed="rId4"/>
          <a:stretch/>
        </p:blipFill>
        <p:spPr>
          <a:xfrm>
            <a:off x="7093080" y="2523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54000" y="2063880"/>
            <a:ext cx="89647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fermier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infirmier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usicien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comédi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fermière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infirmière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usicienne    comédienn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Rounded Rectangular Callout 5"/>
          <p:cNvSpPr/>
          <p:nvPr/>
        </p:nvSpPr>
        <p:spPr>
          <a:xfrm>
            <a:off x="2484360" y="3284640"/>
            <a:ext cx="4608720" cy="2881080"/>
          </a:xfrm>
          <a:prstGeom prst="wedgeRoundRectCallout">
            <a:avLst>
              <a:gd name="adj1" fmla="val -39194"/>
              <a:gd name="adj2" fmla="val 67712"/>
              <a:gd name="adj3" fmla="val 16667"/>
            </a:avLst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33"/>
                </a:solidFill>
                <a:latin typeface="Comic Sans MS"/>
              </a:rPr>
              <a:t>Je sui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6" name="Picture 5" descr="http://images.clipartpanda.com/actor-clipart-Actor_01.png"/>
          <p:cNvPicPr/>
          <p:nvPr/>
        </p:nvPicPr>
        <p:blipFill>
          <a:blip r:embed="rId5"/>
          <a:stretch/>
        </p:blipFill>
        <p:spPr>
          <a:xfrm>
            <a:off x="4211640" y="429264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54000" y="120600"/>
            <a:ext cx="8964720" cy="194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8" name="Picture 1" descr="farmer"/>
          <p:cNvPicPr/>
          <p:nvPr/>
        </p:nvPicPr>
        <p:blipFill>
          <a:blip r:embed="rId1"/>
          <a:stretch/>
        </p:blipFill>
        <p:spPr>
          <a:xfrm>
            <a:off x="395280" y="260280"/>
            <a:ext cx="882720" cy="1524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nurse-4[1]"/>
          <p:cNvPicPr/>
          <p:nvPr/>
        </p:nvPicPr>
        <p:blipFill>
          <a:blip r:embed="rId2"/>
          <a:stretch/>
        </p:blipFill>
        <p:spPr>
          <a:xfrm>
            <a:off x="3059280" y="252360"/>
            <a:ext cx="412560" cy="1671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3"/>
          <a:stretch/>
        </p:blipFill>
        <p:spPr>
          <a:xfrm>
            <a:off x="5076720" y="187200"/>
            <a:ext cx="839880" cy="1803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http://images.clipartpanda.com/actor-clipart-Actor_01.png"/>
          <p:cNvPicPr/>
          <p:nvPr/>
        </p:nvPicPr>
        <p:blipFill>
          <a:blip r:embed="rId4"/>
          <a:stretch/>
        </p:blipFill>
        <p:spPr>
          <a:xfrm>
            <a:off x="7093080" y="2523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202" name="TextBox 4"/>
          <p:cNvSpPr/>
          <p:nvPr/>
        </p:nvSpPr>
        <p:spPr>
          <a:xfrm>
            <a:off x="54000" y="2063880"/>
            <a:ext cx="89647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fermier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infirmier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usicien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comédi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fermière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infirmière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usicienne    comédienn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Rounded Rectangular Callout 5"/>
          <p:cNvSpPr/>
          <p:nvPr/>
        </p:nvSpPr>
        <p:spPr>
          <a:xfrm>
            <a:off x="2484360" y="3284640"/>
            <a:ext cx="4608720" cy="2881080"/>
          </a:xfrm>
          <a:prstGeom prst="wedgeRoundRectCallout">
            <a:avLst>
              <a:gd name="adj1" fmla="val -39194"/>
              <a:gd name="adj2" fmla="val 67712"/>
              <a:gd name="adj3" fmla="val 16667"/>
            </a:avLst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33"/>
                </a:solidFill>
                <a:latin typeface="Comic Sans MS"/>
              </a:rPr>
              <a:t>Je sui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5"/>
          <a:stretch/>
        </p:blipFill>
        <p:spPr>
          <a:xfrm>
            <a:off x="4367160" y="4149720"/>
            <a:ext cx="84132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5-03-23T15:30:02Z</dcterms:modified>
  <cp:revision>91</cp:revision>
  <dc:subject/>
  <dc:title>Slide 1</dc:title>
</cp:coreProperties>
</file>