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1D8F-2854-48DB-80C1-8FCBE14CA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6680-8751-4977-94FA-14841A6A8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7251-B022-4C7A-ACBC-3D55A23AA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1102-2192-4E19-9593-E67268CC6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FEACA-1910-4A8B-BAB3-B2AB16133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516AA-6700-4B29-9321-DA6CCEED6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0F94E-2949-41EF-AA7D-D0FB9D4A9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4132E-1D41-445B-B002-7521EDCEA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6B7F2-AA4D-4CCE-B293-AB4557365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DD338-07A3-4F10-8305-13C3245FD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2ACD2-C4AD-415B-909E-515B890BC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E7DF-6C3C-4E12-9CF2-E10F634AD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BE057-6D49-4BAA-B490-319C2307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A71C6-9E3F-41E0-BFFD-ED458727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59932-91C4-4172-96FB-0D1B45F76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9887F-99B2-4E6D-8F85-7A51ADC73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438C8-1FC3-46C6-ABBD-15B31D203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19C03-8D41-413E-92CA-0FAC796A9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BA263-2278-4B85-881E-35BCB79E5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3C2C9-C2F3-4B22-A5BC-5DAE76D32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66EF4-BF22-47C7-9BC8-2E8FA6C88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18726-E96C-409E-AC4D-295F7F809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5E10-01C1-494D-B35C-7982105C6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D72FD-AC13-4476-B276-5EDE66362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91EB6-FB51-4ADA-A149-D7AE3672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D7C4E-186B-4727-9A67-C65375042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73773-5F22-4696-A53E-17EC6E79F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02EF2-1FF7-4D18-86E5-C8683FA60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26444-E8EA-4D67-9D6E-F0091B28F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B5D5C-A947-4323-AEE3-6B5B7BC4A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B4E4C-C40B-406A-8E3B-49DA1BFB3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072ED-D47F-4807-873B-02A238F4A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A1DC4-AF8E-4A9A-8BD5-9C15B0FA7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DDA6-A833-4482-82C2-7956ADA33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E5FA2-87DD-4C91-975B-84E1F9CC5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DF2EE-DAE3-4143-9BC0-1F02D70B3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515CE-71BF-4620-8335-B159AE10A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A5134-C9D9-4E07-8087-4235121EE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4935C-57C7-469D-8DC2-0A865AC2B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B9176-D05D-4A45-8826-32EB0700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F6BA1-7081-4434-B38E-8E03E1DB0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F489B-FDF7-4CD0-BD4C-9C7406C4C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1F8FE-7D8E-4053-BAC3-EB59700A4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F4DB-9214-4391-B873-7A94409CA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5FE6-22C3-497F-98D7-15F2C0F7C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E4D9-9CBB-4FA6-AC3D-3595270AC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EF43-3C9D-48AA-A650-3055A8D18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9DE0-6994-4DA7-B7CD-0A0EA0D56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6997E-AEAD-4D0D-8123-1A515EB2F5D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E7D74-9767-47B1-974E-8A925FEF2BD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1F1C5-4F5C-4C25-AF17-88522100818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3C382-8FDE-48F1-9E7E-BDFAF6898000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3"/>
          <p:cNvSpPr/>
          <p:nvPr/>
        </p:nvSpPr>
        <p:spPr>
          <a:xfrm>
            <a:off x="54000" y="120600"/>
            <a:ext cx="8964720" cy="1940040"/>
          </a:xfrm>
          <a:prstGeom prst="rect">
            <a:avLst/>
          </a:prstGeom>
          <a:solidFill>
            <a:srgbClr val="ffffff"/>
          </a:solidFill>
          <a:ln w="1260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7" name="Picture 1" descr="farmer"/>
          <p:cNvPicPr/>
          <p:nvPr/>
        </p:nvPicPr>
        <p:blipFill>
          <a:blip r:embed="rId1"/>
          <a:stretch/>
        </p:blipFill>
        <p:spPr>
          <a:xfrm>
            <a:off x="395280" y="260280"/>
            <a:ext cx="882720" cy="15242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" descr="nurse-4[1]"/>
          <p:cNvPicPr/>
          <p:nvPr/>
        </p:nvPicPr>
        <p:blipFill>
          <a:blip r:embed="rId2"/>
          <a:stretch/>
        </p:blipFill>
        <p:spPr>
          <a:xfrm>
            <a:off x="3059280" y="252360"/>
            <a:ext cx="412560" cy="16718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" descr=""/>
          <p:cNvPicPr/>
          <p:nvPr/>
        </p:nvPicPr>
        <p:blipFill>
          <a:blip r:embed="rId3"/>
          <a:stretch/>
        </p:blipFill>
        <p:spPr>
          <a:xfrm>
            <a:off x="5076720" y="187200"/>
            <a:ext cx="839880" cy="18036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http://images.clipartpanda.com/actor-clipart-Actor_01.png"/>
          <p:cNvPicPr/>
          <p:nvPr/>
        </p:nvPicPr>
        <p:blipFill>
          <a:blip r:embed="rId4"/>
          <a:stretch/>
        </p:blipFill>
        <p:spPr>
          <a:xfrm>
            <a:off x="7093080" y="25236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171" name="TextBox 4"/>
          <p:cNvSpPr/>
          <p:nvPr/>
        </p:nvSpPr>
        <p:spPr>
          <a:xfrm>
            <a:off x="54000" y="2063880"/>
            <a:ext cx="896472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fermier</a:t>
            </a: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    infirmier</a:t>
            </a: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musicien</a:t>
            </a: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    comédie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fermière</a:t>
            </a: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    infirmière</a:t>
            </a: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musicienne    comédienn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Rounded Rectangular Callout 5"/>
          <p:cNvSpPr/>
          <p:nvPr/>
        </p:nvSpPr>
        <p:spPr>
          <a:xfrm>
            <a:off x="2484360" y="3284640"/>
            <a:ext cx="4608720" cy="2881080"/>
          </a:xfrm>
          <a:prstGeom prst="wedgeRoundRectCallout">
            <a:avLst>
              <a:gd name="adj1" fmla="val -39194"/>
              <a:gd name="adj2" fmla="val 67712"/>
              <a:gd name="adj3" fmla="val 16667"/>
            </a:avLst>
          </a:prstGeom>
          <a:solidFill>
            <a:srgbClr val="ffffff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33"/>
                </a:solidFill>
                <a:latin typeface="Comic Sans MS"/>
              </a:rPr>
              <a:t>Je suis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54000" y="120600"/>
            <a:ext cx="8964720" cy="1940040"/>
          </a:xfrm>
          <a:prstGeom prst="rect">
            <a:avLst/>
          </a:prstGeom>
          <a:solidFill>
            <a:srgbClr val="ffffff"/>
          </a:solidFill>
          <a:ln w="1260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4" name="Picture 1" descr="farmer"/>
          <p:cNvPicPr/>
          <p:nvPr/>
        </p:nvPicPr>
        <p:blipFill>
          <a:blip r:embed="rId1"/>
          <a:stretch/>
        </p:blipFill>
        <p:spPr>
          <a:xfrm>
            <a:off x="395280" y="260280"/>
            <a:ext cx="882720" cy="15242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" descr="nurse-4[1]"/>
          <p:cNvPicPr/>
          <p:nvPr/>
        </p:nvPicPr>
        <p:blipFill>
          <a:blip r:embed="rId2"/>
          <a:stretch/>
        </p:blipFill>
        <p:spPr>
          <a:xfrm>
            <a:off x="3059280" y="252360"/>
            <a:ext cx="412560" cy="1671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"/>
          <p:cNvPicPr/>
          <p:nvPr/>
        </p:nvPicPr>
        <p:blipFill>
          <a:blip r:embed="rId3"/>
          <a:stretch/>
        </p:blipFill>
        <p:spPr>
          <a:xfrm>
            <a:off x="5076720" y="187200"/>
            <a:ext cx="839880" cy="18036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http://images.clipartpanda.com/actor-clipart-Actor_01.png"/>
          <p:cNvPicPr/>
          <p:nvPr/>
        </p:nvPicPr>
        <p:blipFill>
          <a:blip r:embed="rId4"/>
          <a:stretch/>
        </p:blipFill>
        <p:spPr>
          <a:xfrm>
            <a:off x="7093080" y="25236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178" name="TextBox 4"/>
          <p:cNvSpPr/>
          <p:nvPr/>
        </p:nvSpPr>
        <p:spPr>
          <a:xfrm>
            <a:off x="54000" y="2063880"/>
            <a:ext cx="896472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fermier</a:t>
            </a: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    infirmier</a:t>
            </a: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musicien</a:t>
            </a: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    comédie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fermière</a:t>
            </a: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    infirmière</a:t>
            </a: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musicienne    comédienn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Rounded Rectangular Callout 5"/>
          <p:cNvSpPr/>
          <p:nvPr/>
        </p:nvSpPr>
        <p:spPr>
          <a:xfrm>
            <a:off x="2484360" y="3284640"/>
            <a:ext cx="4608720" cy="2881080"/>
          </a:xfrm>
          <a:prstGeom prst="wedgeRoundRectCallout">
            <a:avLst>
              <a:gd name="adj1" fmla="val -39194"/>
              <a:gd name="adj2" fmla="val 67712"/>
              <a:gd name="adj3" fmla="val 16667"/>
            </a:avLst>
          </a:prstGeom>
          <a:solidFill>
            <a:srgbClr val="ffffff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33"/>
                </a:solidFill>
                <a:latin typeface="Comic Sans MS"/>
              </a:rPr>
              <a:t>Je suis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0" name="Picture 3" descr="nurse-4[1]"/>
          <p:cNvPicPr/>
          <p:nvPr/>
        </p:nvPicPr>
        <p:blipFill>
          <a:blip r:embed="rId5"/>
          <a:stretch/>
        </p:blipFill>
        <p:spPr>
          <a:xfrm>
            <a:off x="4624560" y="4292640"/>
            <a:ext cx="412560" cy="16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3"/>
          <p:cNvSpPr/>
          <p:nvPr/>
        </p:nvSpPr>
        <p:spPr>
          <a:xfrm>
            <a:off x="54000" y="120600"/>
            <a:ext cx="8964720" cy="1940040"/>
          </a:xfrm>
          <a:prstGeom prst="rect">
            <a:avLst/>
          </a:prstGeom>
          <a:solidFill>
            <a:srgbClr val="ffffff"/>
          </a:solidFill>
          <a:ln w="1260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2" name="Picture 1" descr="farmer"/>
          <p:cNvPicPr/>
          <p:nvPr/>
        </p:nvPicPr>
        <p:blipFill>
          <a:blip r:embed="rId1"/>
          <a:stretch/>
        </p:blipFill>
        <p:spPr>
          <a:xfrm>
            <a:off x="395280" y="260280"/>
            <a:ext cx="882720" cy="15242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nurse-4[1]"/>
          <p:cNvPicPr/>
          <p:nvPr/>
        </p:nvPicPr>
        <p:blipFill>
          <a:blip r:embed="rId2"/>
          <a:stretch/>
        </p:blipFill>
        <p:spPr>
          <a:xfrm>
            <a:off x="3059280" y="252360"/>
            <a:ext cx="412560" cy="16718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" descr=""/>
          <p:cNvPicPr/>
          <p:nvPr/>
        </p:nvPicPr>
        <p:blipFill>
          <a:blip r:embed="rId3"/>
          <a:stretch/>
        </p:blipFill>
        <p:spPr>
          <a:xfrm>
            <a:off x="5076720" y="187200"/>
            <a:ext cx="839880" cy="18036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http://images.clipartpanda.com/actor-clipart-Actor_01.png"/>
          <p:cNvPicPr/>
          <p:nvPr/>
        </p:nvPicPr>
        <p:blipFill>
          <a:blip r:embed="rId4"/>
          <a:stretch/>
        </p:blipFill>
        <p:spPr>
          <a:xfrm>
            <a:off x="7093080" y="25236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186" name="TextBox 4"/>
          <p:cNvSpPr/>
          <p:nvPr/>
        </p:nvSpPr>
        <p:spPr>
          <a:xfrm>
            <a:off x="54000" y="2063880"/>
            <a:ext cx="896472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fermier</a:t>
            </a: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    infirmier</a:t>
            </a: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musicien</a:t>
            </a: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    comédie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fermière</a:t>
            </a: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    infirmière</a:t>
            </a: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musicienne    comédienn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" name="Rounded Rectangular Callout 5"/>
          <p:cNvSpPr/>
          <p:nvPr/>
        </p:nvSpPr>
        <p:spPr>
          <a:xfrm>
            <a:off x="2484360" y="3284640"/>
            <a:ext cx="4608720" cy="2881080"/>
          </a:xfrm>
          <a:prstGeom prst="wedgeRoundRectCallout">
            <a:avLst>
              <a:gd name="adj1" fmla="val -39194"/>
              <a:gd name="adj2" fmla="val 67712"/>
              <a:gd name="adj3" fmla="val 16667"/>
            </a:avLst>
          </a:prstGeom>
          <a:solidFill>
            <a:srgbClr val="ffffff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33"/>
                </a:solidFill>
                <a:latin typeface="Comic Sans MS"/>
              </a:rPr>
              <a:t>Je suis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8" name="Picture 1" descr="farmer"/>
          <p:cNvPicPr/>
          <p:nvPr/>
        </p:nvPicPr>
        <p:blipFill>
          <a:blip r:embed="rId5"/>
          <a:stretch/>
        </p:blipFill>
        <p:spPr>
          <a:xfrm>
            <a:off x="4529160" y="4292640"/>
            <a:ext cx="8827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54000" y="120600"/>
            <a:ext cx="8964720" cy="1940040"/>
          </a:xfrm>
          <a:prstGeom prst="rect">
            <a:avLst/>
          </a:prstGeom>
          <a:solidFill>
            <a:srgbClr val="ffffff"/>
          </a:solidFill>
          <a:ln w="1260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0" name="Picture 1" descr="farmer"/>
          <p:cNvPicPr/>
          <p:nvPr/>
        </p:nvPicPr>
        <p:blipFill>
          <a:blip r:embed="rId1"/>
          <a:stretch/>
        </p:blipFill>
        <p:spPr>
          <a:xfrm>
            <a:off x="395280" y="260280"/>
            <a:ext cx="882720" cy="15242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" descr="nurse-4[1]"/>
          <p:cNvPicPr/>
          <p:nvPr/>
        </p:nvPicPr>
        <p:blipFill>
          <a:blip r:embed="rId2"/>
          <a:stretch/>
        </p:blipFill>
        <p:spPr>
          <a:xfrm>
            <a:off x="3059280" y="252360"/>
            <a:ext cx="412560" cy="16718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" descr=""/>
          <p:cNvPicPr/>
          <p:nvPr/>
        </p:nvPicPr>
        <p:blipFill>
          <a:blip r:embed="rId3"/>
          <a:stretch/>
        </p:blipFill>
        <p:spPr>
          <a:xfrm>
            <a:off x="5076720" y="187200"/>
            <a:ext cx="839880" cy="18036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5" descr="http://images.clipartpanda.com/actor-clipart-Actor_01.png"/>
          <p:cNvPicPr/>
          <p:nvPr/>
        </p:nvPicPr>
        <p:blipFill>
          <a:blip r:embed="rId4"/>
          <a:stretch/>
        </p:blipFill>
        <p:spPr>
          <a:xfrm>
            <a:off x="7093080" y="25236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194" name="TextBox 4"/>
          <p:cNvSpPr/>
          <p:nvPr/>
        </p:nvSpPr>
        <p:spPr>
          <a:xfrm>
            <a:off x="54000" y="2063880"/>
            <a:ext cx="896472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fermier</a:t>
            </a: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    infirmier</a:t>
            </a: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musicien</a:t>
            </a: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    comédie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fermière</a:t>
            </a: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    infirmière</a:t>
            </a: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musicienne    comédienn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5" name="Rounded Rectangular Callout 5"/>
          <p:cNvSpPr/>
          <p:nvPr/>
        </p:nvSpPr>
        <p:spPr>
          <a:xfrm>
            <a:off x="2484360" y="3284640"/>
            <a:ext cx="4608720" cy="2881080"/>
          </a:xfrm>
          <a:prstGeom prst="wedgeRoundRectCallout">
            <a:avLst>
              <a:gd name="adj1" fmla="val -39194"/>
              <a:gd name="adj2" fmla="val 67712"/>
              <a:gd name="adj3" fmla="val 16667"/>
            </a:avLst>
          </a:prstGeom>
          <a:solidFill>
            <a:srgbClr val="ffffff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33"/>
                </a:solidFill>
                <a:latin typeface="Comic Sans MS"/>
              </a:rPr>
              <a:t>Je suis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6" name="Picture 5" descr="http://images.clipartpanda.com/actor-clipart-Actor_01.png"/>
          <p:cNvPicPr/>
          <p:nvPr/>
        </p:nvPicPr>
        <p:blipFill>
          <a:blip r:embed="rId5"/>
          <a:stretch/>
        </p:blipFill>
        <p:spPr>
          <a:xfrm>
            <a:off x="4211640" y="429264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3"/>
          <p:cNvSpPr/>
          <p:nvPr/>
        </p:nvSpPr>
        <p:spPr>
          <a:xfrm>
            <a:off x="54000" y="120600"/>
            <a:ext cx="8964720" cy="1940040"/>
          </a:xfrm>
          <a:prstGeom prst="rect">
            <a:avLst/>
          </a:prstGeom>
          <a:solidFill>
            <a:srgbClr val="ffffff"/>
          </a:solidFill>
          <a:ln w="1260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8" name="Picture 1" descr="farmer"/>
          <p:cNvPicPr/>
          <p:nvPr/>
        </p:nvPicPr>
        <p:blipFill>
          <a:blip r:embed="rId1"/>
          <a:stretch/>
        </p:blipFill>
        <p:spPr>
          <a:xfrm>
            <a:off x="395280" y="260280"/>
            <a:ext cx="882720" cy="15242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" descr="nurse-4[1]"/>
          <p:cNvPicPr/>
          <p:nvPr/>
        </p:nvPicPr>
        <p:blipFill>
          <a:blip r:embed="rId2"/>
          <a:stretch/>
        </p:blipFill>
        <p:spPr>
          <a:xfrm>
            <a:off x="3059280" y="252360"/>
            <a:ext cx="412560" cy="16718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" descr=""/>
          <p:cNvPicPr/>
          <p:nvPr/>
        </p:nvPicPr>
        <p:blipFill>
          <a:blip r:embed="rId3"/>
          <a:stretch/>
        </p:blipFill>
        <p:spPr>
          <a:xfrm>
            <a:off x="5076720" y="187200"/>
            <a:ext cx="839880" cy="18036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http://images.clipartpanda.com/actor-clipart-Actor_01.png"/>
          <p:cNvPicPr/>
          <p:nvPr/>
        </p:nvPicPr>
        <p:blipFill>
          <a:blip r:embed="rId4"/>
          <a:stretch/>
        </p:blipFill>
        <p:spPr>
          <a:xfrm>
            <a:off x="7093080" y="25236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202" name="TextBox 4"/>
          <p:cNvSpPr/>
          <p:nvPr/>
        </p:nvSpPr>
        <p:spPr>
          <a:xfrm>
            <a:off x="54000" y="2063880"/>
            <a:ext cx="896472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fermier</a:t>
            </a: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    infirmier</a:t>
            </a: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musicien</a:t>
            </a: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    comédie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fermière</a:t>
            </a: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    infirmière</a:t>
            </a: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musicienne    comédienn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3" name="Rounded Rectangular Callout 5"/>
          <p:cNvSpPr/>
          <p:nvPr/>
        </p:nvSpPr>
        <p:spPr>
          <a:xfrm>
            <a:off x="2484360" y="3284640"/>
            <a:ext cx="4608720" cy="2881080"/>
          </a:xfrm>
          <a:prstGeom prst="wedgeRoundRectCallout">
            <a:avLst>
              <a:gd name="adj1" fmla="val -39194"/>
              <a:gd name="adj2" fmla="val 67712"/>
              <a:gd name="adj3" fmla="val 16667"/>
            </a:avLst>
          </a:prstGeom>
          <a:solidFill>
            <a:srgbClr val="ffffff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33"/>
                </a:solidFill>
                <a:latin typeface="Comic Sans MS"/>
              </a:rPr>
              <a:t>Je suis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04" name="Picture 8" descr=""/>
          <p:cNvPicPr/>
          <p:nvPr/>
        </p:nvPicPr>
        <p:blipFill>
          <a:blip r:embed="rId5"/>
          <a:stretch/>
        </p:blipFill>
        <p:spPr>
          <a:xfrm>
            <a:off x="4367160" y="4149720"/>
            <a:ext cx="841320" cy="18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</cp:lastModifiedBy>
  <dcterms:modified xsi:type="dcterms:W3CDTF">2015-03-23T15:30:02Z</dcterms:modified>
  <cp:revision>91</cp:revision>
  <dc:subject/>
  <dc:title>Slide 1</dc:title>
</cp:coreProperties>
</file>