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402-2858-4D45-86EF-56B2B371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539-3780-49DE-A6AB-55B1FD6D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577-BB2E-48B8-B557-F1DF29A0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10D-0602-4FD7-A16E-345AEA0B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AE4C-D4A9-4D0E-9799-2187A945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9DE8-BE81-4FEE-8C62-810E048C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0E26-E530-4100-9198-595DD56C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F653-8229-4839-8CA6-8C9CF6EF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D6E5-168F-465D-B6B1-CE9C8B28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60AC-1901-480E-9D77-FCFCD3C5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A991-0D5A-477F-956D-2CAC3C9F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9E0-9B5B-4E92-994B-81306FEA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6EB8-C772-4AC4-9BB0-2DD748E8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A329-8419-41ED-B622-EF9DCB8C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C51A-E227-4DB5-A43D-28B4F364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A176-AF35-42D9-A810-8CCED3EA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8407-FB3B-45C7-8C55-29AE91F0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6F5F-4EA0-4D8D-8322-8755164A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D2213-8850-4250-BC35-5D79E29A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39AB-CBD2-472F-A5BC-573EDC8C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E3821-301B-4109-923C-B7C3D0F3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D0EA-9128-45E8-8E1C-51128DD7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144-CA0A-424E-905D-5B49CC1A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E1C6-3F67-4023-9E37-45A15359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59C2-0A40-4CD8-A5F5-DB00ADEB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094F-E5FB-40B4-832F-C163D68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08873-3BEE-4C89-A992-2EA16F0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C6D2-4B69-455A-A75C-DFF02843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CF3C-AB46-4B80-928C-030DC0FB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D137-3E65-4DDE-A847-14C5FA3A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0431E-C94C-4765-9CAC-8BB81702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96F7B-0B5F-4937-B8EB-9444AAA5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B47E-8183-4046-9138-86C5D35D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119-1696-4519-9132-D36E58F7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95E70-73A9-4E77-B30E-CE4B3F65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030C-7B5C-42EC-854E-68E9CA9C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DE815-1FA0-4BE7-94CC-3A168C35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ACA3D-871D-4F4A-A6AF-FAA13195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8D4F4-A562-457E-8026-D858D9C3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3CA30-2A3F-4841-AB07-88269663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B570D-DCA5-4144-B6A2-6297B06B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A4F64-6589-4B07-A627-781B0126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B0530-6429-4428-A06A-D5644596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1D1-8A45-4F44-9378-DC6DF808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549-F32F-4EF4-BAC1-A1BBB69B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E9F-D5EA-439D-BFF8-3F71F2F8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A2C-F1B0-4CD5-994B-A1B1ACDC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7FA-5961-49A8-8EDE-972C347C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590E-A283-4C29-BB93-05EBA8527E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7EE6-4E9F-4C63-A226-B737AA493C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62AE-8267-4BD8-8716-53AD8B7F28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4CE5-265F-4459-8253-B74E9716D9B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79280" y="333360"/>
          <a:ext cx="8856720" cy="453564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226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2" descr=""/>
          <p:cNvPicPr/>
          <p:nvPr/>
        </p:nvPicPr>
        <p:blipFill>
          <a:blip r:embed="rId1"/>
          <a:srcRect l="0" t="0" r="51231" b="0"/>
          <a:stretch/>
        </p:blipFill>
        <p:spPr>
          <a:xfrm>
            <a:off x="7020000" y="404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0" r="51738" b="0"/>
          <a:stretch/>
        </p:blipFill>
        <p:spPr>
          <a:xfrm>
            <a:off x="4788000" y="2637000"/>
            <a:ext cx="1871640" cy="1879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333360" y="371520"/>
            <a:ext cx="1946160" cy="1920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4"/>
          <a:stretch/>
        </p:blipFill>
        <p:spPr>
          <a:xfrm>
            <a:off x="7007400" y="2637000"/>
            <a:ext cx="1919160" cy="1911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5"/>
          <a:stretch/>
        </p:blipFill>
        <p:spPr>
          <a:xfrm>
            <a:off x="324000" y="2637000"/>
            <a:ext cx="1903320" cy="1879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6"/>
          <a:stretch/>
        </p:blipFill>
        <p:spPr>
          <a:xfrm>
            <a:off x="2556000" y="371520"/>
            <a:ext cx="1936800" cy="1920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7"/>
          <a:stretch/>
        </p:blipFill>
        <p:spPr>
          <a:xfrm>
            <a:off x="2565360" y="2647800"/>
            <a:ext cx="1876320" cy="1868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8"/>
          <a:stretch/>
        </p:blipFill>
        <p:spPr>
          <a:xfrm>
            <a:off x="4716360" y="371520"/>
            <a:ext cx="1944720" cy="19209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1"/>
          <p:cNvSpPr/>
          <p:nvPr/>
        </p:nvSpPr>
        <p:spPr>
          <a:xfrm>
            <a:off x="352440" y="5276880"/>
            <a:ext cx="8413560" cy="79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33333"/>
                </a:solidFill>
                <a:latin typeface="Comic Sans MS"/>
              </a:rPr>
              <a:t>Think, Pair, Share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7308720" y="1979640"/>
            <a:ext cx="129564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51"/>
          <p:cNvSpPr/>
          <p:nvPr/>
        </p:nvSpPr>
        <p:spPr>
          <a:xfrm>
            <a:off x="5076720" y="4235400"/>
            <a:ext cx="129564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52"/>
          <p:cNvSpPr/>
          <p:nvPr/>
        </p:nvSpPr>
        <p:spPr>
          <a:xfrm>
            <a:off x="627120" y="1954080"/>
            <a:ext cx="129708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53"/>
          <p:cNvSpPr/>
          <p:nvPr/>
        </p:nvSpPr>
        <p:spPr>
          <a:xfrm>
            <a:off x="7291440" y="4195800"/>
            <a:ext cx="129528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54"/>
          <p:cNvSpPr/>
          <p:nvPr/>
        </p:nvSpPr>
        <p:spPr>
          <a:xfrm>
            <a:off x="614520" y="4224240"/>
            <a:ext cx="129672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55"/>
          <p:cNvSpPr/>
          <p:nvPr/>
        </p:nvSpPr>
        <p:spPr>
          <a:xfrm>
            <a:off x="2905200" y="1954080"/>
            <a:ext cx="129528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ou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Box 56"/>
          <p:cNvSpPr/>
          <p:nvPr/>
        </p:nvSpPr>
        <p:spPr>
          <a:xfrm>
            <a:off x="2825640" y="4195800"/>
            <a:ext cx="129564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Box 57"/>
          <p:cNvSpPr/>
          <p:nvPr/>
        </p:nvSpPr>
        <p:spPr>
          <a:xfrm>
            <a:off x="5019840" y="1936800"/>
            <a:ext cx="129528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19"/>
          <p:cNvSpPr/>
          <p:nvPr/>
        </p:nvSpPr>
        <p:spPr>
          <a:xfrm>
            <a:off x="179280" y="371520"/>
            <a:ext cx="36036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Box 58"/>
          <p:cNvSpPr/>
          <p:nvPr/>
        </p:nvSpPr>
        <p:spPr>
          <a:xfrm>
            <a:off x="2433600" y="352440"/>
            <a:ext cx="36036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59"/>
          <p:cNvSpPr/>
          <p:nvPr/>
        </p:nvSpPr>
        <p:spPr>
          <a:xfrm>
            <a:off x="4614840" y="353880"/>
            <a:ext cx="36036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Box 60"/>
          <p:cNvSpPr/>
          <p:nvPr/>
        </p:nvSpPr>
        <p:spPr>
          <a:xfrm>
            <a:off x="6840360" y="352440"/>
            <a:ext cx="36072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Box 61"/>
          <p:cNvSpPr/>
          <p:nvPr/>
        </p:nvSpPr>
        <p:spPr>
          <a:xfrm>
            <a:off x="179280" y="2619360"/>
            <a:ext cx="36036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62"/>
          <p:cNvSpPr/>
          <p:nvPr/>
        </p:nvSpPr>
        <p:spPr>
          <a:xfrm>
            <a:off x="2433600" y="2600280"/>
            <a:ext cx="36036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TextBox 63"/>
          <p:cNvSpPr/>
          <p:nvPr/>
        </p:nvSpPr>
        <p:spPr>
          <a:xfrm>
            <a:off x="4614840" y="2602080"/>
            <a:ext cx="36036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Box 64"/>
          <p:cNvSpPr/>
          <p:nvPr/>
        </p:nvSpPr>
        <p:spPr>
          <a:xfrm>
            <a:off x="6840360" y="2600280"/>
            <a:ext cx="36072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816360" cy="1846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3846600" cy="187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177840" y="4344840"/>
            <a:ext cx="3848040" cy="18766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4025880" y="692280"/>
            <a:ext cx="5659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Comic Sans MS"/>
              </a:rPr>
              <a:t>Je suis mécanicien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041720" y="2562120"/>
            <a:ext cx="5657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Comic Sans MS"/>
              </a:rPr>
              <a:t>Nous sommes mécanicien</a:t>
            </a:r>
            <a:r>
              <a:rPr b="0" lang="en-GB" sz="4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4025880" y="4883040"/>
            <a:ext cx="5659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Comic Sans MS"/>
              </a:rPr>
              <a:t>Elle est boulang</a:t>
            </a:r>
            <a:r>
              <a:rPr b="0" lang="en-GB" sz="4200" spc="-1" strike="noStrike" u="sng">
                <a:solidFill>
                  <a:srgbClr val="ffffff"/>
                </a:solidFill>
                <a:uFillTx/>
                <a:latin typeface="Comic Sans MS"/>
              </a:rPr>
              <a:t>ère</a:t>
            </a:r>
            <a:r>
              <a:rPr b="0" lang="en-GB" sz="4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2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0" t="0" r="51231" b="0"/>
          <a:stretch/>
        </p:blipFill>
        <p:spPr>
          <a:xfrm>
            <a:off x="250920" y="366840"/>
            <a:ext cx="1509480" cy="150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rcRect l="0" t="0" r="51738" b="0"/>
          <a:stretch/>
        </p:blipFill>
        <p:spPr>
          <a:xfrm>
            <a:off x="250920" y="1936800"/>
            <a:ext cx="1454040" cy="1458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3"/>
          <a:stretch/>
        </p:blipFill>
        <p:spPr>
          <a:xfrm>
            <a:off x="241200" y="3502080"/>
            <a:ext cx="1463760" cy="1444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4"/>
          <a:stretch/>
        </p:blipFill>
        <p:spPr>
          <a:xfrm>
            <a:off x="250920" y="5094360"/>
            <a:ext cx="1490400" cy="148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5"/>
          <a:stretch/>
        </p:blipFill>
        <p:spPr>
          <a:xfrm>
            <a:off x="4300560" y="371520"/>
            <a:ext cx="1523880" cy="1504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6"/>
          <a:stretch/>
        </p:blipFill>
        <p:spPr>
          <a:xfrm>
            <a:off x="4300560" y="1936800"/>
            <a:ext cx="1512720" cy="1500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7"/>
          <a:stretch/>
        </p:blipFill>
        <p:spPr>
          <a:xfrm>
            <a:off x="4311720" y="3502080"/>
            <a:ext cx="1501560" cy="1495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8"/>
          <a:stretch/>
        </p:blipFill>
        <p:spPr>
          <a:xfrm>
            <a:off x="4255920" y="5094360"/>
            <a:ext cx="1557360" cy="15382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1908000" y="692280"/>
            <a:ext cx="2087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1760400" y="2133720"/>
            <a:ext cx="2495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you (sg.)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1741320" y="3633840"/>
            <a:ext cx="2495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he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1725480" y="5332320"/>
            <a:ext cx="2494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she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Box 23"/>
          <p:cNvSpPr/>
          <p:nvPr/>
        </p:nvSpPr>
        <p:spPr>
          <a:xfrm>
            <a:off x="6129360" y="692280"/>
            <a:ext cx="2089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we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Box 24"/>
          <p:cNvSpPr/>
          <p:nvPr/>
        </p:nvSpPr>
        <p:spPr>
          <a:xfrm>
            <a:off x="5983200" y="2133720"/>
            <a:ext cx="2495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you (pl.)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Box 25"/>
          <p:cNvSpPr/>
          <p:nvPr/>
        </p:nvSpPr>
        <p:spPr>
          <a:xfrm>
            <a:off x="5964120" y="3633840"/>
            <a:ext cx="2855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they (m.)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5946840" y="5332320"/>
            <a:ext cx="2495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they (f.)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7-06-25T16:22:13Z</dcterms:modified>
  <cp:revision>107</cp:revision>
  <dc:subject/>
  <dc:title>Slide 1</dc:title>
</cp:coreProperties>
</file>