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7C5-1480-4453-9AD0-BC7349D4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4A6-15EC-4CD7-B094-FCE42CF2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94A-B0A3-49A5-8577-622DC1BB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BCA-F2B7-4448-8704-D29B9977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ABAF-766B-4B2A-B729-4CF3274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0ECC-8C47-4765-942B-C081B31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3A46-E324-4FE7-85BC-3E60623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D2B-4A6B-4068-9E62-F0E2EA3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3C8-A6EF-429C-918E-9BBF6603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D08-78D3-43AB-85D7-9346450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05F0-24DD-460A-A772-772B0B0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A32-FEE7-4F11-80FF-A59E3B3E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046-47F3-4ADB-AF3F-5989A59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F84-9E7E-4C3B-95EC-B9D446E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726C-526A-4E4A-9C91-1823F1F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B49-CE29-41F7-9FA3-D398D5D4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03BA-44D5-40FC-AE36-18256D6D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2278-42B4-475E-8A4E-B7F85514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1FEF-EF63-4B58-8689-DAF9D558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B6EC-00EC-47E8-9C33-6B75AAD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C0A8-CAC0-42E7-8310-260375E5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B8B7-DCD4-406E-8790-1CCE6B0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244-F23D-47C1-9CA7-144273E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8C2D-C284-4DDB-AFF3-A565FD6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287F-36FC-469E-A18B-6D28949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7D9C-77E7-4A0C-B2A7-A852FAB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4D1C-F614-4F60-A448-E2202C5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5BAF-E8F3-4E22-B8FE-2F62A99C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DE95-3F58-4705-91A8-77C1FDF5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383D-697E-4D52-9AD7-1A566223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B04E-30E0-4EB0-8F89-5D955593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3B7E-41B7-40F9-8576-675488A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C2A3-C619-440D-B722-0BF4BAD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BF8-E6AA-48AF-A77B-7428C9F7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7812-AA7E-4905-81C4-C54E363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547F-81CD-48BF-A331-AFE282E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D775-AD9C-4954-8B12-BD3742E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4B83-65B2-46B6-BE1B-7DC9483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20CB-8962-45D4-9B5F-C7BF009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F76C-06C2-4716-821E-D6F4547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26CF-D4AC-42FC-BFD5-FF2E749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E8F9-F9C7-4206-B76C-BBEA589D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151A-089F-4BA5-9934-0B07C723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421-B53B-4B9C-864C-8138FB9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756-AD5B-4972-9FDE-A93931D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FE0-3829-471B-855C-A2E7D69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6FB-4751-4106-8497-99C9A7B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823-379A-4642-963F-0E690F1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C45-D016-4EA4-AD56-6967D5E5C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78CE-E772-4D78-AACE-24D28178E3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B12-38B1-4183-B1DF-30F162B199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FBB-3D60-43E8-AD7A-2CF9016F094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333360"/>
          <a:ext cx="8856720" cy="453564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22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" descr=""/>
          <p:cNvPicPr/>
          <p:nvPr/>
        </p:nvPicPr>
        <p:blipFill>
          <a:blip r:embed="rId1"/>
          <a:srcRect l="0" t="0" r="51231" b="0"/>
          <a:stretch/>
        </p:blipFill>
        <p:spPr>
          <a:xfrm>
            <a:off x="7020000" y="404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0" r="51738" b="0"/>
          <a:stretch/>
        </p:blipFill>
        <p:spPr>
          <a:xfrm>
            <a:off x="4788000" y="2637000"/>
            <a:ext cx="1871640" cy="187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333360" y="371520"/>
            <a:ext cx="1946160" cy="192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7007400" y="2637000"/>
            <a:ext cx="1919160" cy="191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5"/>
          <a:stretch/>
        </p:blipFill>
        <p:spPr>
          <a:xfrm>
            <a:off x="324000" y="2637000"/>
            <a:ext cx="1903320" cy="187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6"/>
          <a:stretch/>
        </p:blipFill>
        <p:spPr>
          <a:xfrm>
            <a:off x="2556000" y="371520"/>
            <a:ext cx="1936800" cy="19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7"/>
          <a:stretch/>
        </p:blipFill>
        <p:spPr>
          <a:xfrm>
            <a:off x="2565360" y="2647800"/>
            <a:ext cx="1876320" cy="1868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8"/>
          <a:stretch/>
        </p:blipFill>
        <p:spPr>
          <a:xfrm>
            <a:off x="4716360" y="371520"/>
            <a:ext cx="1944720" cy="19209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>
            <a:off x="352440" y="5276880"/>
            <a:ext cx="8413560" cy="79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33333"/>
                </a:solidFill>
                <a:latin typeface="Comic Sans MS"/>
              </a:rPr>
              <a:t>Think, Pair, Shar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308720" y="197964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51"/>
          <p:cNvSpPr/>
          <p:nvPr/>
        </p:nvSpPr>
        <p:spPr>
          <a:xfrm>
            <a:off x="5076720" y="423540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52"/>
          <p:cNvSpPr/>
          <p:nvPr/>
        </p:nvSpPr>
        <p:spPr>
          <a:xfrm>
            <a:off x="627120" y="1954080"/>
            <a:ext cx="12970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53"/>
          <p:cNvSpPr/>
          <p:nvPr/>
        </p:nvSpPr>
        <p:spPr>
          <a:xfrm>
            <a:off x="7291440" y="419580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54"/>
          <p:cNvSpPr/>
          <p:nvPr/>
        </p:nvSpPr>
        <p:spPr>
          <a:xfrm>
            <a:off x="614520" y="4224240"/>
            <a:ext cx="129672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2905200" y="195408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o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56"/>
          <p:cNvSpPr/>
          <p:nvPr/>
        </p:nvSpPr>
        <p:spPr>
          <a:xfrm>
            <a:off x="2825640" y="4195800"/>
            <a:ext cx="129564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57"/>
          <p:cNvSpPr/>
          <p:nvPr/>
        </p:nvSpPr>
        <p:spPr>
          <a:xfrm>
            <a:off x="5019840" y="1936800"/>
            <a:ext cx="1295280" cy="581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179280" y="37152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58"/>
          <p:cNvSpPr/>
          <p:nvPr/>
        </p:nvSpPr>
        <p:spPr>
          <a:xfrm>
            <a:off x="2433600" y="35244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59"/>
          <p:cNvSpPr/>
          <p:nvPr/>
        </p:nvSpPr>
        <p:spPr>
          <a:xfrm>
            <a:off x="4614840" y="3538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6840360" y="352440"/>
            <a:ext cx="36072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61"/>
          <p:cNvSpPr/>
          <p:nvPr/>
        </p:nvSpPr>
        <p:spPr>
          <a:xfrm>
            <a:off x="179280" y="261936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62"/>
          <p:cNvSpPr/>
          <p:nvPr/>
        </p:nvSpPr>
        <p:spPr>
          <a:xfrm>
            <a:off x="2433600" y="26002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TextBox 63"/>
          <p:cNvSpPr/>
          <p:nvPr/>
        </p:nvSpPr>
        <p:spPr>
          <a:xfrm>
            <a:off x="4614840" y="2602080"/>
            <a:ext cx="36036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64"/>
          <p:cNvSpPr/>
          <p:nvPr/>
        </p:nvSpPr>
        <p:spPr>
          <a:xfrm>
            <a:off x="6840360" y="2600280"/>
            <a:ext cx="360720" cy="398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816360" cy="184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3846600" cy="187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77840" y="4344840"/>
            <a:ext cx="3848040" cy="18766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4025880" y="692280"/>
            <a:ext cx="5659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Je suis mécanicien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41720" y="2562120"/>
            <a:ext cx="5657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Nous sommes mécanicien</a:t>
            </a:r>
            <a:r>
              <a:rPr b="0" lang="en-GB" sz="4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4025880" y="4883040"/>
            <a:ext cx="5659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Elle est boulang</a:t>
            </a:r>
            <a:r>
              <a:rPr b="0" lang="en-GB" sz="4200" spc="-1" strike="noStrike" u="sng">
                <a:solidFill>
                  <a:srgbClr val="ffffff"/>
                </a:solidFill>
                <a:uFillTx/>
                <a:latin typeface="Comic Sans MS"/>
              </a:rPr>
              <a:t>ère</a:t>
            </a:r>
            <a:r>
              <a:rPr b="0" lang="en-GB" sz="4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0" t="0" r="51231" b="0"/>
          <a:stretch/>
        </p:blipFill>
        <p:spPr>
          <a:xfrm>
            <a:off x="250920" y="366840"/>
            <a:ext cx="150948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rcRect l="0" t="0" r="51738" b="0"/>
          <a:stretch/>
        </p:blipFill>
        <p:spPr>
          <a:xfrm>
            <a:off x="250920" y="1936800"/>
            <a:ext cx="1454040" cy="145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241200" y="3502080"/>
            <a:ext cx="1463760" cy="1444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4"/>
          <a:stretch/>
        </p:blipFill>
        <p:spPr>
          <a:xfrm>
            <a:off x="250920" y="5094360"/>
            <a:ext cx="1490400" cy="14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5"/>
          <a:stretch/>
        </p:blipFill>
        <p:spPr>
          <a:xfrm>
            <a:off x="4300560" y="37152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>
            <a:off x="4300560" y="1936800"/>
            <a:ext cx="1512720" cy="150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4311720" y="3502080"/>
            <a:ext cx="150156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>
            <a:off x="4255920" y="5094360"/>
            <a:ext cx="1557360" cy="15382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908000" y="692280"/>
            <a:ext cx="208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1760400" y="21337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you (sg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1741320" y="3633840"/>
            <a:ext cx="2495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1725480" y="5332320"/>
            <a:ext cx="249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sh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6129360" y="692280"/>
            <a:ext cx="208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we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5983200" y="21337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you (pl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Box 25"/>
          <p:cNvSpPr/>
          <p:nvPr/>
        </p:nvSpPr>
        <p:spPr>
          <a:xfrm>
            <a:off x="5964120" y="3633840"/>
            <a:ext cx="2855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they (m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5946840" y="5332320"/>
            <a:ext cx="2495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they (f.)</a:t>
            </a:r>
            <a:endParaRPr b="0" lang="en-US" sz="4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7-06-25T16:22:13Z</dcterms:modified>
  <cp:revision>107</cp:revision>
  <dc:subject/>
  <dc:title>Slide 1</dc:title>
</cp:coreProperties>
</file>