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6D0F-3E91-4401-AC60-028D0A12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953D-C7BA-4042-84FB-45319EDF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C9FD-A249-431F-BBC0-F5EFE230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9405-8688-40CE-8415-BADDFAFB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E824-F32C-4B6A-B899-7D0F3BA1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532B-EAAA-4B93-9363-0F4DB2C1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E10C-BEAF-4FA4-BDD1-5CFCF3DF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F3DF-03DA-4C40-835E-D0375EA8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40A2-F9CE-4B0C-8A4D-BB0E0CF0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3335-CF00-49C8-AFC3-BA7B6429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9DC3-618D-465B-8D9C-90AD3D8D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5953-56A8-4308-8A8D-88704FB6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AEDE-3935-45BA-A9D3-295BD013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A305-8A47-4AB1-A5CE-2FEF260C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DEDC-6E7A-4282-9501-F59BB98E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5EC1-FD36-4BF2-87E2-B8EEE773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238D-C4B8-4127-9234-1537B5D3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AF548-D3B4-4623-B802-9347B6F8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C00DB-6F6E-4340-82C8-1A178B7C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4ED1E-856B-429B-A489-5926CBB8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0B612-AF24-4F1A-9482-6E6B5959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3723E-E802-4034-931F-30268736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34C1-D054-4A07-86BB-6B86D87B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06FF8-B8F2-4D42-9283-33A6C32B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B26F7-7420-40D3-B7FC-83C6B0F7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7A801-5AAB-4F3E-A1A1-A9881743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BB538-426D-434E-AF43-C11C1F83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9F505-C8E2-4AC6-8CC9-73650CE2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813AD-7C70-4CBE-A60B-AEC09954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AAB2F-B206-4B4C-A32B-166C6C2C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3E7D6-1FA8-4F74-88DE-92F0834D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89591-6AFF-424B-A977-1623647C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C013B-79C6-4A81-9F99-4BFA24A6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91E7-BAFC-40B2-8049-D2D60145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0A135-11B8-4A21-B863-4E430415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C53A8-AA1C-4BDE-A35B-7BD00F82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8CECD-EF17-463C-B3AB-921A5912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1CD01-67CD-46BE-AE1B-34F7AB7A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57B83-04AD-4664-AADD-9D368579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F11F5-852D-43B3-B95F-F99B4BBE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CC234-92A5-4711-8085-693AB8EE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D0E63-25CE-4F60-A4C9-7E017FDF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BB0F2-B5BC-4AC9-8D36-D5C5FD0A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25E7-A849-48DE-B3B0-72E9D645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6418-5349-49D1-95C8-93BB383F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637A-7335-46EA-8DBE-178D5AE6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22EC-9F0F-497C-A255-35ECBB02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9744-277C-4DE2-9C70-B5A4085F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9EF1-E84B-4224-B21A-B7919CD6B6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0EF0-8CC7-497A-875B-ACF31654BB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34A4-65F4-4A47-98DD-DD81C0BF9C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4F7D-E0FA-45D2-92B7-A64CEC0280D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0" y="13320"/>
            <a:ext cx="9056520" cy="52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L'éléphant se douche, douche, douche,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Sa trompe est un arrosoir.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L'éléphant se mouche, mouche, mouche,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Il lui faut un grand mouchoir.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L'éléphant dans sa bouche, bouche, bouche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A deux défenses en ivoire.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L'éléphant se couche, couche, couche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A huit heures tous les soir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8" name="Picture 6" descr="MC900139507[1]"/>
          <p:cNvPicPr/>
          <p:nvPr/>
        </p:nvPicPr>
        <p:blipFill>
          <a:blip r:embed="rId1"/>
          <a:stretch/>
        </p:blipFill>
        <p:spPr>
          <a:xfrm flipH="1">
            <a:off x="6443640" y="4581360"/>
            <a:ext cx="2160720" cy="21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-32400" y="13320"/>
            <a:ext cx="9056520" cy="52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L'éléphant se douche, douche, douche,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Sa trompe est un arrosoir.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L'éléphant se mouche, mouche, mouche,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Il lui faut un grand mouchoir.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L'éléphant dans sa bouche, bouche, bouche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A deux défenses en ivoire.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L'éléphant se couche, couche, couche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A huit heures tous les soir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1" name="Picture 4" descr="MC900139507[1]"/>
          <p:cNvPicPr/>
          <p:nvPr/>
        </p:nvPicPr>
        <p:blipFill>
          <a:blip r:embed="rId1"/>
          <a:stretch/>
        </p:blipFill>
        <p:spPr>
          <a:xfrm flipH="1">
            <a:off x="6443640" y="4581360"/>
            <a:ext cx="2160720" cy="21006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3276720" y="189000"/>
            <a:ext cx="503280" cy="57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4932360" y="189000"/>
            <a:ext cx="503280" cy="57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6588000" y="189000"/>
            <a:ext cx="503280" cy="57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3348000" y="1484280"/>
            <a:ext cx="50328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5076720" y="1484280"/>
            <a:ext cx="50328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6804000" y="1484280"/>
            <a:ext cx="50328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27640" y="2060640"/>
            <a:ext cx="50328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4284720" y="2781360"/>
            <a:ext cx="50328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5940360" y="2781360"/>
            <a:ext cx="50328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7596360" y="2781360"/>
            <a:ext cx="50292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3203640" y="4076640"/>
            <a:ext cx="50328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4859280" y="4076640"/>
            <a:ext cx="50328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6516720" y="4076640"/>
            <a:ext cx="50328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3276720" y="4724280"/>
            <a:ext cx="50328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9-21T13:44:17Z</dcterms:modified>
  <cp:revision>43</cp:revision>
  <dc:subject/>
  <dc:title>Slide 1</dc:title>
</cp:coreProperties>
</file>