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D15-2F76-4A5D-9FA7-27DD1880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33F-97B9-4BF9-83C1-CCA183D5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31E-DF9E-4555-B8B2-B136739A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5CE-77F9-4D1E-89B0-CD259D42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0116-30C2-4A5C-BFCD-36B3AE22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BBF6-4CCC-4C2A-9E45-DDB37792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6078-15DE-43BF-BFDC-C30B4E66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C53F-4D13-4992-A007-4510F9D5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7C30-A9BB-4BE0-BC99-8C15D887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87AE-6959-4E6F-A71C-4300574D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1F90-9F89-43F3-B25C-6DDEA9DB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BB3-720E-4D3A-B533-C0D7E241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1C2A-526E-498E-8FC9-1544BE73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4581-F003-4363-B81B-56DF2458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830A-8A63-4CD6-83C1-98A4438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E18F-47C9-4C04-A7A4-99E9FCED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6DAE-CD1F-4D74-801C-2B8EE564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A240-0811-47B5-BFCA-B85A36F3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E939-5DEF-44E2-9B01-2EFE3B3F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5B77-B9DA-45BA-888C-0074D37D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F961-BDD7-4B8D-ABF2-D2A28AF1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871F-DA51-40C4-9376-EDE01977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424-B401-46AA-A809-741B5BE1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9F67-5172-440C-8579-77DEC2FC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09B2-EAD6-476C-80AC-A17316F9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C7C0-7260-4942-8C8A-800783E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47AD-2493-412A-BAD9-EDA9F04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55C8-9B53-459C-940E-0465E265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3F827-BA78-4BFF-84F6-203897E3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3C84-7CC4-47C5-BF59-7CB87DA3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EF64A-701D-4716-8C1F-85E65727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4FB3-301D-4003-A03E-616210D4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34EA-0A39-40EC-BE2B-5F207DFA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1F2-BAD1-4A52-9AE0-01722DCE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529D-58A9-47A1-993D-01BCAF41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E5A9-3146-4AEF-B621-33724B84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F3DD-10B1-4D54-AC92-18831808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6232-74E4-4D8B-B9A6-EED69A17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E33D-B123-4D58-A841-E8DDC33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30E6-9781-4C91-A1EE-18580C56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8B704-476D-425D-8C96-56545AC7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495B-C284-4139-8024-E039856B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09F6-6CD9-43DA-AFA8-AD5D6539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868-8FE0-4E1F-B132-691AB6BE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696-5A72-4AEA-9945-6637E160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352-3A5C-4CE9-81EF-73AB95AA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F4B-0022-437C-AE9B-0CB04466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FD0-57F5-4E6B-85CF-8D6BBBEC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4EE2-4E7A-4060-9BF4-006A672139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F88F-B116-48BA-9470-C93677F285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E10E-5908-4827-A664-6FC2AFB10D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6A5E-1EDA-43CB-8CE1-A4A5A41D7EF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0" y="13320"/>
            <a:ext cx="905652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douche, douche, douche,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Sa trompe est un arrosoir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mouche, mouche, mouche,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Il lui faut un grand mouchoir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dans sa bouche, bouche, bouche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 deux défenses en ivoire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couche, couche, couche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 huit heures tous les soir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Picture 6" descr="MC900139507[1]"/>
          <p:cNvPicPr/>
          <p:nvPr/>
        </p:nvPicPr>
        <p:blipFill>
          <a:blip r:embed="rId1"/>
          <a:stretch/>
        </p:blipFill>
        <p:spPr>
          <a:xfrm flipH="1">
            <a:off x="6443640" y="4581360"/>
            <a:ext cx="2160720" cy="21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-32400" y="13320"/>
            <a:ext cx="905652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douche, douche, douche,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Sa trompe est un arrosoir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mouche, mouche, mouche,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Il lui faut un grand mouchoir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dans sa bouche, bouche, bouche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 deux défenses en ivoire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couche, couche, couche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 huit heures tous les soir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4" descr="MC900139507[1]"/>
          <p:cNvPicPr/>
          <p:nvPr/>
        </p:nvPicPr>
        <p:blipFill>
          <a:blip r:embed="rId1"/>
          <a:stretch/>
        </p:blipFill>
        <p:spPr>
          <a:xfrm flipH="1">
            <a:off x="6443640" y="4581360"/>
            <a:ext cx="2160720" cy="21006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3276720" y="189000"/>
            <a:ext cx="5032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932360" y="189000"/>
            <a:ext cx="5032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588000" y="189000"/>
            <a:ext cx="5032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348000" y="148428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5076720" y="148428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04000" y="148428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27640" y="206064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284720" y="278136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5940360" y="278136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7596360" y="2781360"/>
            <a:ext cx="5029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203640" y="407664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4859280" y="407664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6516720" y="407664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276720" y="472428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44:17Z</dcterms:modified>
  <cp:revision>43</cp:revision>
  <dc:subject/>
  <dc:title>Slide 1</dc:title>
</cp:coreProperties>
</file>