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39E-A55D-440F-A80E-45AC5AA0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639-7E4E-4254-BEAE-A464A026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5D6-410C-45E4-8ED0-15C25FBD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4C7-4DBB-4837-8C75-95E2F839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ACCF-973E-4045-B7AF-14F7BFD5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5BCE-CD5D-4703-B6D7-9F2DE5F2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16B5-01F5-472A-9788-88D0EC04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AA37-1768-4A38-9AF0-E1048283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A758-1242-43B9-B1CF-9DB9D397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68A5-04F3-451B-A60B-5AC60F39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0299-7099-4513-98C3-0AFDD85E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42C-D9DD-4E33-91D4-86B85DDB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E293-AAC9-470D-A002-274E7B1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B14F-D472-474B-9D1E-BB9C0B92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638B-8147-4098-A03D-CF6E3A64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2A44-D832-4638-BFE2-0D7B2BAD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6229-49C0-4B12-A668-C3DD085B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AA3B-5255-4976-8014-B11FD31E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5F62-E5A9-4E74-9FF5-720870F4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CAC0-5688-47CD-BBB4-6D6D09E2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DC6D-DBC9-4087-8C28-E7436609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AA16-FC2B-4175-991E-4901C71B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CB9-AFB2-4A84-923D-A2C2314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6337-CB21-402A-A30C-FEA07135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65F2-5918-477D-A578-5DDAB18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A003-33FD-4F17-A682-4785B492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3E24-02D7-42E8-8C5F-37415A84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2FAD-2C16-4A17-B3DE-B65A2058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C34B-78C2-411B-8664-8911963B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42F8-4409-45BA-9BCA-D89A492C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9460-869B-4693-9E42-F61A8A49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49DAC-2DFF-4729-9DC7-2C56D92D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E57E-7355-4ED6-8127-86DBA08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81D-CF2E-4D5F-999E-0F127E24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4AD3F-3E83-41A4-938D-0CA0DD65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3E06-EB39-46D3-922D-B32C1AC0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9F0E-249A-49A9-8DBA-324DD370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95F96-EFFF-4663-B763-3644F9AD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EDD8-470A-4B5B-B66A-9AAC00BD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3D92-9D65-442C-A626-DA9E3606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ED4A6-B637-4127-BFBE-3CE3A254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D25D-8E13-483E-BBF8-DE7E1386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D0B8E-96FC-400B-8F1E-88FABBA1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190-F117-445B-95B9-EE05C3B7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969-152B-4BF7-8C0E-D86A92DA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5F3-850A-4C4A-AA15-49A792A5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0D7-0A05-4953-869D-04416AAD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F3F-901B-4B4F-8D34-2FB3B13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6355-05A5-46FF-BF5D-EDED24C430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24D0-9252-4543-8E45-9214D66D03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5144-1EBE-4DF3-9892-C20B246593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4F0A-0213-4EC9-80E6-818DBE9B6FA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79280" y="189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I can use my knowledge of cognates to discover some new noun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598320" y="1577880"/>
            <a:ext cx="3961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lion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lapin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cha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tigr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kangourou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ân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poisson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élépha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871880" y="1547640"/>
            <a:ext cx="395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n elephan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ca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lion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donkey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fish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kangaroo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tiger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rabbi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5359b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179280" y="189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I can use my knowledge of cognates to discover some new adjectiv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98320" y="1577880"/>
            <a:ext cx="3961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grand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eti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for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doux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lent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apid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féroce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tim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871880" y="1547640"/>
            <a:ext cx="395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big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fast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fierc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gentle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hy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mall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low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tro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395280" y="476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féro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395280" y="1484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lion is fierc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378160" y="476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fier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395280" y="22082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n lion est féroc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395280" y="3716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I can use être to describe animal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38:21Z</dcterms:modified>
  <cp:revision>109</cp:revision>
  <dc:subject/>
  <dc:title>Slide 1</dc:title>
</cp:coreProperties>
</file>