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44A-9C51-4CC9-A7C5-5E67277A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F9E-570D-44D6-9056-57538E06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D03-A4CA-4DB5-8DD9-D682C00D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76C-8D4E-4096-B569-DD63C932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5420-E53D-4DC6-AF7A-2DCDA551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E513-1C7A-4BA0-8D2D-9ED5D458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A772-2807-45A5-A2A0-90D99345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1224-334E-40EE-8DAE-9A3D5845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D718-B31E-46EC-A2D5-81DDEB68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FCB3-8EF7-40CE-B2D3-43E6D9C0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335F-F166-4B82-AD20-15D9F167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8D8-AA90-48E4-950D-1767EF24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4B3B-F4FE-4B01-8AB6-19A347B6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912B-8B43-476B-8077-F0508550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AD42-8EFE-4266-971D-AB2CE437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5B89-C63C-4E68-A090-173DC42E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3C49-5425-4A6B-8CBF-03A22F05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E3932-52C4-486D-A91D-B52919FE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0392C-E68B-4DAC-BD61-615E8D62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7E5E-B4D7-4A90-99F2-BB4E825B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A133A-B18C-4267-8FBA-BDFC755A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BB896-F2FD-48B8-BD53-4B3AF847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75D-8F63-4DE5-8065-1C5D1417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6D644-65B3-4A21-B63A-FEA0A20D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0DEED-FEB3-45F4-8B4A-763EDA1B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D01C7-A5B6-4CD0-B9D4-C52E246F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D6689-C80A-47F2-8518-1B6D7674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A7DAB-11F9-406A-BF71-C00A28B4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ED61-EC2F-401F-968D-B4361D89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747CE-795B-4638-B119-249759D9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5241E-3C3F-4EB9-BCAA-101BF0FE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EB7EB-B640-4B99-AC3E-9B96393F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ECCDB-5C66-491D-8FC0-A25272E4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5F4-F2EE-4731-89A0-BBFE9F3F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436B-640E-4081-AFE1-D55C28ED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AE71-2E64-4533-A77F-6F034FE5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0FCD-06CE-44D9-9673-8CD04771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2E9CE-E8A0-43E1-9AD7-6AB04E08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BCA7D-65ED-4FB1-BDE6-27540815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D1D3E-1982-4E96-ACC7-E31AFB8B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344B9-42DB-49DC-9F7D-C246A356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5E2B9-BA3E-4BAD-8041-B792B4DC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096F3-4F0B-4B2E-9795-55649120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42B-1991-4945-B650-7572C72E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221-DC9F-4A01-840B-932C77D3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177-798F-4889-8533-99F5032D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686-4D69-46F0-AFBA-33E76E94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CBE-3C35-4078-8F6E-CDDD5E73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A01E-66AA-4E20-9093-42C3EA134E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8B2A-2129-48DD-9F08-11A3D1A2D6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C336-17AB-40AA-B265-D47EA28A5E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7B99-F16D-451D-9CD6-5350CA71FEB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5359b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79280" y="189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I can use my knowledge of cognates to discover some new nouns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598320" y="1577880"/>
            <a:ext cx="3961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lion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lapin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chat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tigr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kangourou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ân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poisson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éléphan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871880" y="1547640"/>
            <a:ext cx="3959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n elephant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cat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lion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donkey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fish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kangaroo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tiger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rabbi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5359b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179280" y="189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I can use my knowledge of cognates to discover some new adjectives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598320" y="1577880"/>
            <a:ext cx="3961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grand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petit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fort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doux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lent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rapid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féroc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tim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4871880" y="1547640"/>
            <a:ext cx="3959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big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fast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fierc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gentl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hy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mall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low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tro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395280" y="476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féroc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395280" y="1484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lion is fierce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378160" y="476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fierc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395280" y="22082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lion est féroce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395280" y="3716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I can use être to describe animal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06-12T13:38:21Z</dcterms:modified>
  <cp:revision>109</cp:revision>
  <dc:subject/>
  <dc:title>Slide 1</dc:title>
</cp:coreProperties>
</file>