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F935-AAEF-4DA2-AE28-15033F16B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8F1A-1877-428E-AB11-877C8363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9C7A-0B32-4469-AC9B-2B71CF1C8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F318-F714-4CAC-A931-8A0F97E0D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F9BBC-B16B-4A4A-83A3-578E4F578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EEC22-326C-49E9-801E-CDA6D8E4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D7685-B7E1-413C-947D-5F9C26DB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BCC4B-1530-4313-9B65-F1A41041D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C39FE-C741-402A-85AC-E47F16E15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0BA52-8433-4160-827F-49797F02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6A494-DC57-4FAA-8AE8-0C9DBB7D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989C-6A61-448F-BFA7-5C91E4F2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7CA71-00FE-472C-BE84-C8F7B51B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9C12C-4CDE-4465-A19F-FB1536B0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6BA6-CB5F-4A50-956C-74D1607A7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D8B72-4795-44E8-A165-1BD90C33D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D5C7C-37BB-49AA-87E9-3E35E92E5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C6862-CBEC-4A28-8E05-735936724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DBFBF-45D7-480A-80CD-A73B9E9D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DEE8C-F5E5-4ED8-BFFB-8B4005E5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4C817-A6A1-4018-8FB5-D386281E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D7059-A8FF-47D1-89C2-519D1D660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CC89-A4DA-4A9E-A67A-F3208E59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6D41D-0F47-49B2-A991-C036FE4CB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2DD50-6E32-487B-A735-464177C3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631F3-2A36-4A58-8E0C-0210DC78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AD9E1-17B4-41B1-8B2C-E09A604B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BE3C2-4731-4582-8CF7-95531470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18D4B-27C0-4B48-9ABE-FE06F5D12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01A8E-1B62-4F5E-BB27-91E39A83B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7FFFA-B227-4CA9-9394-824A64A0F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AA46A-541A-4764-8838-0CD0D5DE9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6B15A-AF29-433C-979F-502261B96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9A8A-7AC1-451B-812C-8B922FAA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FFE78-2AD4-493E-915E-7241EDEB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D0D97-9B94-41B6-9407-540DB0074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BDFFB-21BF-4B41-A3D4-375D8B44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2CEEC-4442-451F-8913-FA3F59A9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4EBBD-8B6B-4E7D-A383-BCEDA222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ABDF9-1A02-4C9D-8E68-B92E0B4B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AE222-71E8-4D4C-9D1E-B738F3909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F021D-7DE6-4443-9269-4CCED20B5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AA643-46BC-4834-88F2-41A194F97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D152-E4A6-4814-B2FA-C052BF11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1B2D-D533-4B3E-B103-60D1A30C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157D-D2CE-4832-840F-1B695DB7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B7F1-19E5-4D58-8492-6830E64D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3BD9-554B-4321-9ECC-2FF30092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C3BB-9515-425B-B000-8A1C9C248EA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E6CE-8D7B-4E49-88C5-099F156F724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4A00-AE63-4326-B935-D441BD3E333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3654-4AF6-48DE-A900-A896162A1C3F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ounded Rectangle 1"/>
          <p:cNvSpPr/>
          <p:nvPr/>
        </p:nvSpPr>
        <p:spPr>
          <a:xfrm>
            <a:off x="826920" y="333360"/>
            <a:ext cx="3529080" cy="4390920"/>
          </a:xfrm>
          <a:custGeom>
            <a:avLst/>
            <a:gdLst>
              <a:gd name="textAreaLeft" fmla="*/ 172080 w 3529080"/>
              <a:gd name="textAreaRight" fmla="*/ 3357000 w 3529080"/>
              <a:gd name="textAreaTop" fmla="*/ 172080 h 4390920"/>
              <a:gd name="textAreaBottom" fmla="*/ 4218840 h 4390920"/>
            </a:gdLst>
            <a:ahLst/>
            <a:rect l="textAreaLeft" t="textAreaTop" r="textAreaRight" b="textAreaBottom"/>
            <a:pathLst>
              <a:path w="21600" h="26874">
                <a:moveTo>
                  <a:pt x="3600" y="0"/>
                </a:moveTo>
                <a:arcTo wR="3600" hR="3600" stAng="16200000" swAng="-5400000"/>
                <a:lnTo>
                  <a:pt x="0" y="23274"/>
                </a:lnTo>
                <a:arcTo wR="3600" hR="3600" stAng="10800000" swAng="-5400000"/>
                <a:lnTo>
                  <a:pt x="18000" y="268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oucher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aissier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uisinier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ermier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oissonnier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orcier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Rounded Rectangle 3"/>
          <p:cNvSpPr/>
          <p:nvPr/>
        </p:nvSpPr>
        <p:spPr>
          <a:xfrm>
            <a:off x="4859280" y="333360"/>
            <a:ext cx="3457800" cy="4390920"/>
          </a:xfrm>
          <a:custGeom>
            <a:avLst/>
            <a:gdLst>
              <a:gd name="textAreaLeft" fmla="*/ 168480 w 3457800"/>
              <a:gd name="textAreaRight" fmla="*/ 3289320 w 3457800"/>
              <a:gd name="textAreaTop" fmla="*/ 168480 h 4390920"/>
              <a:gd name="textAreaBottom" fmla="*/ 4222440 h 4390920"/>
            </a:gdLst>
            <a:ahLst/>
            <a:rect l="textAreaLeft" t="textAreaTop" r="textAreaRight" b="textAreaBottom"/>
            <a:pathLst>
              <a:path w="21600" h="27428">
                <a:moveTo>
                  <a:pt x="3600" y="0"/>
                </a:moveTo>
                <a:arcTo wR="3600" hR="3600" stAng="16200000" swAng="-5400000"/>
                <a:lnTo>
                  <a:pt x="0" y="23828"/>
                </a:lnTo>
                <a:arcTo wR="3600" hR="3600" stAng="10800000" swAng="-5400000"/>
                <a:lnTo>
                  <a:pt x="18000" y="274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oulangèr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écolièr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firmièr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ardinièr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2484360" y="5376960"/>
            <a:ext cx="651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What’s the difference 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ounded Rectangle 1"/>
          <p:cNvSpPr/>
          <p:nvPr/>
        </p:nvSpPr>
        <p:spPr>
          <a:xfrm>
            <a:off x="1258920" y="333360"/>
            <a:ext cx="2881440" cy="4390920"/>
          </a:xfrm>
          <a:custGeom>
            <a:avLst/>
            <a:gdLst>
              <a:gd name="textAreaLeft" fmla="*/ 140400 w 2881440"/>
              <a:gd name="textAreaRight" fmla="*/ 2741040 w 2881440"/>
              <a:gd name="textAreaTop" fmla="*/ 140400 h 4390920"/>
              <a:gd name="textAreaBottom" fmla="*/ 4250520 h 4390920"/>
            </a:gdLst>
            <a:ahLst/>
            <a:rect l="textAreaLeft" t="textAreaTop" r="textAreaRight" b="textAreaBottom"/>
            <a:pathLst>
              <a:path w="21600" h="32914">
                <a:moveTo>
                  <a:pt x="3600" y="0"/>
                </a:moveTo>
                <a:arcTo wR="3600" hR="3600" stAng="16200000" swAng="-5400000"/>
                <a:lnTo>
                  <a:pt x="0" y="29314"/>
                </a:lnTo>
                <a:arcTo wR="3600" hR="3600" stAng="10800000" swAng="-5400000"/>
                <a:lnTo>
                  <a:pt x="18000" y="329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aiter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ctor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king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inc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izard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ero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Rounded Rectangle 3"/>
          <p:cNvSpPr/>
          <p:nvPr/>
        </p:nvSpPr>
        <p:spPr>
          <a:xfrm>
            <a:off x="4859280" y="333360"/>
            <a:ext cx="2881440" cy="4390920"/>
          </a:xfrm>
          <a:custGeom>
            <a:avLst/>
            <a:gdLst>
              <a:gd name="textAreaLeft" fmla="*/ 140400 w 2881440"/>
              <a:gd name="textAreaRight" fmla="*/ 2741040 w 2881440"/>
              <a:gd name="textAreaTop" fmla="*/ 140400 h 4390920"/>
              <a:gd name="textAreaBottom" fmla="*/ 4250520 h 4390920"/>
            </a:gdLst>
            <a:ahLst/>
            <a:rect l="textAreaLeft" t="textAreaTop" r="textAreaRight" b="textAreaBottom"/>
            <a:pathLst>
              <a:path w="21600" h="32914">
                <a:moveTo>
                  <a:pt x="3600" y="0"/>
                </a:moveTo>
                <a:arcTo wR="3600" hR="3600" stAng="16200000" swAng="-5400000"/>
                <a:lnTo>
                  <a:pt x="0" y="29314"/>
                </a:lnTo>
                <a:arcTo wR="3600" hR="3600" stAng="10800000" swAng="-5400000"/>
                <a:lnTo>
                  <a:pt x="18000" y="329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aitres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ctres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een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inces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itch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eroin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TextBox 2"/>
          <p:cNvSpPr/>
          <p:nvPr/>
        </p:nvSpPr>
        <p:spPr>
          <a:xfrm>
            <a:off x="2484360" y="5376960"/>
            <a:ext cx="651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What’s the difference 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5-03-23T15:28:48Z</dcterms:modified>
  <cp:revision>91</cp:revision>
  <dc:subject/>
  <dc:title>Slide 1</dc:title>
</cp:coreProperties>
</file>