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A09-8FB5-4768-B1F8-4C888A66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2F4-79DD-4088-A036-8ADD8DE2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550-A556-4367-89F4-4B6F7045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7DA-FBB4-47B2-8373-7F1D981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B749-B181-4861-9E21-DCD977FA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B56-4A9C-4397-BB9E-48D2ABF1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F6EB-E109-4287-B7EB-FEDD026D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B1A3-CB0E-4D69-9491-88BAE71F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77CB-A953-46A7-9F6F-065FF176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CE69-4D87-4E0F-9604-5ED95F70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17E5-C05A-49AA-BF0F-98CF7FD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DB5-D686-4C0A-B26A-C0F1705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F841-F369-4E8E-AC12-0BC30A72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2E9C-46E0-413C-A2CE-B02C6F2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6C6-0A41-49CE-9A4F-60D2E587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67CA-9610-436D-823D-CCBBD34B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29C6-E255-433E-8577-597476BF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26DB-1645-4B1C-96B9-AD913A6B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59DC-9978-4C85-93A5-9F4011E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6FE0-25DD-4C8F-9180-50100DB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B13CE-704D-4B30-81ED-848ED015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845C-CDEF-4B24-A718-6781DA6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169-2961-4550-8DE7-386D7ABF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6F29-CB53-4BF7-8F2F-A153746C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AB67-A8CE-4329-9D26-1F0BDFF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1B85-FB97-4B42-A11A-ACEED50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5158-1AC5-4B4C-934B-4D82383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0834-85C9-4C51-A385-64E609ED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F43F-E8C6-42AB-A920-0E81DFDC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3005-BE60-4BFE-9E4A-1A3E84C5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0530-43C4-4A9B-AE6A-9997B91F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954B-3B89-4D13-B92F-3624BC22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BDB42-92C8-4C3A-A49D-C6718F2F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116-9150-4941-AED4-218B079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E746-028C-427F-89D8-36542E22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7BA08-4C80-49E6-B06A-1B57E07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C9E5-2374-4448-9125-F7B3B80D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5D95-122D-4598-A469-F2D5E7F0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59B48-2748-45C1-8F54-83247EDF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ABE3-D0D8-4995-B079-240A0396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C02C-9DD3-4596-A01D-6BE8A595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274F-FA51-4624-81D5-13354C86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6826-5CDB-49C2-B015-4F62EC1A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31E-13B3-44D5-9284-1D18F1E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32C-C7E9-4CEE-A5A8-F41FBFD7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A1D-151B-4500-8464-A773EE1F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F56-1E5B-431F-BB18-133B1655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350-21BF-49FD-B561-ED9316B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0C48-6386-4DCA-8023-5EA24C549B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71E6-CB60-42F5-946A-31668296E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7433-3D61-428D-BFFF-DC9A5DF131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46AB-619D-4F5C-A913-E43AC4C0FA5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ounded Rectangle 1"/>
          <p:cNvSpPr/>
          <p:nvPr/>
        </p:nvSpPr>
        <p:spPr>
          <a:xfrm>
            <a:off x="826920" y="333360"/>
            <a:ext cx="3529080" cy="439092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4390920"/>
              <a:gd name="textAreaBottom" fmla="*/ 4218840 h 4390920"/>
            </a:gdLst>
            <a:ahLst/>
            <a:rect l="textAreaLeft" t="textAreaTop" r="textAreaRight" b="textAreaBottom"/>
            <a:pathLst>
              <a:path w="21600" h="26874">
                <a:moveTo>
                  <a:pt x="3600" y="0"/>
                </a:moveTo>
                <a:arcTo wR="3600" hR="3600" stAng="16200000" swAng="-5400000"/>
                <a:lnTo>
                  <a:pt x="0" y="23274"/>
                </a:lnTo>
                <a:arcTo wR="3600" hR="3600" stAng="10800000" swAng="-5400000"/>
                <a:lnTo>
                  <a:pt x="18000" y="26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uch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iss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isin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issonn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rci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ounded Rectangle 3"/>
          <p:cNvSpPr/>
          <p:nvPr/>
        </p:nvSpPr>
        <p:spPr>
          <a:xfrm>
            <a:off x="4859280" y="333360"/>
            <a:ext cx="3457800" cy="4390920"/>
          </a:xfrm>
          <a:custGeom>
            <a:avLst/>
            <a:gdLst>
              <a:gd name="textAreaLeft" fmla="*/ 168480 w 3457800"/>
              <a:gd name="textAreaRight" fmla="*/ 3289320 w 3457800"/>
              <a:gd name="textAreaTop" fmla="*/ 168480 h 4390920"/>
              <a:gd name="textAreaBottom" fmla="*/ 4222440 h 4390920"/>
            </a:gdLst>
            <a:ahLst/>
            <a:rect l="textAreaLeft" t="textAreaTop" r="textAreaRight" b="textAreaBottom"/>
            <a:pathLst>
              <a:path w="21600" h="27428">
                <a:moveTo>
                  <a:pt x="3600" y="0"/>
                </a:moveTo>
                <a:arcTo wR="3600" hR="3600" stAng="16200000" swAng="-5400000"/>
                <a:lnTo>
                  <a:pt x="0" y="23828"/>
                </a:lnTo>
                <a:arcTo wR="3600" hR="3600" stAng="10800000" swAng="-5400000"/>
                <a:lnTo>
                  <a:pt x="18000" y="274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ulang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écoli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firmi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rdiniè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84360" y="5376960"/>
            <a:ext cx="65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’s the difference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ounded Rectangle 1"/>
          <p:cNvSpPr/>
          <p:nvPr/>
        </p:nvSpPr>
        <p:spPr>
          <a:xfrm>
            <a:off x="1258920" y="333360"/>
            <a:ext cx="2881440" cy="439092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4390920"/>
              <a:gd name="textAreaBottom" fmla="*/ 4250520 h 4390920"/>
            </a:gdLst>
            <a:ahLst/>
            <a:rect l="textAreaLeft" t="textAreaTop" r="textAreaRight" b="textAreaBottom"/>
            <a:pathLst>
              <a:path w="21600" h="32914">
                <a:moveTo>
                  <a:pt x="3600" y="0"/>
                </a:moveTo>
                <a:arcTo wR="3600" hR="3600" stAng="16200000" swAng="-5400000"/>
                <a:lnTo>
                  <a:pt x="0" y="29314"/>
                </a:lnTo>
                <a:arcTo wR="3600" hR="3600" stAng="10800000" swAng="-5400000"/>
                <a:lnTo>
                  <a:pt x="18000" y="32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it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o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in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zar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4859280" y="333360"/>
            <a:ext cx="2881440" cy="439092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4390920"/>
              <a:gd name="textAreaBottom" fmla="*/ 4250520 h 4390920"/>
            </a:gdLst>
            <a:ahLst/>
            <a:rect l="textAreaLeft" t="textAreaTop" r="textAreaRight" b="textAreaBottom"/>
            <a:pathLst>
              <a:path w="21600" h="32914">
                <a:moveTo>
                  <a:pt x="3600" y="0"/>
                </a:moveTo>
                <a:arcTo wR="3600" hR="3600" stAng="16200000" swAng="-5400000"/>
                <a:lnTo>
                  <a:pt x="0" y="29314"/>
                </a:lnTo>
                <a:arcTo wR="3600" hR="3600" stAng="10800000" swAng="-5400000"/>
                <a:lnTo>
                  <a:pt x="18000" y="32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aitres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res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ee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es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tch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o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84360" y="5376960"/>
            <a:ext cx="65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’s the difference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8:48Z</dcterms:modified>
  <cp:revision>91</cp:revision>
  <dc:subject/>
  <dc:title>Slide 1</dc:title>
</cp:coreProperties>
</file>