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06C-C4C0-449B-9813-27561E9F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2BB-569E-492E-B5EE-8E36F0C9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B59-975D-472C-9505-A717A905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E7F-62AF-417C-B8EC-7DF7675A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8767-8729-45AD-938A-4B079166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1DBF-7D28-4344-8DF6-AE13ADA7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E304-083B-4059-84E5-62DC9158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3A2D-F7BD-455F-AF48-D5CAF185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EF04-02CA-4D07-9C55-E44F8557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CBC0-2C1E-48FA-9A93-EF26D75D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1F6B-B8E9-42A1-8EA5-6768FD14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359-F8A1-4D61-94C3-B8D66EAA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9AA7-4C1E-4FD3-9350-743E103F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E3EC-528C-4384-A562-7B26590F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04EE-553B-408C-A218-9AAA1726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B927-7F40-491B-BF11-E88ECFD4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16B0-6EC7-4588-91F0-4F3A6D57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C2DE0-CF69-4F00-A714-72AE1C25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42169-DEAC-4253-A917-AE9B2D52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A117F-2C47-474E-A0F7-438E5456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2C44-2881-4C99-A4EB-1538253D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96158-AACE-4994-A05F-A5442238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2A0-5585-4279-BA69-15BA191A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96E85-E085-49EC-A42E-218A36ED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B2F82-B4DA-4E3B-9F94-1F6D2EDB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6C625-0D7C-4631-852D-26CBA930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5992E-3740-4EB7-886E-CB710BA7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0872B-327E-4123-AA48-69652158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C8C4D-9125-4A7B-90D8-9D8E32D5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D1F27-3F40-4F44-B92E-F30EE32D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95EEF-78F1-4473-849D-A22835F7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30B97-42EA-4D85-B0CB-033459D4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66A24-7FBB-40EA-AFC6-DA076828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25D-E199-427B-B410-592E4EFB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D6C91-6B1E-4475-8607-07DF075B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52C40-486D-4F0D-A7B1-58E61695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3991F-8CBF-408A-9CBF-50D343EC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AC6E9-2CBB-411E-BC53-7D2C8802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7A244-18A6-4F57-8060-FB3100A0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9BAAC-DEEC-494D-99A2-085DF23C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4E1F4-BE79-44DE-A2BE-D07975DB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412A3-890A-4BF7-991E-CEFA7361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11BE8-FFF3-4DC0-B702-5D5EC834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52C-A3A4-4479-AF98-EC8C8BF7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C25-A21F-4C8D-A915-383349DA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851-2728-4439-961F-A0515181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B2F-569E-4273-9187-891597F6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863-1789-4D74-A92A-D5E6F85A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DA0D-CB66-4AAE-95E6-571ED59425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7F39-E768-4AF0-AB93-3ACE426E01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21A3-0468-4B62-90FA-F0C40BF440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8437-0E99-4A4F-B18D-70312DCF323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1039680" y="2906640"/>
            <a:ext cx="29527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er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3452760" cy="2646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5418000" y="2727360"/>
            <a:ext cx="29527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ère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5076720" y="282600"/>
            <a:ext cx="3576600" cy="24415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"/>
          <p:cNvSpPr/>
          <p:nvPr/>
        </p:nvSpPr>
        <p:spPr>
          <a:xfrm>
            <a:off x="179280" y="4919400"/>
            <a:ext cx="424836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bouch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740120" y="4919400"/>
            <a:ext cx="424836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bouchèr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239760" y="5000760"/>
            <a:ext cx="574560" cy="601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42000" y="5000760"/>
            <a:ext cx="576000" cy="601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6"/>
          <p:cNvSpPr/>
          <p:nvPr/>
        </p:nvSpPr>
        <p:spPr>
          <a:xfrm>
            <a:off x="155520" y="5303520"/>
            <a:ext cx="424836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magicie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4716360" y="5303520"/>
            <a:ext cx="424836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magicienn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214200" y="5384880"/>
            <a:ext cx="576360" cy="601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816440" y="5384880"/>
            <a:ext cx="576360" cy="601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895320" y="3443400"/>
            <a:ext cx="29527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en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2" descr="http://cliparts.co/cliparts/8iA/669/8iA669KyT.gif"/>
          <p:cNvPicPr/>
          <p:nvPr/>
        </p:nvPicPr>
        <p:blipFill>
          <a:blip r:embed="rId1"/>
          <a:srcRect l="11223" t="0" r="30150" b="0"/>
          <a:stretch/>
        </p:blipFill>
        <p:spPr>
          <a:xfrm>
            <a:off x="1003320" y="14400"/>
            <a:ext cx="2736720" cy="3429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4932360" y="3443400"/>
            <a:ext cx="381636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enne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5-03-23T15:29:27Z</dcterms:modified>
  <cp:revision>91</cp:revision>
  <dc:subject/>
  <dc:title>Slide 1</dc:title>
</cp:coreProperties>
</file>