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120-28C7-4DCD-B86A-00C1F229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0F92-25CC-4338-A8A6-C5C39C54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4A7F-AE68-4D97-9441-D936C812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5F7-9214-4DD9-831B-E71036E7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3D21-192D-4E2B-9B9C-6E211D5C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A4F5-FA79-4F4C-94A7-B9F745F3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E6A9-3338-4CCE-BFDC-30E1C5C6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18F9-752B-4962-8CFC-F6FC7580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CAFD-1890-4FB4-9D08-4538223E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D8C9-F728-43FF-8CB6-E16B1F06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9657-7BFF-4856-A754-C71CCF0E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A81-7042-45E2-9480-4912DE9A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CE0A-D125-45BD-9F07-D363C97C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2768-A82C-47B6-9328-73FC0FF0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D870-B06E-4828-8ACD-3F342717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B4EF-6834-4730-9643-2207F03B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5AB0-59A6-4147-8DC3-DCCC9AC2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78DA1-EE31-45F9-8BE9-47E79C4F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2C7AC-DB80-4E91-B9E2-FECA761E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1F826-9A6E-4E9C-AC61-99F2EE07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7C30E-743A-4EB7-BFE2-37011448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BF6D8-B6FB-42E7-A739-5E1D00BB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447-2E6B-4E1B-8887-EAD3900F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A57DA-1310-433C-8206-B9676DA3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6EAAB-FC79-4657-8F33-2586B794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E529D-F413-4065-B0D9-8F35E1EF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17411-EFDF-42F6-982B-3B66A58A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73D55-E9E4-4955-993F-99659507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DBB96-C6EF-4B15-B7CB-A1B7D0B8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86D8D-1C1E-4C30-9336-ADF012E8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88024-8DA5-4451-BEA3-8532BFD1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5A9CE-F08D-4C3C-8C9D-8E42A6B9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FE3C1-968E-4CB9-AB0C-1BAE447A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D0E4-2C6D-4CA4-908D-1A8D5BCC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E2AA1-087A-4F9C-89A8-4E69588F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E2157-6D43-4D97-AC82-71D76CC2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B2536-DC05-431B-B5D9-8F4F7DDF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11258-6AA5-45CE-B068-3B0EC19B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902FC-DFFB-4680-B81F-635DB6F2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43CF0-9193-4B91-B71D-B81E4C5F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344B6-2953-489C-B0BC-DB946FB8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EB2ED-7619-4BFA-BC24-E3636202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389F3-DE66-4655-9C53-7C769FAA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518-8191-4EEF-BDA1-F13056D1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BF7F-D99F-44EF-8A73-1AE207EA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F1AA-E84D-4B05-A616-D7514F44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B1D8-5E7D-4DCA-8715-5D9A5AD4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6C9-B40C-41FA-B8B7-FB18B3B9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00C2-D37B-4396-B9CE-62B2EFDB81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F768-8420-44EA-ADB7-74D7731EBE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6E14-D8D4-4163-9506-7B000764DD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D585-694F-4144-A9C2-C2335EF4E85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1039680" y="2906640"/>
            <a:ext cx="29527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er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3452760" cy="2646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5418000" y="2727360"/>
            <a:ext cx="29527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ère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5076720" y="282600"/>
            <a:ext cx="3576600" cy="24415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6"/>
          <p:cNvSpPr/>
          <p:nvPr/>
        </p:nvSpPr>
        <p:spPr>
          <a:xfrm>
            <a:off x="179280" y="4919400"/>
            <a:ext cx="424836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bouch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4740120" y="4919400"/>
            <a:ext cx="424836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bouchèr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239760" y="5000760"/>
            <a:ext cx="574560" cy="601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42000" y="5000760"/>
            <a:ext cx="576000" cy="601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6"/>
          <p:cNvSpPr/>
          <p:nvPr/>
        </p:nvSpPr>
        <p:spPr>
          <a:xfrm>
            <a:off x="155520" y="5303520"/>
            <a:ext cx="424836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magicie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4716360" y="5303520"/>
            <a:ext cx="424836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magicienn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214200" y="5384880"/>
            <a:ext cx="576360" cy="601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816440" y="5384880"/>
            <a:ext cx="576360" cy="601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895320" y="3443400"/>
            <a:ext cx="29527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en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2" descr="http://cliparts.co/cliparts/8iA/669/8iA669KyT.gif"/>
          <p:cNvPicPr/>
          <p:nvPr/>
        </p:nvPicPr>
        <p:blipFill>
          <a:blip r:embed="rId1"/>
          <a:srcRect l="11223" t="0" r="30150" b="0"/>
          <a:stretch/>
        </p:blipFill>
        <p:spPr>
          <a:xfrm>
            <a:off x="1003320" y="14400"/>
            <a:ext cx="2736720" cy="3429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4932360" y="3443400"/>
            <a:ext cx="381636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enne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5-03-23T15:29:27Z</dcterms:modified>
  <cp:revision>91</cp:revision>
  <dc:subject/>
  <dc:title>Slide 1</dc:title>
</cp:coreProperties>
</file>