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DC2-0372-4657-A165-6F005180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3B43-ECE7-441C-9297-69CC5AC3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84B-5666-49DB-8FCE-314A3B6A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11C-A922-4073-90F2-A6F148BB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8DBE-28F6-44FB-8BE4-177B574F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BEE9-5A3F-4D89-A101-EB9474D1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B923-9664-4A2F-8029-D85D4010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3DBA-9C50-4C91-AD98-29DAF4A8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4936-3A5A-45DC-9A11-B85A48BD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7F69-44EF-4040-94DD-6CCC4B1D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95F7-CCBB-41F8-BCC8-FD16133F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D83-8850-49FD-9BD8-84430430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F879-1D1A-4D3A-89CC-B5DECEC4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3C96-57C2-49CE-A25E-2FEAE3D1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063F-D12B-4FFC-BEA0-C0C5A802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5A59-1CE4-4531-BEFF-7333CD67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EAA3-1625-40FA-97AC-E68E37B7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B460-2215-470E-AAEF-0AE2E2FA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E0A1B-930F-409D-8C26-A2776988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0A7C0-A5A8-45B0-8D07-9E7D6CFE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FDA92-ED59-4B08-82C9-957A1B75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F5065-C815-4652-9DC1-7567EE0D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1B9-DE0D-4926-85AA-3083323F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F8D7B-4113-4D37-B22D-612E9A7E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48B81-05EE-48D0-B17A-D6D3664A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81F15-49C7-4E52-A238-872F24B1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E3EF-7250-4FFD-905B-C84DC805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EA0A1-53EF-457B-A0A2-13BFA376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F66FC-3853-4A35-89D6-45F3E2FD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22BC9-DF25-4EC4-A955-D4F07DCB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2C03F-8AF9-4BA3-8FEB-00E89CD3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F76D5-97D2-4980-B2B7-4FD764D6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592E5-ED6B-44FD-891E-2DD3E0FD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692-2BF6-4514-9E1C-DCA05E2A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1DDDC-DB5D-4273-A88F-4EDAC753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9AF63-29CB-4119-B35B-1DABBC3E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ACEFA-D70B-4C91-B224-DD461179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B7B3C-672F-4066-8557-EE7EE3A1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30AB2-876D-4596-B633-33FD5521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529AF-101D-445A-8D9B-411F44CB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B3FC0-6E14-4803-B382-0C53B900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E2FF8-D231-4239-B963-E329116C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76A52-EDC7-4613-89CF-C0667124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517-7424-4D96-BF85-95F8FF7F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240-02E7-4F40-B562-EAC59DAD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D33-9B42-41DC-8FF5-893C06BC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506-F241-4084-AD38-FF20CCC7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1F2-A134-43EA-811F-F8D13019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8FCC-1218-48CF-96DA-F2A26614BF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E974-DE85-460C-B376-2D9353438C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A988-664E-4408-B415-48669659A4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3358-1323-4172-A501-C77104464BC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557280" y="260280"/>
            <a:ext cx="7993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I ca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read and understand the names of some shapes and natural objects in Frenc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http://i.dailymail.co.uk/i/pix/2014/03/28/article-2590862-1CA790BE00000578-168_634x550.jpg"/>
          <p:cNvPicPr/>
          <p:nvPr/>
        </p:nvPicPr>
        <p:blipFill>
          <a:blip r:embed="rId1"/>
          <a:srcRect l="0" t="0" r="0" b="2832"/>
          <a:stretch/>
        </p:blipFill>
        <p:spPr>
          <a:xfrm>
            <a:off x="1116000" y="44280"/>
            <a:ext cx="7069320" cy="5959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"/>
          <p:cNvSpPr/>
          <p:nvPr/>
        </p:nvSpPr>
        <p:spPr>
          <a:xfrm>
            <a:off x="2627280" y="60404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enri Matisse  1869-1954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611280" y="-1440"/>
            <a:ext cx="78832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835280" y="3240"/>
            <a:ext cx="4887720" cy="68547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4067280" y="404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n appl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4067280" y="828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n ar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4067280" y="1197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bir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4067280" y="14842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cro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4067280" y="1844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diamo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4067280" y="22273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fis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067280" y="2565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flow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3851280" y="289548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frond of seawe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4067280" y="32558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hea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4067280" y="3573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lea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4067280" y="3933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let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4067280" y="4292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l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4067280" y="4653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shel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4067280" y="5013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spir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4067280" y="5373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squa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4067280" y="5732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st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4067280" y="6093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drop of wa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4067280" y="63928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zigza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6-01-25T13:02:03Z</dcterms:modified>
  <cp:revision>143</cp:revision>
  <dc:subject/>
  <dc:title>Slide 1</dc:title>
</cp:coreProperties>
</file>