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94D-7CA0-4660-A4FD-F41B6C3F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619-5F2A-43C7-9529-F40BA752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D2D-D569-4CC2-9973-29ABD991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B2C-235E-49CB-A503-49463A9C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DD2F-7285-4841-90CF-76086181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3207-C7C6-4275-97D5-F4805E8F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A9E3-5B88-4B3A-BD93-C789E258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56AE-CA3B-4909-8C44-994E3361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2310-AA9B-4528-8BBA-7F79AC5E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6452-F78E-4441-A105-9E6A7802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9117-8F6E-4BA8-B356-123A503D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6D6-5049-40F3-A85E-47DD49D3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29B2-1F7B-412C-A1B2-6EDEDB00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BFD7-D57F-44ED-9872-F78F88D7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0CF1-6432-4299-97C9-58DFE8B9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EE6A-2992-497E-9C10-FC22D9A4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A4A9-4A7C-461E-A595-0FB1930E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B0C9-7E1B-4B52-BE98-C4DC7C27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968AF-B5B3-405F-878F-B7A490EE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A856-D9A3-4DA8-9C2B-3105F54B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9261-DCC6-4CE6-A76E-2D883CF8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25E8-3E21-4DF9-9A4C-7DE30EC0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031-41B2-4824-89C6-C660DEB9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9147-6601-4208-A1AE-095117FA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97AE-CF28-44DA-8B40-4EDD214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862E-FDB8-418C-820A-67A57E81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15B0B-4A63-44AD-A94E-FF731D9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E998-0CEF-4EB6-A28B-031017A6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2F5D-CEF6-464E-9168-CF02015C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0C0D-070F-41FB-9A55-13D52DD8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BB023-DE4A-494B-BFF2-AB55DF4D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D0FC-AED3-4981-8397-72502381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1F89-1508-44CF-BF13-1886B94E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017-92FB-451C-99F9-87130D2F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3C632-6B7B-4229-8233-BCE31E9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4C6F-4388-4AC7-AB36-AC53FD3B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99B7-97E5-4769-83A1-976D7F4E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83AD0-AF65-43EE-AA56-91144A8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C47E-E853-4CDC-9FF2-C63BBD77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2797-AF58-42A2-9ED8-99EE8CE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46C7-A434-43D2-822F-9CB420B3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F768-EF85-4F1F-8142-6E80BB00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FAD33-DFA4-4F58-81DE-2FB92910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E54-54EB-4205-880F-1B451D9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DA9-8E4A-411F-995F-00EC49A5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442-AFAF-4E76-ADDB-57B2DE5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05D-481A-4846-BF84-F0F3C70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A42-7D67-411C-BF30-51C4A79B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AAE4-D7C7-4BF0-9A2C-78FF136C73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4BD4-AFBA-4CF0-9344-7E955901EC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A054-D2B3-4A41-8F4E-4DD1EB44EF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823A-5908-4001-8E58-D7145ADB9B6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557280" y="260280"/>
            <a:ext cx="7993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I ca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read and understand the names of some shapes and natural objects in Frenc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http://i.dailymail.co.uk/i/pix/2014/03/28/article-2590862-1CA790BE00000578-168_634x550.jpg"/>
          <p:cNvPicPr/>
          <p:nvPr/>
        </p:nvPicPr>
        <p:blipFill>
          <a:blip r:embed="rId1"/>
          <a:srcRect l="0" t="0" r="0" b="2832"/>
          <a:stretch/>
        </p:blipFill>
        <p:spPr>
          <a:xfrm>
            <a:off x="1116000" y="44280"/>
            <a:ext cx="7069320" cy="5959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2627280" y="60404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nri Matisse  1869-195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11280" y="-1440"/>
            <a:ext cx="78832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835280" y="3240"/>
            <a:ext cx="4887720" cy="6854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4067280" y="404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n app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4067280" y="828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n ar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067280" y="119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bir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4067280" y="1484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cro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4067280" y="1844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diam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067280" y="22273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fis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067280" y="2565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flow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3851280" y="289548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frond of seawe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4067280" y="32558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hear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4067280" y="35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lea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067280" y="393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let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4067280" y="4292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l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4067280" y="465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shel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4067280" y="501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spir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406728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squa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4067280" y="5732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st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4067280" y="609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drop of wa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4067280" y="63928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a zigza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1-25T13:02:03Z</dcterms:modified>
  <cp:revision>143</cp:revision>
  <dc:subject/>
  <dc:title>Slide 1</dc:title>
</cp:coreProperties>
</file>