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E54-0904-4788-9CD6-6AFA78D3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FD6-285A-4005-A8F1-F374B30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BFC-802D-48AF-9ACB-00AADDE5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199-DD6D-4501-B295-53B42396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CF82-E99B-45D7-B3A2-BADF1435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B2FF-ABD6-4F1D-9164-2357546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4F61-3DD0-4396-9345-9DB426B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6B6-7595-49FC-ABA3-DA95B5B5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F887-6FC4-4883-A800-4939254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77AF-E4AB-4F9F-AA5F-9DE3604F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4157-F109-430D-8F30-EA675A9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B91-EDE9-4C07-9D3C-4D2167E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5BA-C463-4C7D-A54F-7F1E04F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790B-6C11-49D3-AF0E-C18127B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556-94F2-45FF-90B0-490672E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C68-BE1A-426D-ACC7-05051DD9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D4D5-6D3D-4FC5-8657-30892CE3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611E-10F8-42BE-8F2B-A5180151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D916-C8A7-4D12-A106-6B22BE66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A346-9307-4576-94AD-9CFC86B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7EDF-664B-4EE8-B677-09825B3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8D4B-7863-4A04-B85E-B6C5ADBE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834-17B1-4EF7-8AA9-E9CC52F2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A1A2-FA05-47EA-872D-66DC683C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8414-7C87-45CE-A278-49C3C2D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1F7A-41DD-45D9-9F7F-3F7FC86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0432-64A4-4911-96DA-98E2490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089D-C983-4D88-90D7-9ABFB6D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C689-6068-4B91-AC5B-EFD48930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5967-BBCA-4C43-82AD-9B861476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A736-8FF5-460A-8692-82084CF7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B95B-E4A8-4558-8038-E7C81A4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7AB1-56F5-4312-81CA-372B57B5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B90-B42A-45A4-8467-F858392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713E-8188-43A4-9EDE-D4C17FB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89EF-1AD9-44DF-9EDA-DEA64E32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9EE9-5CE2-49B9-8D1B-D9413A0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FCF1-EBCF-4057-993D-A913040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44C2-78CF-4478-BEF5-4096B66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B948-C6B4-4B00-9DE3-172A5FF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22CC-EB03-4666-8A90-CC6562D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EFCC-BC49-4CC7-8246-62811D2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90D0-5D36-4687-ABCB-D36F2637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CC2-43A5-49C6-B129-F876727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B7A-5921-4687-8CFF-BFC9849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2BC-ACAA-4C31-9852-C3700BF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5FD-930A-4AA0-B039-16E4B6B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4C4-D6FC-416F-8679-D704EC8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EBA-8480-4875-B8DE-EF0A6EAECF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9ECB-C677-46CD-B64F-CCD7BDF9B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2AE-76C3-4361-9362-CDC88A1D77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CFFD-B6EE-4D26-8377-CF2B6F23B5F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57280" y="260280"/>
            <a:ext cx="7993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work out how to make nouns plural in Frenc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52704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5867280" y="44280"/>
            <a:ext cx="31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o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ou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or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i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-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ving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26920" y="206064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ou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826920" y="315288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neuf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11280" y="422100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sep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684360" y="524016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hui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719280" y="6321600"/>
            <a:ext cx="129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trei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3276720" y="10526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inq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3276720" y="20606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on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298680" y="314172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sei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3262320" y="4221000"/>
            <a:ext cx="129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huit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3203640" y="524016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ix-neuf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132000" y="63216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quatorze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3540240" y="1415880"/>
            <a:ext cx="2063520" cy="58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3714840" y="88920"/>
            <a:ext cx="1714320" cy="8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3492360" y="2505240"/>
            <a:ext cx="2197080" cy="41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4"/>
          <a:stretch/>
        </p:blipFill>
        <p:spPr>
          <a:xfrm>
            <a:off x="3517920" y="4879800"/>
            <a:ext cx="2260440" cy="4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0680" y="3279600"/>
            <a:ext cx="838080" cy="1265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732120" y="3422520"/>
            <a:ext cx="1871640" cy="979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210960" y="1273320"/>
            <a:ext cx="830520" cy="68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8"/>
          <a:stretch/>
        </p:blipFill>
        <p:spPr>
          <a:xfrm>
            <a:off x="210960" y="2230560"/>
            <a:ext cx="847800" cy="83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9"/>
          <a:stretch/>
        </p:blipFill>
        <p:spPr>
          <a:xfrm>
            <a:off x="131760" y="4683240"/>
            <a:ext cx="1069920" cy="86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10"/>
          <a:stretch/>
        </p:blipFill>
        <p:spPr>
          <a:xfrm>
            <a:off x="250920" y="44280"/>
            <a:ext cx="649080" cy="9414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1249200" y="2221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 losan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1301760" y="1320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cr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301760" y="235908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le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1295280" y="3525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1274760" y="482292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 oisea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5940360" y="222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x losan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5992920" y="132084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ze cro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5992920" y="2359080"/>
            <a:ext cx="22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inq fleu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5986440" y="352584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f étoi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5965920" y="4822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ize oiseau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179280" y="5661000"/>
            <a:ext cx="8785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Plural: add s. 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Comic Sans MS"/>
              </a:rPr>
              <a:t>EXCEPT –s/-x stay the same, -eau add x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627280" y="25560"/>
            <a:ext cx="2952720" cy="6788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5867280" y="189000"/>
            <a:ext cx="31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eu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ois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r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cinq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sep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huit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neuf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ix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1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o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dou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3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trei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ator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Comic Sans MS"/>
              </a:rPr>
              <a:t>quinze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0" y="333360"/>
            <a:ext cx="25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uit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e Noë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(1952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2:42Z</dcterms:modified>
  <cp:revision>150</cp:revision>
  <dc:subject/>
  <dc:title>Slide 1</dc:title>
</cp:coreProperties>
</file>