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7CB-F8A7-4CCE-9944-EFD88EED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65E-206B-4530-A894-97AF831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EE3-BA31-4888-8CBB-07229477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7D7-641E-4A24-82B5-194262DF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3DF-1DD9-4E8A-B485-1F000497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09E0-9056-48B8-8EBD-27E665B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153-7DD5-40E3-9FCD-C53F917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62E-8C12-4A41-B545-396E1664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596-8681-449C-B31C-EB8B3DF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3AC-05DC-4E01-A7B7-AB77E6F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132-DCEE-4DEF-8C0B-3D15F67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43E-ED2A-4B1F-965A-B2C1413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FD7-57D9-43BF-AA90-37F98D4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172-6EB8-4131-AF4F-F1D2738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AC03-7155-4BCF-8F08-1F805739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FBE0-506B-4077-A4B8-50D47379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6FEF-4C8E-43C1-BD55-9DDB27CA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662F-DA46-437E-88F1-4C99423F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CA9A-91B1-4573-84CB-2961FF7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B539-4BEA-4B29-AAEF-4713281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0CA3-E66F-4A4D-BD78-90767078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0E35-4C6F-43EF-8551-135CE65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420-388C-490D-84EC-1C5BE54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832D-E452-48EB-B3DE-7733818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5F96-7BA5-472D-96FF-52CBB16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5FEC-B625-4B46-8A2B-97AC8EF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F0CC-4A2D-45D0-BC42-D22B317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87C0-5F9A-422E-A7BE-806F771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D6EF-4865-4C6A-A183-73A4CC2C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2DE7-EFEA-46C4-87AA-D3EC036C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358B-743F-4776-8C4C-9C962F85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2254-4044-4FEB-975E-72CBAF34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A671-5DC8-48DD-8CC0-B0F13CD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671-C32C-4989-A374-CEAAE40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D73F-CD81-414C-8883-CADEBA1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A987-35ED-4880-B5FE-1548AD9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9FF8-3465-418D-A88E-DDD40F8F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91A6-C264-4D92-A695-E5E4E81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39B4-6E6E-4F0D-99CF-293D0DB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F67E-839F-48EA-83E9-CCF30C5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5C01-75C1-44AD-9DF5-D425073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4729-07E4-4789-BB72-27E58C18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2218-724B-4097-A4FB-D71788F8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5A0-AB17-49F3-AF5A-8BBF510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DCB-B468-4FE8-BB0F-87F3A02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9C5-50B4-49B7-8D3A-76C2AAF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C2C-6801-4EA9-AC43-67C413D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545-58B1-4638-849D-051445D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1E6-FA57-4873-9207-39705877D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125-9F05-4238-B717-928B01EF9B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7C38-5791-4C11-9810-2E3F8809B8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E6F-E3FB-444C-AC7F-A78F0A3C4F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57280" y="260280"/>
            <a:ext cx="799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work out how to make nouns plural in Frenc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52704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5867280" y="44280"/>
            <a:ext cx="31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o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ou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or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i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26920" y="206064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ou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826920" y="315288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neuf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11280" y="422100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sep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684360" y="524016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hui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719280" y="6321600"/>
            <a:ext cx="129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trei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3276720" y="10526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inq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3276720" y="20606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on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298680" y="314172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sei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3262320" y="422100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hui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3203640" y="524016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neuf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132000" y="63216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quator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3540240" y="1415880"/>
            <a:ext cx="2063520" cy="58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3714840" y="88920"/>
            <a:ext cx="1714320" cy="8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3492360" y="2505240"/>
            <a:ext cx="2197080" cy="41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4"/>
          <a:stretch/>
        </p:blipFill>
        <p:spPr>
          <a:xfrm>
            <a:off x="3517920" y="4879800"/>
            <a:ext cx="2260440" cy="4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0680" y="3279600"/>
            <a:ext cx="838080" cy="1265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732120" y="3422520"/>
            <a:ext cx="1871640" cy="979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210960" y="1273320"/>
            <a:ext cx="830520" cy="68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8"/>
          <a:stretch/>
        </p:blipFill>
        <p:spPr>
          <a:xfrm>
            <a:off x="210960" y="2230560"/>
            <a:ext cx="847800" cy="83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9"/>
          <a:stretch/>
        </p:blipFill>
        <p:spPr>
          <a:xfrm>
            <a:off x="131760" y="4683240"/>
            <a:ext cx="1069920" cy="86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10"/>
          <a:stretch/>
        </p:blipFill>
        <p:spPr>
          <a:xfrm>
            <a:off x="250920" y="44280"/>
            <a:ext cx="649080" cy="9414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1249200" y="2221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 losan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1301760" y="1320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cr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301760" y="235908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le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1295280" y="3525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1274760" y="482292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 oisea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5940360" y="222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x losan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5992920" y="132084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ze cr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5992920" y="2359080"/>
            <a:ext cx="22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inq fleu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5986440" y="352584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f étoi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5965920" y="4822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ize ois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179280" y="5661000"/>
            <a:ext cx="8785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s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–s/-x stay the same, -eau add x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627280" y="25560"/>
            <a:ext cx="2952720" cy="6788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5867280" y="189000"/>
            <a:ext cx="31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eu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ois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r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o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ou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or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i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0" y="333360"/>
            <a:ext cx="25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uit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e Noë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(1952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2:42Z</dcterms:modified>
  <cp:revision>150</cp:revision>
  <dc:subject/>
  <dc:title>Slide 1</dc:title>
</cp:coreProperties>
</file>