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9.png" ContentType="image/png"/>
  <Override PartName="/ppt/media/image16.jpeg" ContentType="image/jpeg"/>
  <Override PartName="/ppt/media/image15.png" ContentType="image/png"/>
  <Override PartName="/ppt/media/image14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11.png" ContentType="image/png"/>
  <Override PartName="/ppt/media/image6.wmf" ContentType="image/x-wmf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041F-9107-4A96-8892-15FB5533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E54F-C71F-4F4A-B772-9EA0B1F0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5B91-3791-44C7-A3BA-3F2049B4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43D9-6B80-4723-8AD9-EB009444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F279-0EE5-4530-A053-83A031EC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86C5-B2FF-415B-B78B-1AC54AB3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96E6-CCED-4D51-A8CC-7229287E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1752-FE95-4753-BA6E-5A65415A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6C43-3CFA-48E7-A2E6-C0B2DCE5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E418-84D9-469E-B7B2-3F945778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C80C-D41E-4768-B3A0-612AFB30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15A9-3EEB-4F0B-8E87-985EF684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D958-0F38-4A3C-8B07-7FB62DA8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5093-D49F-4D22-B2A8-19618598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B759-C20A-4372-BA1D-FB81780F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3D03-9989-49B2-99E5-DF02DEFD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DD02-9534-4FBA-AEF2-E431E1A1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B5736-5D85-4829-992F-D42C2F8F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AB395-85BE-452F-8792-D0270F1C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996C3-4692-494D-BEB5-EC6DC160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C338C-CBB6-494F-BA7C-70A2F010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B2605-7833-4A11-939C-3E7B290A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BC84-8135-4D12-A0B5-CE14A2C3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292B9-1D56-44B8-BD6D-BC07589E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4E01D-166B-4481-8326-F37D84F9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17C5E-5A6D-45AF-868E-64B63957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3B105-ED39-4BEC-9B30-46A29AAC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6BAA0-88C5-46BC-B58D-106033AA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686E6-7CDC-45CE-8700-1E0EFB0E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80D6F-D6CA-4705-8D3B-01077A65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173B9-C1AD-4F2D-8216-8F87C45F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D3289-F312-4CAE-B182-80AF643F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219FE-8F81-4201-8553-98F4287B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C31-3D30-44E9-90A6-C05622DE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E691A-6101-48D4-8B4A-77002DE6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754A9-C51C-4111-8980-4AA90D61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2BF01-13C4-4929-983E-5C43EC0C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C18A4-AC7E-4B81-BFB2-290C6D29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04B15-86AF-4F6A-AEA3-40A0A23A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38947-55FE-4C7D-93CD-F46F6915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37CA1-D9C9-4695-9922-5329226F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04CD2-2FBD-416C-847E-C7D2B893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286CE-4729-488D-9C16-A00D16FD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E40-591A-4474-8082-5BF3538D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F6F-659A-4CA7-9DD8-383EB3B2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BC95-7318-49D1-B633-FBAA5DF7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5116-DD3D-4709-B4D1-F384C516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80B0-C4BE-4D77-8A46-71EE761E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9F6B-B60E-4144-B66E-53231B7A52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3A08-5B96-4FB7-B466-5A327F2802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19C4-31BB-431B-8459-481A6A7E07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F142-B8B1-4669-9476-2A1322037F8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rcRect l="26577" t="8856" r="24401" b="4035"/>
          <a:stretch/>
        </p:blipFill>
        <p:spPr>
          <a:xfrm>
            <a:off x="2195640" y="0"/>
            <a:ext cx="482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987640" y="4653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eptembr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08360" y="333360"/>
            <a:ext cx="37926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987640" y="4653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octobr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635280" y="549360"/>
            <a:ext cx="388800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987640" y="4653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novembr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924360" y="549360"/>
            <a:ext cx="324792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987640" y="4653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décembr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419640" y="1125360"/>
            <a:ext cx="424800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564000" y="333360"/>
            <a:ext cx="4105080" cy="3740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987640" y="4653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janvie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987640" y="4653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févrie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851280" y="836640"/>
            <a:ext cx="33847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987640" y="4653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ar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780000" y="549360"/>
            <a:ext cx="3354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987640" y="4653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avri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348000" y="189000"/>
            <a:ext cx="4464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987640" y="4653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ma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203640" y="836640"/>
            <a:ext cx="43927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87640" y="4653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ju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708360" y="692280"/>
            <a:ext cx="36720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708360" y="907920"/>
            <a:ext cx="374328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87640" y="4653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juille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708360" y="981000"/>
            <a:ext cx="3744360" cy="3383640"/>
            <a:chOff x="3708360" y="981000"/>
            <a:chExt cx="3744360" cy="3383640"/>
          </a:xfrm>
        </p:grpSpPr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4255920" y="981000"/>
              <a:ext cx="3188160" cy="275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3"/>
            <a:srcRect l="4016" t="23628" r="4202" b="21265"/>
            <a:stretch/>
          </p:blipFill>
          <p:spPr>
            <a:xfrm>
              <a:off x="3708360" y="2966760"/>
              <a:ext cx="3744360" cy="139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3800520" y="2222640"/>
              <a:ext cx="1369440" cy="101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987640" y="4653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aoû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140360" y="404640"/>
            <a:ext cx="2773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3-03-27T12:20:18Z</dcterms:modified>
  <cp:revision>32</cp:revision>
  <dc:subject/>
  <dc:title>Slide 1</dc:title>
</cp:coreProperties>
</file>