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9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41B-877E-4B22-90D2-AE448331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1B4-C0F3-427D-A13F-C2BB0211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FDC-6145-46E8-9CA0-56F4970D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8A2-D596-450C-838E-E3F5E5D4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5CC7-5EF2-4F7A-AFC7-0A105E27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931A-53C7-437C-9BC3-F09CDFE2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7D07-6675-45D6-B538-00AEA8BE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599B-2091-44DF-AA78-06A93947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D52C-F36D-40DF-94BA-F0545C20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773B-60AC-44B9-9D66-856F5BAE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2B11-D885-46CB-82AF-AD11C6AA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E39-67CE-4A65-B8CC-AC0D93F1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0E49-76D0-4B42-83A9-383648FE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69D0-8DFC-4576-93D4-CEEFF8A4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E5E2-8C90-4FE2-8CDB-DCE81A81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AB72-B1B9-41F6-A065-A61C42E2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11B1-EA2E-46DA-B3A2-19B441A6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ED7E-6B03-40B1-A757-D8820B54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9181-41B2-4DC7-8E9D-98C31317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C65F-16AF-40DA-92A9-64FCFB9A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2576-E0AD-40C7-ACEB-E8F680F5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CC3F-30A1-4052-B570-C7CFE424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8EB-29C6-4BE6-8112-C7FF8DAB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71FD-991A-40BA-94D2-7F2745AD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E82E-E5A3-463F-90F2-B8F4A62B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9CF51-16D8-4712-B963-80F32BB0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8646-C730-4E14-9193-2AB62845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D9A5-64CC-4B4B-8BDF-157969A4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E1D3-900B-4854-A2CE-56639796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3A75D-A998-4D07-8D6E-61792348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608E0-8077-4078-A145-8AD37439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9CEF-FA60-432E-AC33-BEAC98C0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1BE8-E7CF-48AE-BA36-1BB89317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87C-3E2A-4A1C-A032-3844389E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46201-2DAF-4D74-8EBA-06D84895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FC66-A7A3-431D-BE67-8B3898BF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50B19-B01C-433B-A88C-8144AFE8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FA97-2A2C-4327-8471-8FE7F97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CAC8B-2C90-466B-B0B4-BFFE1A5C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6644-280B-4159-905C-2C5BC5D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E0A3-15CB-452D-A110-BA878C51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99FA-79FA-42F4-AD52-73D91CE2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C7C3-FF55-40FD-A5FD-14600F26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8D3-EFB3-4AAA-A4E5-BA14D452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D37-16F1-4847-A9FC-781FA6CA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DFF-A260-421B-9250-6F3638D8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E84-D2E9-4401-8BFF-C399ED6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2C0-1E15-4FCD-AF88-A413D3F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E77-57C4-4000-AE41-F27CE396ED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5404-D5EB-4A29-A241-E0A3D09486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D03A-97C2-4DBB-BF47-A966FB0B80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F907-26C4-4EFF-BB5D-91C0E5D366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26577" t="8856" r="24401" b="4035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eptemb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37926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octob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635280" y="549360"/>
            <a:ext cx="38880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novemb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24360" y="549360"/>
            <a:ext cx="32479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décemb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19640" y="1125360"/>
            <a:ext cx="42480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105080" cy="3740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anvi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févri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33847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a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3354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avri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348000" y="18900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ma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03640" y="836640"/>
            <a:ext cx="43927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u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3672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08360" y="907920"/>
            <a:ext cx="374328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juille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708360" y="981000"/>
            <a:ext cx="3744360" cy="3383640"/>
            <a:chOff x="3708360" y="981000"/>
            <a:chExt cx="3744360" cy="338364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4255920" y="981000"/>
              <a:ext cx="3188160" cy="27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"/>
            <a:srcRect l="4016" t="23628" r="4202" b="21265"/>
            <a:stretch/>
          </p:blipFill>
          <p:spPr>
            <a:xfrm>
              <a:off x="3708360" y="2966760"/>
              <a:ext cx="3744360" cy="139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3800520" y="2222640"/>
              <a:ext cx="1369440" cy="101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87640" y="46530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aoû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2773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3-03-27T12:20:18Z</dcterms:modified>
  <cp:revision>32</cp:revision>
  <dc:subject/>
  <dc:title>Slide 1</dc:title>
</cp:coreProperties>
</file>