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48D-6036-408C-BEC6-7807AF16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A3C-C114-48D0-80AF-F2BE9D5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69A-FD55-4157-8F37-FEDE3301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FEA-1572-4CF3-8994-BCB19014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BBEE-EC7D-406C-A0B3-A70DB72D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9409-D54E-4638-8C4D-3275E595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2684-138D-47D2-A1AE-62F74FEF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DC10-57F2-4C66-A873-08110FE5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497A-A95B-4E4E-8E53-CF635CD0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629A-1D8F-4827-9B6F-1A298EDB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4D45-4A88-4D50-855B-0F960B29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757-5668-4E7B-865E-3DC7F19F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87D0-48F1-4DD5-925E-FA91C79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809C-8606-4766-AD6E-CDA7CEC2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DBAD-E97A-4FBC-BA64-3B3D0F34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FDFA-B376-462E-864C-4F77CFCF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6C78-33D2-491C-933B-CC96BD99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9537-859F-4D63-838D-7B3EEE37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D6DF-5CB3-47CF-B9C1-C17D8FEC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0A44-2FE7-4902-9126-8B373FF3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AAA2-AF2E-48FA-AEA8-0BEC7F30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1C35-DA6D-42B7-9B50-AECF7461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194-5339-461C-AC41-F817A6D3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A05D-56B8-4CD5-8926-3C385744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FBF1-1C8C-4C1C-9E6F-3EF2B24E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3E39-12D1-4437-B632-F292E93C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411A-89EA-4BA4-9585-CC41A067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3282-3C6C-4D0C-8CAD-D07F4E9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F4BFA-F833-46D2-9987-355CA444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5FED-D546-4E33-A660-1C2B52CD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26B6-7F5B-48C3-9FB2-28574009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1829-B4D7-4F25-A07F-BB8DCD35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AC35B-3C4F-4031-B5DC-8612D22E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A66-8B8F-4B9B-A1F1-86B613BC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63F5-9597-47EE-A08F-9496C404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352B3-1079-4C63-98AC-27ED79EC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3EF0A-3329-48DA-AE95-DB34DCF7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E34B-A724-4F85-A3BE-3320CEA7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8072-23F8-4D54-A7E9-1748669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BB4E-0652-4682-B634-1BA04EFA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64580-6060-439E-BB62-7F7311F3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A2A68-5054-4ABF-96F5-AD6850D2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37890-9BB5-420A-A84D-C0760F05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11E-167E-4572-9EF0-7C0592D4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09B-B9EE-44EC-87E4-248A58F5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4C5-CDD5-49F5-8637-F719AF92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530-CE15-44BF-937F-BF90AF1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BC0-C94A-4A27-954A-1455735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A88E-D2AA-4C26-8EEA-697BFE97B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DE68-DBB2-48C6-A662-2E3A3E07E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C14-1D82-4601-A0F6-35E4B799C5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B56C-5D3B-4400-8741-85D5DE97AB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627280" y="0"/>
            <a:ext cx="417672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janvier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février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mars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avril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mai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juin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juillet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ao</a:t>
            </a: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ût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  <a:ea typeface="Arial"/>
              </a:rPr>
              <a:t>septembre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octobre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  <a:ea typeface="Arial"/>
              </a:rPr>
              <a:t>novembre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décembr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21:17Z</dcterms:modified>
  <cp:revision>35</cp:revision>
  <dc:subject/>
  <dc:title>Slide 1</dc:title>
</cp:coreProperties>
</file>