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FBD5-2A43-410F-80FA-C5FF75490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175D-E266-445D-8CD0-3947A2880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FA02-8FDB-4D0C-9A99-98F308940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0A5A-F0DE-4597-BA7C-0AB4FC265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C792F-6662-4FAB-ABAB-560F76FA9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229FF-CE12-4E82-A523-A3333E7C4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C56E2-FBB7-419D-8037-074A9D7C2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36A2C-6B57-439F-9FAA-C5F62E3C8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C65D5-EE9F-462A-9CC7-F2038BFC2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60702-3C82-4EBD-827F-DDEE35AC0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3D55B-FEAA-486F-B5B1-18286A1CF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9C99-8C05-4FB1-93BB-4BE3C9899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18110-C121-47D0-A956-4E375A8C2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CE80E-A843-4139-8DD7-A94366965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9EB72-D29B-4711-BB1A-C27493897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231B8-4395-4980-A7E5-974F82C57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DE592-84A4-431A-9042-03315981E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5653BF-B94B-402C-9EAC-0A46120DC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D00D76-8A72-4FDE-AF30-20081820C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BC2EBF-085F-4D54-8A3A-040EDD744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D5F348-20C6-4660-8C63-26CA8512B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F8D45F-6199-44D3-968C-745A40E52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359B-8781-4D20-8E2B-733FAB3CF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51D1E6-6591-4FF8-AF67-053E7CAD6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024319-FC46-4AC7-8DBA-43504A59F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491554-A14A-4712-B7EC-314EE8F5F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FB8F3F-E8C7-47F6-9D90-A8B6B764C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41D33D-76FC-44CB-935F-E89841C46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6CB38D-6D41-4AAD-9884-51DD4206B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8D990C-857E-41F4-A507-B321A496D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A37963-D864-4BF9-93C8-A6AEC26D3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A68D2A-3156-4FAF-A806-0CB899245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9A19F9-98E2-44FC-AF1C-61CE5621F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D7A5-AC0C-42F0-A148-BC8D4D239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F6D3A4-00E9-433B-B2F9-2DE441BBE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A7E79F-042F-445A-B46C-A9CE7DDD6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E96619-74FD-4D0D-BCB0-71C429760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AE2177-5F5D-40CB-A1A8-0BC473ACE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478ED5-1DDA-4CF0-8471-17C7DF256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E41806-5844-4703-A432-FA78FACFE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9B8114-11AF-4D63-BB32-9F9F848C7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33ADB3-D7DC-4992-BDF8-9FD416073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C97623-BB87-406A-891F-9B3001BE5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C45B-E72C-4CA9-A8FD-7ADE98E8E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D58D-C610-4224-8D2E-4C60E9377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E9CF-CBEE-4534-B67F-BF86B5712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9C09-930A-479B-B4BE-D1DF9BD49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3BC8-02D4-43D6-8E32-FB03451EC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FF869-E83C-439C-A840-7A1679F699D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C9D92-7956-4A37-8F9B-2A9C39BC671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D2D35-D032-4DC4-AC45-84A049C9BA3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A05A1-269A-4D54-B8CC-B7D3A99724B1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2627280" y="0"/>
            <a:ext cx="4176720" cy="68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700" spc="-1" strike="noStrike">
                <a:solidFill>
                  <a:srgbClr val="ffffff"/>
                </a:solidFill>
                <a:latin typeface="Comic Sans MS"/>
              </a:rPr>
              <a:t>janvier</a:t>
            </a:r>
            <a:br>
              <a:rPr sz="3700"/>
            </a:br>
            <a:r>
              <a:rPr b="1" lang="en-GB" sz="3700" spc="-1" strike="noStrike">
                <a:solidFill>
                  <a:srgbClr val="ffff00"/>
                </a:solidFill>
                <a:latin typeface="Comic Sans MS"/>
              </a:rPr>
              <a:t>février</a:t>
            </a:r>
            <a:br>
              <a:rPr sz="3700"/>
            </a:br>
            <a:r>
              <a:rPr b="1" lang="en-GB" sz="3700" spc="-1" strike="noStrike">
                <a:solidFill>
                  <a:srgbClr val="ffffff"/>
                </a:solidFill>
                <a:latin typeface="Comic Sans MS"/>
              </a:rPr>
              <a:t>mars</a:t>
            </a:r>
            <a:br>
              <a:rPr sz="3700"/>
            </a:br>
            <a:r>
              <a:rPr b="1" lang="en-GB" sz="3700" spc="-1" strike="noStrike">
                <a:solidFill>
                  <a:srgbClr val="ffff00"/>
                </a:solidFill>
                <a:latin typeface="Comic Sans MS"/>
              </a:rPr>
              <a:t>avril</a:t>
            </a:r>
            <a:br>
              <a:rPr sz="3700"/>
            </a:br>
            <a:r>
              <a:rPr b="1" lang="en-GB" sz="3700" spc="-1" strike="noStrike">
                <a:solidFill>
                  <a:srgbClr val="ffffff"/>
                </a:solidFill>
                <a:latin typeface="Comic Sans MS"/>
              </a:rPr>
              <a:t>mai</a:t>
            </a:r>
            <a:br>
              <a:rPr sz="3700"/>
            </a:br>
            <a:r>
              <a:rPr b="1" lang="en-GB" sz="3700" spc="-1" strike="noStrike">
                <a:solidFill>
                  <a:srgbClr val="ffff00"/>
                </a:solidFill>
                <a:latin typeface="Comic Sans MS"/>
              </a:rPr>
              <a:t>juin</a:t>
            </a:r>
            <a:br>
              <a:rPr sz="3700"/>
            </a:br>
            <a:r>
              <a:rPr b="1" lang="en-GB" sz="3700" spc="-1" strike="noStrike">
                <a:solidFill>
                  <a:srgbClr val="ffffff"/>
                </a:solidFill>
                <a:latin typeface="Comic Sans MS"/>
              </a:rPr>
              <a:t>juillet</a:t>
            </a:r>
            <a:br>
              <a:rPr sz="3700"/>
            </a:br>
            <a:r>
              <a:rPr b="1" lang="en-GB" sz="3700" spc="-1" strike="noStrike">
                <a:solidFill>
                  <a:srgbClr val="ffff00"/>
                </a:solidFill>
                <a:latin typeface="Comic Sans MS"/>
              </a:rPr>
              <a:t>ao</a:t>
            </a:r>
            <a:r>
              <a:rPr b="1" lang="en-GB" sz="3700" spc="-1" strike="noStrike">
                <a:solidFill>
                  <a:srgbClr val="ffff00"/>
                </a:solidFill>
                <a:latin typeface="Comic Sans MS"/>
                <a:ea typeface="Arial"/>
              </a:rPr>
              <a:t>ût</a:t>
            </a:r>
            <a:br>
              <a:rPr sz="3700"/>
            </a:br>
            <a:r>
              <a:rPr b="1" lang="en-GB" sz="3700" spc="-1" strike="noStrike">
                <a:solidFill>
                  <a:srgbClr val="ffffff"/>
                </a:solidFill>
                <a:latin typeface="Comic Sans MS"/>
                <a:ea typeface="Arial"/>
              </a:rPr>
              <a:t>septembre</a:t>
            </a:r>
            <a:br>
              <a:rPr sz="3700"/>
            </a:br>
            <a:r>
              <a:rPr b="1" lang="en-GB" sz="3700" spc="-1" strike="noStrike">
                <a:solidFill>
                  <a:srgbClr val="ffff00"/>
                </a:solidFill>
                <a:latin typeface="Comic Sans MS"/>
                <a:ea typeface="Arial"/>
              </a:rPr>
              <a:t>octobre</a:t>
            </a:r>
            <a:br>
              <a:rPr sz="3700"/>
            </a:br>
            <a:r>
              <a:rPr b="1" lang="en-GB" sz="3700" spc="-1" strike="noStrike">
                <a:solidFill>
                  <a:srgbClr val="ffffff"/>
                </a:solidFill>
                <a:latin typeface="Comic Sans MS"/>
                <a:ea typeface="Arial"/>
              </a:rPr>
              <a:t>novembre</a:t>
            </a:r>
            <a:br>
              <a:rPr sz="3700"/>
            </a:br>
            <a:r>
              <a:rPr b="1" lang="en-GB" sz="3700" spc="-1" strike="noStrike">
                <a:solidFill>
                  <a:srgbClr val="ffff00"/>
                </a:solidFill>
                <a:latin typeface="Comic Sans MS"/>
                <a:ea typeface="Arial"/>
              </a:rPr>
              <a:t>décembre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0T08:57:05Z</dcterms:created>
  <dc:creator>Clare</dc:creator>
  <dc:description/>
  <dc:language>en-US</dc:language>
  <cp:lastModifiedBy>Clare</cp:lastModifiedBy>
  <dcterms:modified xsi:type="dcterms:W3CDTF">2013-03-27T12:21:17Z</dcterms:modified>
  <cp:revision>35</cp:revision>
  <dc:subject/>
  <dc:title>Slide 1</dc:title>
</cp:coreProperties>
</file>