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35A-E254-4EC8-BAE7-15BB1112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3AD-63D6-4693-8181-0FA02A63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4EC-64F9-4061-9688-A3ECE676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4F6-B2D2-4975-A53F-BF03B098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8A6C-FF45-4032-B9AD-E828792F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6F3A-C294-42F9-943F-D0AA5AD5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D7EE-3BD2-44CB-9804-D72C1F20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AE5F-E3EB-4B5D-941D-F3536B6B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39FC-E55B-409B-AC28-86BEC178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74DE-F983-498C-8DC5-A946D5FC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636D-B7D9-49B9-8DA1-4FAD5016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413-0E17-4893-9557-EFC554C2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5020-03A2-4C07-A02E-4E3C385F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B086-D0B0-491F-B06E-1E71EF09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AFAA-3803-4111-A17C-01258B9D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8AC0-9309-4F14-AC16-11F9FA01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20B9-EA9C-4353-BFDF-B831B091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84FF-79A4-4734-8B6A-1EC935CA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B5E2-2A50-4E9C-8FD0-8575F468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9B4F-E6A9-418C-A030-D16B1517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97E3-6BA6-4E1A-BD56-90B7318F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315C-BF44-40CC-90E6-BE86FFA3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6A3-223B-44E6-A579-DE58BD1B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C7FE-6F07-427F-B165-9B66D51A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BB2E-19D6-46C9-BDED-9F80EFE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9455-96E2-4211-A5B3-7D1183B2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541B-8DB7-4FC5-B81E-D2229F3C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9456-4012-4367-997E-0845CB21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F083-B1C4-4C38-BDC6-9CDCACA0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942D-EE22-4C04-A6FE-7AF8D422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BA26-2A64-4203-89D9-1A15BB5C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D392-E7C9-4C28-B202-2F5DDF25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D49A3-1F2A-40FF-ADB4-CDBDB427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304-7EA6-41A8-8D7D-70D174B8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9432-F563-45A5-9595-ED2F9CBB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5442-954D-43B8-A6F4-F7AFE252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8889-369A-4160-B003-4F3784E6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EC64D-4CD8-45A4-B01D-BE847CD0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59A1-103E-4047-994A-FC879EAA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32644-2457-49EE-989C-1A3D0420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98DC3-0859-49FD-9C7C-ED8F1800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52E6-0E35-411C-9B73-387567DB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3FBD-7124-4447-9A90-41971B16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90B-41DD-4612-9923-7174A699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5A0-6935-4100-A691-F8E10FE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830-E120-424C-9C74-FEA27EF4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5F9-030C-4DCC-8E1C-6C63BB7D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15F-85DA-49B4-893F-1FC1743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7AD4-314D-4125-B1E8-D9CF77DFA7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55BC-53A9-4902-A847-DE3DF2852D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3179-B188-4076-8DD9-5750807558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7F13-B1EF-491E-ABE7-94B8135C6D6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311040" y="39672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abeille est grand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311040" y="146376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abeill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’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est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a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grand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32-Point Star 5"/>
          <p:cNvSpPr/>
          <p:nvPr/>
        </p:nvSpPr>
        <p:spPr>
          <a:xfrm rot="871800">
            <a:off x="6189480" y="189000"/>
            <a:ext cx="2879640" cy="1439640"/>
          </a:xfrm>
          <a:custGeom>
            <a:avLst/>
            <a:gdLst>
              <a:gd name="textAreaLeft" fmla="*/ 657360 w 2879640"/>
              <a:gd name="textAreaRight" fmla="*/ 2222280 w 2879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b0b1f"/>
                </a:solidFill>
                <a:latin typeface="Comic Sans MS"/>
              </a:rPr>
              <a:t>ne…pa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311040" y="253044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girafe est féroc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311040" y="359892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giraf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’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est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a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féroc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311040" y="466560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tigre est doux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311040" y="573264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tigr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’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est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a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doux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2:37Z</dcterms:modified>
  <cp:revision>123</cp:revision>
  <dc:subject/>
  <dc:title>Slide 1</dc:title>
</cp:coreProperties>
</file>