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80F-7D07-4B9C-9D03-CD52A734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068-2779-487D-9933-B5909A7C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374-98A7-4600-B9A0-186194E1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156-AEE9-4589-9155-0A67B8DC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AEAA-6A0A-4DF9-ADE6-2F2EFB53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4034-6B7A-4799-A609-8AF353D1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D4F5-7CBB-4D05-9CAF-BC0AD08F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9074-DC17-4A2E-B78A-C508F5E0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64B7-4FCC-4AF9-8AFC-5F729A6C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6CCD-1DBA-40D8-B043-186A0349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4D4F-201D-4683-ABDB-FAFCAAA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814-A26C-457E-8490-F387D074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AD87-3D85-4CF9-A20D-7F503B51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7E8E-CB7B-4A2F-8274-EB2AAE05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670F-AB52-4C45-B39F-466C8136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551D-F301-46A1-93A4-5DC61A13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289-5E2C-44FB-AB4F-2475E8F0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B7A4-7BC7-4767-ADF3-F21B8494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288A-4E34-412A-8BE6-93280772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DE4C-6CE9-477E-9BF1-87D26CE8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DF7F-E680-4371-91DB-5D2A7C08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419F1-7CB5-4FC1-8BD0-71A28F24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E23-C8A6-4CD5-AC4A-87AFA428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8C7D-D0AE-469D-BC64-51FBAA5A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9D5A-FDAF-4225-A756-DCDBD1A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ACCC-A52A-44F3-97D0-3EA6B5F5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D5A9-EEF9-4F42-8CE3-DA10B4F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DFB4-E7AC-4087-BAC7-6C014A1A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4D82-1DD4-42A4-AACD-E4230779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235C-33A3-4BE9-A15B-A4A0CA99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F866B-1890-4B1F-8FB2-C6488A70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6E71-11AB-4114-A961-F073D6AA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AB574-CFE9-4941-AE47-1EDF5600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CC4-5987-4053-9888-FF68C05A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81C3-B528-4DEB-ABCC-29A8BB7B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04096-89D9-4CF8-9AE9-76FB75A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23B8-4BD3-4A87-AFB2-88E3F974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B4F8-CB2D-4438-806D-30F27A70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D985A-8D79-4D5F-9680-14048AC6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8E1F8-88FF-4B5D-930A-E9E0E975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7181-8BC3-4F62-A44A-74F1649D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AA6AF-859E-43A6-B30B-48C48BDE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FD77-0DC6-4ACD-B16A-1BA28069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CEE-B13F-439C-AF2B-9E69C82B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DFA-9D23-48DA-BD58-BB315B9B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20F-5DEB-4C0F-AE0E-8D79370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41A-FB03-46CD-B2D8-C4DEDC7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BF6-E7A4-4F3B-BECC-A19326DF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FBAB-0271-4408-B82F-F8E57D41D4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C6CE-BDDB-485F-BD39-257749FED6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2FF2-C2EA-4E79-BD1A-580B7E8BC2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9336-8257-499A-8E87-FBFA22FCB03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311040" y="39672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abeille est grand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311040" y="146376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abeill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’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est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pa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grand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32-Point Star 5"/>
          <p:cNvSpPr/>
          <p:nvPr/>
        </p:nvSpPr>
        <p:spPr>
          <a:xfrm rot="871800">
            <a:off x="6189480" y="189000"/>
            <a:ext cx="2879640" cy="1439640"/>
          </a:xfrm>
          <a:custGeom>
            <a:avLst/>
            <a:gdLst>
              <a:gd name="textAreaLeft" fmla="*/ 657360 w 2879640"/>
              <a:gd name="textAreaRight" fmla="*/ 2222280 w 2879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b0b1f"/>
                </a:solidFill>
                <a:latin typeface="Comic Sans MS"/>
              </a:rPr>
              <a:t>ne…pa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311040" y="253044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girafe est féroc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311040" y="359892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giraf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’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est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pa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féroc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311040" y="466560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tigre est doux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311040" y="573264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tigr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’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est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pa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doux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42:37Z</dcterms:modified>
  <cp:revision>123</cp:revision>
  <dc:subject/>
  <dc:title>Slide 1</dc:title>
</cp:coreProperties>
</file>